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0EB-64D1-418A-9F3A-6384F25D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509-FBC3-47FA-AEF1-4141BBF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00E-1C4D-4921-AC12-C7B7F08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93D-4235-42E9-8B25-C14245A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2535-006C-4A7A-B02C-48585595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B2D6-0F9B-4488-BBE3-6C9CC0C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1828-7063-495F-BE93-803CDD34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94C-97F1-4E28-A445-F4222FCD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7E78-1158-4BB1-B8B2-6557454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CDD-DF03-4DFB-89D4-9F391388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A8BB-26ED-4158-A565-AB5DA052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09E-96A7-434D-A6DB-B74DFE22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A3C9-69B2-499A-9449-392F895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30E5-CDE9-4804-B50F-06C3BB9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B452-6408-4D3E-B39C-646842FC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EF4-C9C3-4EF0-BAD6-6FAE89BD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176-0A4C-44FA-9834-D399E314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CCC-37C9-4202-BC51-F3ABFCF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24B-174A-41C0-A92E-DC00D9AB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BEE-B11B-431D-B1DD-3761F34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278-72B3-4309-9F01-B62E05B9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EE3-B504-4951-B589-0359307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A70-6653-4BE3-BE22-2F65A57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013-D7E3-4D09-B438-EEF0E08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50F5-0D0E-4395-9CAC-759874180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5F2-CD8A-4ECC-94C0-88CF1E598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Multip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14400" y="4267080"/>
                <a:ext cx="914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92972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27" y="6945"/>
                </a:moveTo>
                <a:lnTo>
                  <a:pt x="22027" y="694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6796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97" y="18876"/>
                </a:moveTo>
                <a:lnTo>
                  <a:pt x="3597" y="1887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1160" y="3643200"/>
            <a:ext cx="7164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5779" y="10344"/>
                </a:moveTo>
                <a:lnTo>
                  <a:pt x="5779" y="10344"/>
                </a:lnTo>
              </a:path>
              <a:path w="200" h="225">
                <a:moveTo>
                  <a:pt x="5829" y="10195"/>
                </a:moveTo>
                <a:cubicBezTo>
                  <a:pt x="5912" y="10153"/>
                  <a:pt x="5928" y="10145"/>
                  <a:pt x="597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9880" y="3152880"/>
            <a:ext cx="2401920" cy="830160"/>
          </a:xfrm>
          <a:custGeom>
            <a:avLst/>
            <a:gdLst/>
            <a:ahLst/>
            <a:rect l="l" t="t" r="r" b="b"/>
            <a:pathLst>
              <a:path w="6673" h="2308">
                <a:moveTo>
                  <a:pt x="2332" y="9847"/>
                </a:moveTo>
                <a:cubicBezTo>
                  <a:pt x="2695" y="9757"/>
                  <a:pt x="3059" y="9707"/>
                  <a:pt x="3423" y="9624"/>
                </a:cubicBezTo>
                <a:cubicBezTo>
                  <a:pt x="3518" y="9602"/>
                  <a:pt x="3625" y="9574"/>
                  <a:pt x="3721" y="9550"/>
                </a:cubicBezTo>
              </a:path>
              <a:path w="6673" h="2308">
                <a:moveTo>
                  <a:pt x="2654" y="8855"/>
                </a:moveTo>
                <a:cubicBezTo>
                  <a:pt x="2767" y="8803"/>
                  <a:pt x="2875" y="8774"/>
                  <a:pt x="3001" y="8756"/>
                </a:cubicBezTo>
                <a:cubicBezTo>
                  <a:pt x="2952" y="8881"/>
                  <a:pt x="2949" y="8894"/>
                  <a:pt x="2828" y="8954"/>
                </a:cubicBezTo>
                <a:cubicBezTo>
                  <a:pt x="2884" y="8954"/>
                  <a:pt x="3023" y="8945"/>
                  <a:pt x="2927" y="9054"/>
                </a:cubicBezTo>
                <a:cubicBezTo>
                  <a:pt x="2839" y="9154"/>
                  <a:pt x="2762" y="9150"/>
                  <a:pt x="2654" y="9128"/>
                </a:cubicBezTo>
              </a:path>
              <a:path w="6673" h="2308">
                <a:moveTo>
                  <a:pt x="4490" y="10269"/>
                </a:moveTo>
                <a:cubicBezTo>
                  <a:pt x="4514" y="10251"/>
                  <a:pt x="4717" y="10258"/>
                  <a:pt x="4837" y="10269"/>
                </a:cubicBezTo>
                <a:cubicBezTo>
                  <a:pt x="5226" y="10306"/>
                  <a:pt x="5615" y="10266"/>
                  <a:pt x="6003" y="10294"/>
                </a:cubicBezTo>
                <a:cubicBezTo>
                  <a:pt x="6094" y="10312"/>
                  <a:pt x="6101" y="10321"/>
                  <a:pt x="6152" y="10319"/>
                </a:cubicBezTo>
              </a:path>
              <a:path w="6673" h="2308">
                <a:moveTo>
                  <a:pt x="4887" y="10666"/>
                </a:moveTo>
                <a:cubicBezTo>
                  <a:pt x="4815" y="10673"/>
                  <a:pt x="4746" y="10678"/>
                  <a:pt x="4713" y="10716"/>
                </a:cubicBezTo>
                <a:cubicBezTo>
                  <a:pt x="4673" y="10762"/>
                  <a:pt x="4651" y="10764"/>
                  <a:pt x="4638" y="10815"/>
                </a:cubicBezTo>
                <a:cubicBezTo>
                  <a:pt x="4690" y="10841"/>
                  <a:pt x="4818" y="10830"/>
                  <a:pt x="4862" y="10864"/>
                </a:cubicBezTo>
                <a:cubicBezTo>
                  <a:pt x="4992" y="10966"/>
                  <a:pt x="4787" y="11054"/>
                  <a:pt x="4713" y="11063"/>
                </a:cubicBezTo>
                <a:cubicBezTo>
                  <a:pt x="4653" y="11071"/>
                  <a:pt x="4578" y="11063"/>
                  <a:pt x="4514" y="11063"/>
                </a:cubicBezTo>
              </a:path>
              <a:path w="6673" h="2308">
                <a:moveTo>
                  <a:pt x="6350" y="9773"/>
                </a:moveTo>
                <a:cubicBezTo>
                  <a:pt x="6461" y="9767"/>
                  <a:pt x="6544" y="9757"/>
                  <a:pt x="6648" y="9773"/>
                </a:cubicBezTo>
              </a:path>
              <a:path w="6673" h="2308">
                <a:moveTo>
                  <a:pt x="6400" y="9922"/>
                </a:moveTo>
                <a:cubicBezTo>
                  <a:pt x="6493" y="9928"/>
                  <a:pt x="6580" y="9947"/>
                  <a:pt x="6672" y="9947"/>
                </a:cubicBezTo>
              </a:path>
              <a:path w="6673" h="2308">
                <a:moveTo>
                  <a:pt x="7714" y="9203"/>
                </a:moveTo>
                <a:cubicBezTo>
                  <a:pt x="7691" y="9157"/>
                  <a:pt x="7631" y="9343"/>
                  <a:pt x="7615" y="9376"/>
                </a:cubicBezTo>
                <a:cubicBezTo>
                  <a:pt x="7555" y="9497"/>
                  <a:pt x="7530" y="9516"/>
                  <a:pt x="7541" y="9599"/>
                </a:cubicBezTo>
                <a:cubicBezTo>
                  <a:pt x="7677" y="9637"/>
                  <a:pt x="7831" y="9644"/>
                  <a:pt x="7938" y="9525"/>
                </a:cubicBezTo>
                <a:cubicBezTo>
                  <a:pt x="7976" y="9448"/>
                  <a:pt x="8010" y="9433"/>
                  <a:pt x="7962" y="9401"/>
                </a:cubicBezTo>
                <a:cubicBezTo>
                  <a:pt x="7893" y="9395"/>
                  <a:pt x="7677" y="9440"/>
                  <a:pt x="7714" y="9575"/>
                </a:cubicBezTo>
                <a:cubicBezTo>
                  <a:pt x="7731" y="9583"/>
                  <a:pt x="7747" y="9591"/>
                  <a:pt x="7764" y="9599"/>
                </a:cubicBezTo>
              </a:path>
              <a:path w="6673" h="2308">
                <a:moveTo>
                  <a:pt x="8062" y="9178"/>
                </a:moveTo>
                <a:cubicBezTo>
                  <a:pt x="8076" y="9118"/>
                  <a:pt x="8171" y="9076"/>
                  <a:pt x="8235" y="9079"/>
                </a:cubicBezTo>
                <a:cubicBezTo>
                  <a:pt x="8243" y="9087"/>
                  <a:pt x="8252" y="9095"/>
                  <a:pt x="8260" y="9103"/>
                </a:cubicBezTo>
                <a:cubicBezTo>
                  <a:pt x="8260" y="9227"/>
                  <a:pt x="8247" y="9219"/>
                  <a:pt x="8136" y="9302"/>
                </a:cubicBezTo>
                <a:cubicBezTo>
                  <a:pt x="8061" y="9264"/>
                  <a:pt x="8278" y="9276"/>
                  <a:pt x="8285" y="9277"/>
                </a:cubicBezTo>
                <a:cubicBezTo>
                  <a:pt x="8464" y="9304"/>
                  <a:pt x="8398" y="9457"/>
                  <a:pt x="8260" y="9475"/>
                </a:cubicBezTo>
                <a:cubicBezTo>
                  <a:pt x="8161" y="9475"/>
                  <a:pt x="8144" y="9475"/>
                  <a:pt x="8086" y="9475"/>
                </a:cubicBezTo>
              </a:path>
              <a:path w="6673" h="2308">
                <a:moveTo>
                  <a:pt x="7268" y="9823"/>
                </a:moveTo>
                <a:cubicBezTo>
                  <a:pt x="7589" y="9789"/>
                  <a:pt x="7915" y="9780"/>
                  <a:pt x="8235" y="9748"/>
                </a:cubicBezTo>
                <a:cubicBezTo>
                  <a:pt x="8310" y="9740"/>
                  <a:pt x="8344" y="9723"/>
                  <a:pt x="8409" y="9723"/>
                </a:cubicBezTo>
              </a:path>
              <a:path w="6673" h="2308">
                <a:moveTo>
                  <a:pt x="8012" y="9947"/>
                </a:moveTo>
                <a:cubicBezTo>
                  <a:pt x="8020" y="9947"/>
                  <a:pt x="8029" y="9947"/>
                  <a:pt x="8037" y="9947"/>
                </a:cubicBezTo>
                <a:cubicBezTo>
                  <a:pt x="8108" y="9911"/>
                  <a:pt x="7902" y="9945"/>
                  <a:pt x="7863" y="9947"/>
                </a:cubicBezTo>
                <a:cubicBezTo>
                  <a:pt x="7799" y="9951"/>
                  <a:pt x="7813" y="10023"/>
                  <a:pt x="7813" y="10071"/>
                </a:cubicBezTo>
                <a:cubicBezTo>
                  <a:pt x="7813" y="10079"/>
                  <a:pt x="7813" y="10088"/>
                  <a:pt x="7813" y="10096"/>
                </a:cubicBezTo>
                <a:cubicBezTo>
                  <a:pt x="7918" y="10096"/>
                  <a:pt x="7999" y="10070"/>
                  <a:pt x="8062" y="10145"/>
                </a:cubicBezTo>
                <a:cubicBezTo>
                  <a:pt x="8011" y="10297"/>
                  <a:pt x="7917" y="10287"/>
                  <a:pt x="7764" y="10294"/>
                </a:cubicBezTo>
                <a:cubicBezTo>
                  <a:pt x="7698" y="10297"/>
                  <a:pt x="7801" y="10294"/>
                  <a:pt x="7813" y="10294"/>
                </a:cubicBezTo>
              </a:path>
              <a:path w="6673" h="2308">
                <a:moveTo>
                  <a:pt x="8806" y="9674"/>
                </a:moveTo>
                <a:cubicBezTo>
                  <a:pt x="8738" y="9674"/>
                  <a:pt x="8925" y="9650"/>
                  <a:pt x="8930" y="9649"/>
                </a:cubicBezTo>
                <a:cubicBezTo>
                  <a:pt x="8971" y="9649"/>
                  <a:pt x="8979" y="9649"/>
                  <a:pt x="9004" y="9649"/>
                </a:cubicBezTo>
              </a:path>
              <a:path w="6673" h="2308">
                <a:moveTo>
                  <a:pt x="8756" y="9823"/>
                </a:moveTo>
                <a:cubicBezTo>
                  <a:pt x="8822" y="9823"/>
                  <a:pt x="8888" y="9823"/>
                  <a:pt x="8954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6160" y="2081160"/>
            <a:ext cx="1268640" cy="901800"/>
          </a:xfrm>
          <a:custGeom>
            <a:avLst/>
            <a:gdLst/>
            <a:ahLst/>
            <a:rect l="l" t="t" r="r" b="b"/>
            <a:pathLst>
              <a:path w="3523" h="2507">
                <a:moveTo>
                  <a:pt x="2927" y="6573"/>
                </a:moveTo>
                <a:cubicBezTo>
                  <a:pt x="2990" y="6531"/>
                  <a:pt x="3082" y="6478"/>
                  <a:pt x="3150" y="6449"/>
                </a:cubicBezTo>
                <a:cubicBezTo>
                  <a:pt x="3175" y="6449"/>
                  <a:pt x="3183" y="6449"/>
                  <a:pt x="3175" y="6424"/>
                </a:cubicBezTo>
              </a:path>
              <a:path w="3523" h="2507">
                <a:moveTo>
                  <a:pt x="3125" y="6077"/>
                </a:moveTo>
                <a:cubicBezTo>
                  <a:pt x="3132" y="6111"/>
                  <a:pt x="3145" y="6191"/>
                  <a:pt x="3200" y="6176"/>
                </a:cubicBezTo>
                <a:cubicBezTo>
                  <a:pt x="3240" y="6156"/>
                  <a:pt x="3247" y="6148"/>
                  <a:pt x="3274" y="6152"/>
                </a:cubicBezTo>
                <a:cubicBezTo>
                  <a:pt x="3287" y="6112"/>
                  <a:pt x="3286" y="6142"/>
                  <a:pt x="3299" y="6102"/>
                </a:cubicBezTo>
              </a:path>
              <a:path w="3523" h="2507">
                <a:moveTo>
                  <a:pt x="3175" y="5978"/>
                </a:moveTo>
                <a:cubicBezTo>
                  <a:pt x="3220" y="6080"/>
                  <a:pt x="3277" y="6176"/>
                  <a:pt x="3324" y="6276"/>
                </a:cubicBezTo>
                <a:cubicBezTo>
                  <a:pt x="3343" y="6333"/>
                  <a:pt x="3334" y="6358"/>
                  <a:pt x="3373" y="6350"/>
                </a:cubicBezTo>
              </a:path>
              <a:path w="3523" h="2507">
                <a:moveTo>
                  <a:pt x="4514" y="7565"/>
                </a:moveTo>
                <a:cubicBezTo>
                  <a:pt x="4580" y="7565"/>
                  <a:pt x="4627" y="7553"/>
                  <a:pt x="4688" y="7541"/>
                </a:cubicBezTo>
              </a:path>
              <a:path w="3523" h="2507">
                <a:moveTo>
                  <a:pt x="4738" y="7441"/>
                </a:moveTo>
                <a:cubicBezTo>
                  <a:pt x="4798" y="7472"/>
                  <a:pt x="4779" y="7491"/>
                  <a:pt x="4862" y="7491"/>
                </a:cubicBezTo>
                <a:cubicBezTo>
                  <a:pt x="4908" y="7491"/>
                  <a:pt x="4928" y="7473"/>
                  <a:pt x="4936" y="7417"/>
                </a:cubicBezTo>
              </a:path>
              <a:path w="3523" h="2507">
                <a:moveTo>
                  <a:pt x="2158" y="6970"/>
                </a:moveTo>
                <a:cubicBezTo>
                  <a:pt x="2158" y="6995"/>
                  <a:pt x="2158" y="7003"/>
                  <a:pt x="2158" y="7020"/>
                </a:cubicBezTo>
              </a:path>
              <a:path w="3523" h="2507">
                <a:moveTo>
                  <a:pt x="2257" y="6995"/>
                </a:moveTo>
                <a:cubicBezTo>
                  <a:pt x="2398" y="6875"/>
                  <a:pt x="2553" y="6758"/>
                  <a:pt x="2704" y="6648"/>
                </a:cubicBezTo>
                <a:cubicBezTo>
                  <a:pt x="2849" y="6542"/>
                  <a:pt x="2990" y="6443"/>
                  <a:pt x="3125" y="6325"/>
                </a:cubicBezTo>
                <a:cubicBezTo>
                  <a:pt x="3183" y="6274"/>
                  <a:pt x="3255" y="6196"/>
                  <a:pt x="3299" y="6152"/>
                </a:cubicBezTo>
                <a:cubicBezTo>
                  <a:pt x="3324" y="6152"/>
                  <a:pt x="3332" y="6152"/>
                  <a:pt x="3324" y="6127"/>
                </a:cubicBezTo>
              </a:path>
              <a:path w="3523" h="2507">
                <a:moveTo>
                  <a:pt x="2580" y="5779"/>
                </a:moveTo>
                <a:cubicBezTo>
                  <a:pt x="2528" y="5899"/>
                  <a:pt x="2565" y="6094"/>
                  <a:pt x="2604" y="6226"/>
                </a:cubicBezTo>
                <a:cubicBezTo>
                  <a:pt x="2615" y="6263"/>
                  <a:pt x="2629" y="6256"/>
                  <a:pt x="2629" y="6300"/>
                </a:cubicBezTo>
              </a:path>
              <a:path w="3523" h="2507">
                <a:moveTo>
                  <a:pt x="3870" y="7466"/>
                </a:moveTo>
                <a:cubicBezTo>
                  <a:pt x="4206" y="7428"/>
                  <a:pt x="4555" y="7428"/>
                  <a:pt x="4887" y="7367"/>
                </a:cubicBezTo>
                <a:cubicBezTo>
                  <a:pt x="5015" y="7343"/>
                  <a:pt x="5126" y="7293"/>
                  <a:pt x="5259" y="7293"/>
                </a:cubicBezTo>
                <a:cubicBezTo>
                  <a:pt x="5267" y="7293"/>
                  <a:pt x="5275" y="7293"/>
                  <a:pt x="5283" y="7293"/>
                </a:cubicBezTo>
              </a:path>
              <a:path w="3523" h="2507">
                <a:moveTo>
                  <a:pt x="4093" y="7863"/>
                </a:moveTo>
                <a:cubicBezTo>
                  <a:pt x="4109" y="7815"/>
                  <a:pt x="4233" y="7796"/>
                  <a:pt x="4291" y="7813"/>
                </a:cubicBezTo>
                <a:cubicBezTo>
                  <a:pt x="4547" y="7890"/>
                  <a:pt x="4296" y="8170"/>
                  <a:pt x="4192" y="8235"/>
                </a:cubicBezTo>
                <a:cubicBezTo>
                  <a:pt x="4088" y="8300"/>
                  <a:pt x="4042" y="8293"/>
                  <a:pt x="3944" y="8260"/>
                </a:cubicBezTo>
                <a:cubicBezTo>
                  <a:pt x="4085" y="8120"/>
                  <a:pt x="4192" y="8119"/>
                  <a:pt x="4390" y="8136"/>
                </a:cubicBezTo>
                <a:cubicBezTo>
                  <a:pt x="4398" y="8136"/>
                  <a:pt x="4407" y="8136"/>
                  <a:pt x="4415" y="8136"/>
                </a:cubicBezTo>
              </a:path>
              <a:path w="3523" h="2507">
                <a:moveTo>
                  <a:pt x="5432" y="6970"/>
                </a:moveTo>
                <a:cubicBezTo>
                  <a:pt x="5500" y="6956"/>
                  <a:pt x="5559" y="6926"/>
                  <a:pt x="5631" y="6921"/>
                </a:cubicBezTo>
                <a:cubicBezTo>
                  <a:pt x="5639" y="6921"/>
                  <a:pt x="5647" y="6921"/>
                  <a:pt x="5655" y="6921"/>
                </a:cubicBezTo>
              </a:path>
              <a:path w="3523" h="2507">
                <a:moveTo>
                  <a:pt x="5457" y="7119"/>
                </a:moveTo>
                <a:cubicBezTo>
                  <a:pt x="5528" y="7110"/>
                  <a:pt x="5595" y="7076"/>
                  <a:pt x="5655" y="7069"/>
                </a:cubicBezTo>
                <a:cubicBezTo>
                  <a:pt x="5663" y="7069"/>
                  <a:pt x="5672" y="7069"/>
                  <a:pt x="5680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0" y="3367080"/>
            <a:ext cx="1260360" cy="411120"/>
          </a:xfrm>
          <a:custGeom>
            <a:avLst/>
            <a:gdLst/>
            <a:ahLst/>
            <a:rect l="l" t="t" r="r" b="b"/>
            <a:pathLst>
              <a:path w="3498" h="1142">
                <a:moveTo>
                  <a:pt x="2431" y="10071"/>
                </a:moveTo>
                <a:cubicBezTo>
                  <a:pt x="2444" y="10032"/>
                  <a:pt x="2609" y="10024"/>
                  <a:pt x="2654" y="10021"/>
                </a:cubicBezTo>
                <a:cubicBezTo>
                  <a:pt x="2897" y="10006"/>
                  <a:pt x="3187" y="9929"/>
                  <a:pt x="3423" y="9947"/>
                </a:cubicBezTo>
                <a:cubicBezTo>
                  <a:pt x="3461" y="9950"/>
                  <a:pt x="3481" y="9971"/>
                  <a:pt x="3522" y="9971"/>
                </a:cubicBezTo>
              </a:path>
              <a:path w="3498" h="1142">
                <a:moveTo>
                  <a:pt x="2853" y="10170"/>
                </a:moveTo>
                <a:cubicBezTo>
                  <a:pt x="2892" y="10157"/>
                  <a:pt x="2863" y="10158"/>
                  <a:pt x="2902" y="10145"/>
                </a:cubicBezTo>
                <a:cubicBezTo>
                  <a:pt x="2883" y="10242"/>
                  <a:pt x="2845" y="10341"/>
                  <a:pt x="2828" y="10443"/>
                </a:cubicBezTo>
                <a:cubicBezTo>
                  <a:pt x="2828" y="10468"/>
                  <a:pt x="2828" y="10476"/>
                  <a:pt x="2828" y="10492"/>
                </a:cubicBezTo>
              </a:path>
              <a:path w="3498" h="1142">
                <a:moveTo>
                  <a:pt x="3423" y="9575"/>
                </a:moveTo>
                <a:cubicBezTo>
                  <a:pt x="3473" y="9575"/>
                  <a:pt x="3522" y="9575"/>
                  <a:pt x="3572" y="9575"/>
                </a:cubicBezTo>
              </a:path>
              <a:path w="3498" h="1142">
                <a:moveTo>
                  <a:pt x="3597" y="9401"/>
                </a:moveTo>
                <a:cubicBezTo>
                  <a:pt x="3714" y="9386"/>
                  <a:pt x="3827" y="9359"/>
                  <a:pt x="3944" y="9351"/>
                </a:cubicBezTo>
              </a:path>
              <a:path w="3498" h="1142">
                <a:moveTo>
                  <a:pt x="5457" y="10269"/>
                </a:moveTo>
                <a:cubicBezTo>
                  <a:pt x="5507" y="10269"/>
                  <a:pt x="5556" y="10269"/>
                  <a:pt x="5606" y="10269"/>
                </a:cubicBezTo>
              </a:path>
              <a:path w="3498" h="1142">
                <a:moveTo>
                  <a:pt x="5730" y="10195"/>
                </a:moveTo>
                <a:cubicBezTo>
                  <a:pt x="5729" y="10269"/>
                  <a:pt x="5827" y="10280"/>
                  <a:pt x="5904" y="10344"/>
                </a:cubicBezTo>
                <a:cubicBezTo>
                  <a:pt x="5993" y="10418"/>
                  <a:pt x="5779" y="10344"/>
                  <a:pt x="5779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17720" y="4276800"/>
            <a:ext cx="661680" cy="81000"/>
          </a:xfrm>
          <a:custGeom>
            <a:avLst/>
            <a:gdLst/>
            <a:ahLst/>
            <a:rect l="l" t="t" r="r" b="b"/>
            <a:pathLst>
              <a:path w="1836" h="225">
                <a:moveTo>
                  <a:pt x="2828" y="11881"/>
                </a:moveTo>
                <a:cubicBezTo>
                  <a:pt x="2876" y="11881"/>
                  <a:pt x="2853" y="11965"/>
                  <a:pt x="2853" y="12005"/>
                </a:cubicBezTo>
              </a:path>
              <a:path w="1836" h="225">
                <a:moveTo>
                  <a:pt x="2828" y="11956"/>
                </a:moveTo>
                <a:cubicBezTo>
                  <a:pt x="2869" y="11956"/>
                  <a:pt x="2877" y="11956"/>
                  <a:pt x="2902" y="11956"/>
                </a:cubicBezTo>
              </a:path>
              <a:path w="1836" h="225">
                <a:moveTo>
                  <a:pt x="4564" y="11906"/>
                </a:moveTo>
                <a:cubicBezTo>
                  <a:pt x="4564" y="11972"/>
                  <a:pt x="4564" y="12039"/>
                  <a:pt x="4564" y="12105"/>
                </a:cubicBezTo>
              </a:path>
              <a:path w="1836" h="225">
                <a:moveTo>
                  <a:pt x="4440" y="12055"/>
                </a:moveTo>
                <a:cubicBezTo>
                  <a:pt x="4514" y="12048"/>
                  <a:pt x="4578" y="12025"/>
                  <a:pt x="4638" y="12005"/>
                </a:cubicBezTo>
                <a:cubicBezTo>
                  <a:pt x="4646" y="12005"/>
                  <a:pt x="4655" y="12005"/>
                  <a:pt x="466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8240" y="4680000"/>
            <a:ext cx="874800" cy="241200"/>
          </a:xfrm>
          <a:custGeom>
            <a:avLst/>
            <a:gdLst/>
            <a:ahLst/>
            <a:rect l="l" t="t" r="r" b="b"/>
            <a:pathLst>
              <a:path w="2432" h="670">
                <a:moveTo>
                  <a:pt x="2828" y="13022"/>
                </a:moveTo>
                <a:cubicBezTo>
                  <a:pt x="2794" y="13022"/>
                  <a:pt x="2841" y="13039"/>
                  <a:pt x="2853" y="13097"/>
                </a:cubicBezTo>
              </a:path>
              <a:path w="2432" h="670">
                <a:moveTo>
                  <a:pt x="2877" y="12998"/>
                </a:moveTo>
                <a:cubicBezTo>
                  <a:pt x="2839" y="12998"/>
                  <a:pt x="2803" y="13083"/>
                  <a:pt x="2778" y="13122"/>
                </a:cubicBezTo>
              </a:path>
              <a:path w="2432" h="670">
                <a:moveTo>
                  <a:pt x="2208" y="13295"/>
                </a:moveTo>
                <a:cubicBezTo>
                  <a:pt x="2208" y="13410"/>
                  <a:pt x="2201" y="13534"/>
                  <a:pt x="2158" y="13643"/>
                </a:cubicBezTo>
                <a:cubicBezTo>
                  <a:pt x="2150" y="13651"/>
                  <a:pt x="2141" y="13659"/>
                  <a:pt x="2133" y="13667"/>
                </a:cubicBezTo>
              </a:path>
              <a:path w="2432" h="670">
                <a:moveTo>
                  <a:pt x="2555" y="13221"/>
                </a:moveTo>
                <a:cubicBezTo>
                  <a:pt x="2515" y="13229"/>
                  <a:pt x="2470" y="13251"/>
                  <a:pt x="2456" y="13271"/>
                </a:cubicBezTo>
                <a:cubicBezTo>
                  <a:pt x="2424" y="13315"/>
                  <a:pt x="2395" y="13374"/>
                  <a:pt x="2381" y="13419"/>
                </a:cubicBezTo>
                <a:cubicBezTo>
                  <a:pt x="2381" y="13427"/>
                  <a:pt x="2381" y="13436"/>
                  <a:pt x="2381" y="13444"/>
                </a:cubicBezTo>
                <a:cubicBezTo>
                  <a:pt x="2432" y="13465"/>
                  <a:pt x="2493" y="13416"/>
                  <a:pt x="2555" y="13444"/>
                </a:cubicBezTo>
                <a:cubicBezTo>
                  <a:pt x="2659" y="13491"/>
                  <a:pt x="2587" y="13607"/>
                  <a:pt x="2530" y="13643"/>
                </a:cubicBezTo>
                <a:cubicBezTo>
                  <a:pt x="2462" y="13685"/>
                  <a:pt x="2443" y="13655"/>
                  <a:pt x="2381" y="13643"/>
                </a:cubicBezTo>
              </a:path>
              <a:path w="2432" h="670">
                <a:moveTo>
                  <a:pt x="4440" y="12998"/>
                </a:moveTo>
                <a:cubicBezTo>
                  <a:pt x="4466" y="13023"/>
                  <a:pt x="4525" y="13089"/>
                  <a:pt x="4539" y="13097"/>
                </a:cubicBezTo>
                <a:cubicBezTo>
                  <a:pt x="4547" y="13097"/>
                  <a:pt x="4556" y="13097"/>
                  <a:pt x="4564" y="13097"/>
                </a:cubicBezTo>
              </a:path>
              <a:path w="2432" h="670">
                <a:moveTo>
                  <a:pt x="4564" y="12998"/>
                </a:moveTo>
                <a:cubicBezTo>
                  <a:pt x="4532" y="13006"/>
                  <a:pt x="4481" y="13035"/>
                  <a:pt x="4465" y="13072"/>
                </a:cubicBezTo>
                <a:cubicBezTo>
                  <a:pt x="4465" y="13097"/>
                  <a:pt x="4465" y="13105"/>
                  <a:pt x="4440" y="13097"/>
                </a:cubicBezTo>
              </a:path>
              <a:path w="2432" h="670">
                <a:moveTo>
                  <a:pt x="3994" y="13221"/>
                </a:moveTo>
                <a:cubicBezTo>
                  <a:pt x="3967" y="13295"/>
                  <a:pt x="3943" y="13374"/>
                  <a:pt x="3919" y="13444"/>
                </a:cubicBezTo>
                <a:cubicBezTo>
                  <a:pt x="3902" y="13494"/>
                  <a:pt x="3887" y="13490"/>
                  <a:pt x="3894" y="13543"/>
                </a:cubicBezTo>
                <a:cubicBezTo>
                  <a:pt x="3922" y="13598"/>
                  <a:pt x="3930" y="13621"/>
                  <a:pt x="3919" y="13667"/>
                </a:cubicBezTo>
                <a:cubicBezTo>
                  <a:pt x="3993" y="13667"/>
                  <a:pt x="4090" y="13685"/>
                  <a:pt x="4142" y="13618"/>
                </a:cubicBezTo>
                <a:cubicBezTo>
                  <a:pt x="4183" y="13565"/>
                  <a:pt x="4170" y="13540"/>
                  <a:pt x="4142" y="13494"/>
                </a:cubicBezTo>
                <a:cubicBezTo>
                  <a:pt x="4087" y="13508"/>
                  <a:pt x="4020" y="13575"/>
                  <a:pt x="4043" y="13643"/>
                </a:cubicBezTo>
                <a:cubicBezTo>
                  <a:pt x="4051" y="13643"/>
                  <a:pt x="4060" y="13643"/>
                  <a:pt x="4068" y="13643"/>
                </a:cubicBezTo>
              </a:path>
              <a:path w="2432" h="670">
                <a:moveTo>
                  <a:pt x="4242" y="13246"/>
                </a:moveTo>
                <a:cubicBezTo>
                  <a:pt x="4268" y="13233"/>
                  <a:pt x="4450" y="13151"/>
                  <a:pt x="4415" y="13271"/>
                </a:cubicBezTo>
                <a:cubicBezTo>
                  <a:pt x="4406" y="13301"/>
                  <a:pt x="4336" y="13360"/>
                  <a:pt x="4316" y="13370"/>
                </a:cubicBezTo>
                <a:cubicBezTo>
                  <a:pt x="4395" y="13370"/>
                  <a:pt x="4488" y="13372"/>
                  <a:pt x="4440" y="13494"/>
                </a:cubicBezTo>
                <a:cubicBezTo>
                  <a:pt x="4426" y="13529"/>
                  <a:pt x="4306" y="13589"/>
                  <a:pt x="4266" y="13593"/>
                </a:cubicBezTo>
                <a:cubicBezTo>
                  <a:pt x="4258" y="13593"/>
                  <a:pt x="4250" y="13593"/>
                  <a:pt x="4242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82800" y="5106960"/>
            <a:ext cx="527040" cy="554040"/>
          </a:xfrm>
          <a:custGeom>
            <a:avLst/>
            <a:gdLst/>
            <a:ahLst/>
            <a:rect l="l" t="t" r="r" b="b"/>
            <a:pathLst>
              <a:path w="1464" h="1539">
                <a:moveTo>
                  <a:pt x="2853" y="14238"/>
                </a:moveTo>
                <a:cubicBezTo>
                  <a:pt x="2853" y="14114"/>
                  <a:pt x="2853" y="14436"/>
                  <a:pt x="2853" y="14560"/>
                </a:cubicBezTo>
                <a:cubicBezTo>
                  <a:pt x="2853" y="14664"/>
                  <a:pt x="2848" y="14703"/>
                  <a:pt x="2828" y="14784"/>
                </a:cubicBezTo>
              </a:path>
              <a:path w="1464" h="1539">
                <a:moveTo>
                  <a:pt x="3101" y="14238"/>
                </a:moveTo>
                <a:cubicBezTo>
                  <a:pt x="3115" y="14194"/>
                  <a:pt x="3170" y="14213"/>
                  <a:pt x="3225" y="14213"/>
                </a:cubicBezTo>
                <a:cubicBezTo>
                  <a:pt x="3322" y="14213"/>
                  <a:pt x="3373" y="14188"/>
                  <a:pt x="3473" y="14188"/>
                </a:cubicBezTo>
                <a:cubicBezTo>
                  <a:pt x="3497" y="14188"/>
                  <a:pt x="3506" y="14188"/>
                  <a:pt x="3522" y="14188"/>
                </a:cubicBezTo>
                <a:cubicBezTo>
                  <a:pt x="3493" y="14304"/>
                  <a:pt x="3383" y="14446"/>
                  <a:pt x="3324" y="14560"/>
                </a:cubicBezTo>
                <a:cubicBezTo>
                  <a:pt x="3300" y="14607"/>
                  <a:pt x="3299" y="14613"/>
                  <a:pt x="3299" y="14660"/>
                </a:cubicBezTo>
              </a:path>
              <a:path w="1464" h="1539">
                <a:moveTo>
                  <a:pt x="2729" y="14982"/>
                </a:moveTo>
                <a:cubicBezTo>
                  <a:pt x="2959" y="14963"/>
                  <a:pt x="3197" y="14903"/>
                  <a:pt x="3423" y="14858"/>
                </a:cubicBezTo>
                <a:cubicBezTo>
                  <a:pt x="3492" y="14844"/>
                  <a:pt x="3655" y="14782"/>
                  <a:pt x="3696" y="14808"/>
                </a:cubicBezTo>
              </a:path>
              <a:path w="1464" h="1539">
                <a:moveTo>
                  <a:pt x="3001" y="15205"/>
                </a:moveTo>
                <a:cubicBezTo>
                  <a:pt x="3076" y="15190"/>
                  <a:pt x="3145" y="15161"/>
                  <a:pt x="3225" y="15156"/>
                </a:cubicBezTo>
                <a:cubicBezTo>
                  <a:pt x="3233" y="15156"/>
                  <a:pt x="3241" y="15156"/>
                  <a:pt x="3249" y="15156"/>
                </a:cubicBezTo>
                <a:cubicBezTo>
                  <a:pt x="3276" y="15330"/>
                  <a:pt x="3229" y="15367"/>
                  <a:pt x="3076" y="15453"/>
                </a:cubicBezTo>
                <a:cubicBezTo>
                  <a:pt x="3059" y="15461"/>
                  <a:pt x="3043" y="15470"/>
                  <a:pt x="3026" y="15478"/>
                </a:cubicBezTo>
                <a:cubicBezTo>
                  <a:pt x="3144" y="15458"/>
                  <a:pt x="3190" y="15436"/>
                  <a:pt x="3299" y="15503"/>
                </a:cubicBezTo>
                <a:cubicBezTo>
                  <a:pt x="3307" y="15511"/>
                  <a:pt x="3316" y="15520"/>
                  <a:pt x="3324" y="15528"/>
                </a:cubicBezTo>
                <a:cubicBezTo>
                  <a:pt x="3220" y="15660"/>
                  <a:pt x="3130" y="15707"/>
                  <a:pt x="2952" y="15726"/>
                </a:cubicBezTo>
                <a:cubicBezTo>
                  <a:pt x="2944" y="15726"/>
                  <a:pt x="2935" y="15726"/>
                  <a:pt x="2927" y="15726"/>
                </a:cubicBezTo>
              </a:path>
              <a:path w="1464" h="1539">
                <a:moveTo>
                  <a:pt x="4018" y="14858"/>
                </a:moveTo>
                <a:cubicBezTo>
                  <a:pt x="4073" y="14899"/>
                  <a:pt x="4109" y="15014"/>
                  <a:pt x="4167" y="15081"/>
                </a:cubicBezTo>
                <a:cubicBezTo>
                  <a:pt x="4190" y="15104"/>
                  <a:pt x="4198" y="15108"/>
                  <a:pt x="4192" y="15131"/>
                </a:cubicBezTo>
              </a:path>
              <a:path w="1464" h="1539">
                <a:moveTo>
                  <a:pt x="4167" y="14833"/>
                </a:moveTo>
                <a:cubicBezTo>
                  <a:pt x="4127" y="14936"/>
                  <a:pt x="4013" y="15014"/>
                  <a:pt x="3944" y="15106"/>
                </a:cubicBezTo>
                <a:cubicBezTo>
                  <a:pt x="3908" y="15154"/>
                  <a:pt x="3924" y="15167"/>
                  <a:pt x="3870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5880" y="2259000"/>
            <a:ext cx="322200" cy="2465280"/>
          </a:xfrm>
          <a:custGeom>
            <a:avLst/>
            <a:gdLst/>
            <a:ahLst/>
            <a:rect l="l" t="t" r="r" b="b"/>
            <a:pathLst>
              <a:path w="894" h="6847">
                <a:moveTo>
                  <a:pt x="2952" y="6276"/>
                </a:moveTo>
                <a:lnTo>
                  <a:pt x="2952" y="6276"/>
                </a:lnTo>
                <a:lnTo>
                  <a:pt x="2952" y="6276"/>
                </a:lnTo>
              </a:path>
              <a:path w="894" h="6847">
                <a:moveTo>
                  <a:pt x="2952" y="6276"/>
                </a:moveTo>
                <a:lnTo>
                  <a:pt x="2952" y="6276"/>
                </a:lnTo>
              </a:path>
              <a:path w="894" h="6847">
                <a:moveTo>
                  <a:pt x="3076" y="6573"/>
                </a:moveTo>
                <a:lnTo>
                  <a:pt x="3076" y="6573"/>
                </a:lnTo>
              </a:path>
              <a:path w="894" h="6847">
                <a:moveTo>
                  <a:pt x="2183" y="7020"/>
                </a:moveTo>
                <a:lnTo>
                  <a:pt x="2183" y="7020"/>
                </a:lnTo>
              </a:path>
              <a:path w="894" h="6847">
                <a:moveTo>
                  <a:pt x="2778" y="13122"/>
                </a:moveTo>
                <a:lnTo>
                  <a:pt x="2778" y="131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2643120"/>
            <a:ext cx="760320" cy="2098800"/>
          </a:xfrm>
          <a:custGeom>
            <a:avLst/>
            <a:gdLst/>
            <a:ahLst/>
            <a:rect l="l" t="t" r="r" b="b"/>
            <a:pathLst>
              <a:path w="2110" h="5830">
                <a:moveTo>
                  <a:pt x="4514" y="7392"/>
                </a:moveTo>
                <a:lnTo>
                  <a:pt x="4514" y="7392"/>
                </a:lnTo>
              </a:path>
              <a:path w="2110" h="5830">
                <a:moveTo>
                  <a:pt x="4514" y="7392"/>
                </a:moveTo>
                <a:lnTo>
                  <a:pt x="4514" y="7392"/>
                </a:lnTo>
              </a:path>
              <a:path w="2110" h="5830">
                <a:moveTo>
                  <a:pt x="4638" y="7689"/>
                </a:moveTo>
                <a:lnTo>
                  <a:pt x="4638" y="7689"/>
                </a:lnTo>
              </a:path>
              <a:path w="2110" h="5830">
                <a:moveTo>
                  <a:pt x="4911" y="7342"/>
                </a:moveTo>
                <a:cubicBezTo>
                  <a:pt x="4938" y="7421"/>
                  <a:pt x="4978" y="7508"/>
                  <a:pt x="5011" y="7590"/>
                </a:cubicBezTo>
              </a:path>
              <a:path w="2110" h="5830">
                <a:moveTo>
                  <a:pt x="5011" y="7590"/>
                </a:moveTo>
                <a:lnTo>
                  <a:pt x="5011" y="7590"/>
                </a:lnTo>
              </a:path>
              <a:path w="2110" h="5830">
                <a:moveTo>
                  <a:pt x="2902" y="11956"/>
                </a:moveTo>
                <a:lnTo>
                  <a:pt x="2902" y="11956"/>
                </a:lnTo>
              </a:path>
              <a:path w="2110" h="5830">
                <a:moveTo>
                  <a:pt x="4440" y="13097"/>
                </a:moveTo>
                <a:lnTo>
                  <a:pt x="4440" y="13097"/>
                </a:lnTo>
              </a:path>
              <a:path w="2110" h="5830">
                <a:moveTo>
                  <a:pt x="3994" y="13171"/>
                </a:moveTo>
                <a:cubicBezTo>
                  <a:pt x="4002" y="13163"/>
                  <a:pt x="4010" y="13154"/>
                  <a:pt x="4018" y="13146"/>
                </a:cubicBezTo>
              </a:path>
              <a:path w="2110" h="5830">
                <a:moveTo>
                  <a:pt x="4018" y="13171"/>
                </a:moveTo>
                <a:lnTo>
                  <a:pt x="4018" y="131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7960" y="2544840"/>
            <a:ext cx="4002120" cy="2948040"/>
          </a:xfrm>
          <a:custGeom>
            <a:avLst/>
            <a:gdLst/>
            <a:ahLst/>
            <a:rect l="l" t="t" r="r" b="b"/>
            <a:pathLst>
              <a:path w="11114" h="8187">
                <a:moveTo>
                  <a:pt x="5680" y="7069"/>
                </a:moveTo>
                <a:lnTo>
                  <a:pt x="5680" y="7069"/>
                </a:lnTo>
              </a:path>
              <a:path w="11114" h="8187">
                <a:moveTo>
                  <a:pt x="6672" y="9947"/>
                </a:moveTo>
                <a:lnTo>
                  <a:pt x="6672" y="9947"/>
                </a:lnTo>
              </a:path>
              <a:path w="11114" h="8187">
                <a:moveTo>
                  <a:pt x="8954" y="9823"/>
                </a:moveTo>
                <a:lnTo>
                  <a:pt x="8954" y="9823"/>
                </a:lnTo>
              </a:path>
              <a:path w="11114" h="8187">
                <a:moveTo>
                  <a:pt x="10864" y="9475"/>
                </a:moveTo>
                <a:cubicBezTo>
                  <a:pt x="10844" y="9416"/>
                  <a:pt x="10709" y="9472"/>
                  <a:pt x="10641" y="9475"/>
                </a:cubicBezTo>
                <a:cubicBezTo>
                  <a:pt x="10560" y="9478"/>
                  <a:pt x="10558" y="9519"/>
                  <a:pt x="10542" y="9599"/>
                </a:cubicBezTo>
                <a:cubicBezTo>
                  <a:pt x="10542" y="9624"/>
                  <a:pt x="10542" y="9632"/>
                  <a:pt x="10542" y="9649"/>
                </a:cubicBezTo>
                <a:cubicBezTo>
                  <a:pt x="10652" y="9649"/>
                  <a:pt x="10771" y="9633"/>
                  <a:pt x="10864" y="9674"/>
                </a:cubicBezTo>
                <a:cubicBezTo>
                  <a:pt x="10782" y="9851"/>
                  <a:pt x="10695" y="9882"/>
                  <a:pt x="10492" y="9897"/>
                </a:cubicBezTo>
                <a:cubicBezTo>
                  <a:pt x="10476" y="9897"/>
                  <a:pt x="10459" y="9897"/>
                  <a:pt x="10443" y="9897"/>
                </a:cubicBezTo>
              </a:path>
              <a:path w="11114" h="8187">
                <a:moveTo>
                  <a:pt x="10988" y="9947"/>
                </a:moveTo>
                <a:cubicBezTo>
                  <a:pt x="11049" y="9841"/>
                  <a:pt x="11076" y="9701"/>
                  <a:pt x="11063" y="9575"/>
                </a:cubicBezTo>
                <a:cubicBezTo>
                  <a:pt x="11055" y="9492"/>
                  <a:pt x="11007" y="9427"/>
                  <a:pt x="10988" y="9351"/>
                </a:cubicBezTo>
                <a:cubicBezTo>
                  <a:pt x="10988" y="9343"/>
                  <a:pt x="10988" y="9335"/>
                  <a:pt x="10988" y="9327"/>
                </a:cubicBezTo>
                <a:cubicBezTo>
                  <a:pt x="11273" y="9327"/>
                  <a:pt x="11548" y="9291"/>
                  <a:pt x="11832" y="9277"/>
                </a:cubicBezTo>
                <a:cubicBezTo>
                  <a:pt x="11932" y="9272"/>
                  <a:pt x="12049" y="9274"/>
                  <a:pt x="12105" y="9302"/>
                </a:cubicBezTo>
              </a:path>
              <a:path w="11114" h="8187">
                <a:moveTo>
                  <a:pt x="11336" y="9451"/>
                </a:moveTo>
                <a:cubicBezTo>
                  <a:pt x="11300" y="9555"/>
                  <a:pt x="11237" y="9669"/>
                  <a:pt x="11187" y="9773"/>
                </a:cubicBezTo>
                <a:cubicBezTo>
                  <a:pt x="11179" y="9790"/>
                  <a:pt x="11170" y="9806"/>
                  <a:pt x="11162" y="9823"/>
                </a:cubicBezTo>
                <a:cubicBezTo>
                  <a:pt x="11285" y="9891"/>
                  <a:pt x="11407" y="9895"/>
                  <a:pt x="11534" y="9823"/>
                </a:cubicBezTo>
                <a:cubicBezTo>
                  <a:pt x="11598" y="9786"/>
                  <a:pt x="11584" y="9757"/>
                  <a:pt x="11584" y="9699"/>
                </a:cubicBezTo>
                <a:cubicBezTo>
                  <a:pt x="11494" y="9699"/>
                  <a:pt x="11362" y="9687"/>
                  <a:pt x="11361" y="9823"/>
                </a:cubicBezTo>
                <a:cubicBezTo>
                  <a:pt x="11393" y="9889"/>
                  <a:pt x="11418" y="9897"/>
                  <a:pt x="11485" y="9823"/>
                </a:cubicBezTo>
              </a:path>
              <a:path w="11114" h="8187">
                <a:moveTo>
                  <a:pt x="11733" y="9451"/>
                </a:moveTo>
                <a:cubicBezTo>
                  <a:pt x="11774" y="9437"/>
                  <a:pt x="11816" y="9415"/>
                  <a:pt x="11857" y="9401"/>
                </a:cubicBezTo>
                <a:cubicBezTo>
                  <a:pt x="11877" y="9503"/>
                  <a:pt x="11863" y="9507"/>
                  <a:pt x="11782" y="9575"/>
                </a:cubicBezTo>
                <a:cubicBezTo>
                  <a:pt x="11774" y="9583"/>
                  <a:pt x="11765" y="9591"/>
                  <a:pt x="11757" y="9599"/>
                </a:cubicBezTo>
                <a:cubicBezTo>
                  <a:pt x="11799" y="9599"/>
                  <a:pt x="11932" y="9593"/>
                  <a:pt x="11956" y="9649"/>
                </a:cubicBezTo>
                <a:cubicBezTo>
                  <a:pt x="11991" y="9733"/>
                  <a:pt x="11869" y="9798"/>
                  <a:pt x="11807" y="9823"/>
                </a:cubicBezTo>
                <a:cubicBezTo>
                  <a:pt x="11782" y="9823"/>
                  <a:pt x="11774" y="9823"/>
                  <a:pt x="11757" y="9823"/>
                </a:cubicBezTo>
              </a:path>
              <a:path w="11114" h="8187">
                <a:moveTo>
                  <a:pt x="11336" y="8905"/>
                </a:moveTo>
                <a:cubicBezTo>
                  <a:pt x="11336" y="8838"/>
                  <a:pt x="11355" y="8987"/>
                  <a:pt x="11361" y="9054"/>
                </a:cubicBezTo>
                <a:cubicBezTo>
                  <a:pt x="11369" y="9154"/>
                  <a:pt x="11358" y="9231"/>
                  <a:pt x="11336" y="9327"/>
                </a:cubicBezTo>
              </a:path>
              <a:path w="11114" h="8187">
                <a:moveTo>
                  <a:pt x="11485" y="10021"/>
                </a:moveTo>
                <a:cubicBezTo>
                  <a:pt x="11552" y="10021"/>
                  <a:pt x="11353" y="10021"/>
                  <a:pt x="11336" y="10021"/>
                </a:cubicBezTo>
                <a:cubicBezTo>
                  <a:pt x="11290" y="10021"/>
                  <a:pt x="11277" y="10041"/>
                  <a:pt x="11237" y="10046"/>
                </a:cubicBezTo>
                <a:cubicBezTo>
                  <a:pt x="11198" y="10050"/>
                  <a:pt x="11237" y="10145"/>
                  <a:pt x="11237" y="10195"/>
                </a:cubicBezTo>
                <a:cubicBezTo>
                  <a:pt x="11282" y="10183"/>
                  <a:pt x="11307" y="10170"/>
                  <a:pt x="11361" y="10170"/>
                </a:cubicBezTo>
                <a:cubicBezTo>
                  <a:pt x="11427" y="10170"/>
                  <a:pt x="11535" y="10228"/>
                  <a:pt x="11509" y="10319"/>
                </a:cubicBezTo>
                <a:cubicBezTo>
                  <a:pt x="11473" y="10444"/>
                  <a:pt x="11340" y="10404"/>
                  <a:pt x="11261" y="10393"/>
                </a:cubicBezTo>
                <a:cubicBezTo>
                  <a:pt x="11220" y="10393"/>
                  <a:pt x="11212" y="10393"/>
                  <a:pt x="11187" y="10393"/>
                </a:cubicBezTo>
              </a:path>
              <a:path w="11114" h="8187">
                <a:moveTo>
                  <a:pt x="10914" y="10195"/>
                </a:moveTo>
                <a:cubicBezTo>
                  <a:pt x="10975" y="10187"/>
                  <a:pt x="11010" y="10158"/>
                  <a:pt x="11063" y="10145"/>
                </a:cubicBezTo>
              </a:path>
              <a:path w="11114" h="8187">
                <a:moveTo>
                  <a:pt x="10864" y="10319"/>
                </a:moveTo>
                <a:cubicBezTo>
                  <a:pt x="11058" y="10319"/>
                  <a:pt x="11242" y="10357"/>
                  <a:pt x="11435" y="10368"/>
                </a:cubicBezTo>
                <a:cubicBezTo>
                  <a:pt x="11558" y="10375"/>
                  <a:pt x="11683" y="10368"/>
                  <a:pt x="11807" y="10368"/>
                </a:cubicBezTo>
              </a:path>
              <a:path w="11114" h="8187">
                <a:moveTo>
                  <a:pt x="11311" y="10517"/>
                </a:moveTo>
                <a:cubicBezTo>
                  <a:pt x="11262" y="10533"/>
                  <a:pt x="11286" y="10634"/>
                  <a:pt x="11286" y="10691"/>
                </a:cubicBezTo>
                <a:cubicBezTo>
                  <a:pt x="11286" y="10800"/>
                  <a:pt x="11293" y="10769"/>
                  <a:pt x="11311" y="10840"/>
                </a:cubicBezTo>
              </a:path>
              <a:path w="11114" h="8187">
                <a:moveTo>
                  <a:pt x="11782" y="10021"/>
                </a:moveTo>
                <a:cubicBezTo>
                  <a:pt x="11782" y="9996"/>
                  <a:pt x="11782" y="9988"/>
                  <a:pt x="11782" y="9971"/>
                </a:cubicBezTo>
                <a:cubicBezTo>
                  <a:pt x="11765" y="10074"/>
                  <a:pt x="11763" y="10143"/>
                  <a:pt x="11782" y="10244"/>
                </a:cubicBezTo>
                <a:cubicBezTo>
                  <a:pt x="11782" y="10252"/>
                  <a:pt x="11782" y="10261"/>
                  <a:pt x="11782" y="10269"/>
                </a:cubicBezTo>
              </a:path>
              <a:path w="11114" h="8187">
                <a:moveTo>
                  <a:pt x="11633" y="10195"/>
                </a:moveTo>
                <a:cubicBezTo>
                  <a:pt x="11666" y="10221"/>
                  <a:pt x="11744" y="10302"/>
                  <a:pt x="11782" y="10294"/>
                </a:cubicBezTo>
                <a:cubicBezTo>
                  <a:pt x="11851" y="10280"/>
                  <a:pt x="11857" y="10226"/>
                  <a:pt x="11857" y="10170"/>
                </a:cubicBezTo>
              </a:path>
              <a:path w="11114" h="8187">
                <a:moveTo>
                  <a:pt x="11857" y="10170"/>
                </a:moveTo>
                <a:lnTo>
                  <a:pt x="11857" y="10170"/>
                </a:lnTo>
              </a:path>
              <a:path w="11114" h="8187">
                <a:moveTo>
                  <a:pt x="11658" y="10492"/>
                </a:moveTo>
                <a:cubicBezTo>
                  <a:pt x="11604" y="10466"/>
                  <a:pt x="11759" y="10431"/>
                  <a:pt x="11807" y="10418"/>
                </a:cubicBezTo>
                <a:cubicBezTo>
                  <a:pt x="11815" y="10418"/>
                  <a:pt x="11824" y="10418"/>
                  <a:pt x="11832" y="10418"/>
                </a:cubicBezTo>
                <a:cubicBezTo>
                  <a:pt x="11816" y="10560"/>
                  <a:pt x="11768" y="10570"/>
                  <a:pt x="11658" y="10641"/>
                </a:cubicBezTo>
                <a:cubicBezTo>
                  <a:pt x="11603" y="10677"/>
                  <a:pt x="11758" y="10641"/>
                  <a:pt x="11807" y="10641"/>
                </a:cubicBezTo>
                <a:cubicBezTo>
                  <a:pt x="11918" y="10641"/>
                  <a:pt x="11825" y="10790"/>
                  <a:pt x="11782" y="10815"/>
                </a:cubicBezTo>
                <a:cubicBezTo>
                  <a:pt x="11732" y="10845"/>
                  <a:pt x="11687" y="10840"/>
                  <a:pt x="11633" y="10840"/>
                </a:cubicBezTo>
              </a:path>
              <a:path w="11114" h="8187">
                <a:moveTo>
                  <a:pt x="11609" y="8855"/>
                </a:moveTo>
                <a:cubicBezTo>
                  <a:pt x="11613" y="8843"/>
                  <a:pt x="11634" y="8788"/>
                  <a:pt x="11658" y="8781"/>
                </a:cubicBezTo>
                <a:cubicBezTo>
                  <a:pt x="11690" y="8771"/>
                  <a:pt x="11768" y="8740"/>
                  <a:pt x="11807" y="8756"/>
                </a:cubicBezTo>
                <a:cubicBezTo>
                  <a:pt x="11865" y="8780"/>
                  <a:pt x="11866" y="8835"/>
                  <a:pt x="11832" y="8880"/>
                </a:cubicBezTo>
                <a:cubicBezTo>
                  <a:pt x="11781" y="8947"/>
                  <a:pt x="11678" y="9008"/>
                  <a:pt x="11609" y="9054"/>
                </a:cubicBezTo>
                <a:cubicBezTo>
                  <a:pt x="11547" y="9096"/>
                  <a:pt x="11524" y="9128"/>
                  <a:pt x="11509" y="9203"/>
                </a:cubicBezTo>
                <a:cubicBezTo>
                  <a:pt x="11509" y="9227"/>
                  <a:pt x="11504" y="9184"/>
                  <a:pt x="11559" y="9153"/>
                </a:cubicBezTo>
                <a:cubicBezTo>
                  <a:pt x="11633" y="9112"/>
                  <a:pt x="11668" y="9133"/>
                  <a:pt x="11733" y="9153"/>
                </a:cubicBezTo>
                <a:cubicBezTo>
                  <a:pt x="11756" y="9160"/>
                  <a:pt x="11815" y="9210"/>
                  <a:pt x="11857" y="9203"/>
                </a:cubicBezTo>
                <a:cubicBezTo>
                  <a:pt x="11879" y="9180"/>
                  <a:pt x="11887" y="9175"/>
                  <a:pt x="11881" y="9153"/>
                </a:cubicBezTo>
              </a:path>
              <a:path w="11114" h="8187">
                <a:moveTo>
                  <a:pt x="11311" y="10988"/>
                </a:moveTo>
                <a:cubicBezTo>
                  <a:pt x="11311" y="10980"/>
                  <a:pt x="11311" y="10972"/>
                  <a:pt x="11311" y="10964"/>
                </a:cubicBezTo>
                <a:cubicBezTo>
                  <a:pt x="11365" y="11034"/>
                  <a:pt x="11336" y="11148"/>
                  <a:pt x="11336" y="11237"/>
                </a:cubicBezTo>
                <a:cubicBezTo>
                  <a:pt x="11336" y="11253"/>
                  <a:pt x="11336" y="11270"/>
                  <a:pt x="11336" y="11286"/>
                </a:cubicBezTo>
              </a:path>
              <a:path w="11114" h="8187">
                <a:moveTo>
                  <a:pt x="11757" y="10988"/>
                </a:moveTo>
                <a:cubicBezTo>
                  <a:pt x="11702" y="11051"/>
                  <a:pt x="11676" y="11083"/>
                  <a:pt x="11658" y="11162"/>
                </a:cubicBezTo>
                <a:cubicBezTo>
                  <a:pt x="11718" y="11205"/>
                  <a:pt x="11841" y="11226"/>
                  <a:pt x="11857" y="11112"/>
                </a:cubicBezTo>
                <a:cubicBezTo>
                  <a:pt x="11868" y="11032"/>
                  <a:pt x="11845" y="11029"/>
                  <a:pt x="11782" y="11013"/>
                </a:cubicBezTo>
              </a:path>
              <a:path w="11114" h="8187">
                <a:moveTo>
                  <a:pt x="10815" y="11187"/>
                </a:moveTo>
                <a:cubicBezTo>
                  <a:pt x="10881" y="11187"/>
                  <a:pt x="10947" y="11187"/>
                  <a:pt x="11013" y="11187"/>
                </a:cubicBezTo>
              </a:path>
              <a:path w="11114" h="8187">
                <a:moveTo>
                  <a:pt x="10939" y="11460"/>
                </a:moveTo>
                <a:cubicBezTo>
                  <a:pt x="11033" y="11460"/>
                  <a:pt x="11118" y="11437"/>
                  <a:pt x="11212" y="11435"/>
                </a:cubicBezTo>
                <a:cubicBezTo>
                  <a:pt x="11390" y="11431"/>
                  <a:pt x="11581" y="11408"/>
                  <a:pt x="11757" y="11385"/>
                </a:cubicBezTo>
                <a:cubicBezTo>
                  <a:pt x="11836" y="11375"/>
                  <a:pt x="11908" y="11353"/>
                  <a:pt x="11981" y="11336"/>
                </a:cubicBezTo>
                <a:cubicBezTo>
                  <a:pt x="12005" y="11336"/>
                  <a:pt x="12014" y="11336"/>
                  <a:pt x="12030" y="11336"/>
                </a:cubicBezTo>
              </a:path>
              <a:path w="11114" h="8187">
                <a:moveTo>
                  <a:pt x="11733" y="11584"/>
                </a:moveTo>
                <a:cubicBezTo>
                  <a:pt x="11814" y="11584"/>
                  <a:pt x="11794" y="11572"/>
                  <a:pt x="11881" y="11534"/>
                </a:cubicBezTo>
                <a:cubicBezTo>
                  <a:pt x="11962" y="11498"/>
                  <a:pt x="11981" y="11506"/>
                  <a:pt x="12055" y="11534"/>
                </a:cubicBezTo>
                <a:cubicBezTo>
                  <a:pt x="11996" y="11643"/>
                  <a:pt x="11920" y="11690"/>
                  <a:pt x="11807" y="11757"/>
                </a:cubicBezTo>
                <a:cubicBezTo>
                  <a:pt x="11822" y="11757"/>
                  <a:pt x="12030" y="11731"/>
                  <a:pt x="12030" y="11782"/>
                </a:cubicBezTo>
                <a:cubicBezTo>
                  <a:pt x="12030" y="11892"/>
                  <a:pt x="11911" y="11882"/>
                  <a:pt x="11832" y="11906"/>
                </a:cubicBezTo>
              </a:path>
              <a:path w="11114" h="8187">
                <a:moveTo>
                  <a:pt x="12328" y="9451"/>
                </a:moveTo>
                <a:cubicBezTo>
                  <a:pt x="12394" y="9451"/>
                  <a:pt x="12462" y="9409"/>
                  <a:pt x="12526" y="9426"/>
                </a:cubicBezTo>
                <a:cubicBezTo>
                  <a:pt x="12549" y="9449"/>
                  <a:pt x="12553" y="9457"/>
                  <a:pt x="12576" y="9451"/>
                </a:cubicBezTo>
              </a:path>
              <a:path w="11114" h="8187">
                <a:moveTo>
                  <a:pt x="12328" y="9624"/>
                </a:moveTo>
                <a:cubicBezTo>
                  <a:pt x="12396" y="9614"/>
                  <a:pt x="12457" y="9599"/>
                  <a:pt x="12526" y="9599"/>
                </a:cubicBezTo>
                <a:cubicBezTo>
                  <a:pt x="12534" y="9599"/>
                  <a:pt x="12543" y="9599"/>
                  <a:pt x="12551" y="9599"/>
                </a:cubicBezTo>
              </a:path>
              <a:path w="11114" h="8187">
                <a:moveTo>
                  <a:pt x="12551" y="9599"/>
                </a:moveTo>
                <a:lnTo>
                  <a:pt x="12551" y="9599"/>
                </a:lnTo>
              </a:path>
              <a:path w="11114" h="8187">
                <a:moveTo>
                  <a:pt x="13246" y="9029"/>
                </a:moveTo>
                <a:cubicBezTo>
                  <a:pt x="13246" y="8938"/>
                  <a:pt x="13246" y="9161"/>
                  <a:pt x="13246" y="9252"/>
                </a:cubicBezTo>
                <a:cubicBezTo>
                  <a:pt x="13246" y="9352"/>
                  <a:pt x="13221" y="9600"/>
                  <a:pt x="13221" y="9500"/>
                </a:cubicBezTo>
              </a:path>
              <a:path w="11114" h="8187">
                <a:moveTo>
                  <a:pt x="13618" y="8979"/>
                </a:moveTo>
                <a:cubicBezTo>
                  <a:pt x="13618" y="8903"/>
                  <a:pt x="13723" y="8854"/>
                  <a:pt x="13791" y="8830"/>
                </a:cubicBezTo>
                <a:cubicBezTo>
                  <a:pt x="13869" y="8803"/>
                  <a:pt x="13988" y="8819"/>
                  <a:pt x="14015" y="8905"/>
                </a:cubicBezTo>
                <a:cubicBezTo>
                  <a:pt x="14065" y="9064"/>
                  <a:pt x="13809" y="9278"/>
                  <a:pt x="13717" y="9376"/>
                </a:cubicBezTo>
                <a:cubicBezTo>
                  <a:pt x="13651" y="9443"/>
                  <a:pt x="13635" y="9459"/>
                  <a:pt x="13593" y="9500"/>
                </a:cubicBezTo>
                <a:cubicBezTo>
                  <a:pt x="13593" y="9403"/>
                  <a:pt x="13686" y="9378"/>
                  <a:pt x="13767" y="9351"/>
                </a:cubicBezTo>
                <a:cubicBezTo>
                  <a:pt x="13863" y="9319"/>
                  <a:pt x="13947" y="9405"/>
                  <a:pt x="14039" y="9401"/>
                </a:cubicBezTo>
                <a:cubicBezTo>
                  <a:pt x="14118" y="9398"/>
                  <a:pt x="14114" y="9330"/>
                  <a:pt x="14114" y="9277"/>
                </a:cubicBezTo>
              </a:path>
              <a:path w="11114" h="8187">
                <a:moveTo>
                  <a:pt x="14560" y="8508"/>
                </a:moveTo>
                <a:cubicBezTo>
                  <a:pt x="14499" y="8476"/>
                  <a:pt x="14685" y="8437"/>
                  <a:pt x="14709" y="8434"/>
                </a:cubicBezTo>
                <a:cubicBezTo>
                  <a:pt x="14812" y="8420"/>
                  <a:pt x="14831" y="8505"/>
                  <a:pt x="14759" y="8582"/>
                </a:cubicBezTo>
                <a:cubicBezTo>
                  <a:pt x="14742" y="8590"/>
                  <a:pt x="14726" y="8599"/>
                  <a:pt x="14709" y="8607"/>
                </a:cubicBezTo>
                <a:cubicBezTo>
                  <a:pt x="14808" y="8624"/>
                  <a:pt x="14822" y="8625"/>
                  <a:pt x="14883" y="8706"/>
                </a:cubicBezTo>
                <a:cubicBezTo>
                  <a:pt x="14781" y="8786"/>
                  <a:pt x="14716" y="8781"/>
                  <a:pt x="14585" y="8781"/>
                </a:cubicBezTo>
              </a:path>
              <a:path w="11114" h="8187">
                <a:moveTo>
                  <a:pt x="14560" y="8930"/>
                </a:moveTo>
                <a:cubicBezTo>
                  <a:pt x="14718" y="8907"/>
                  <a:pt x="14876" y="8877"/>
                  <a:pt x="15032" y="8855"/>
                </a:cubicBezTo>
              </a:path>
              <a:path w="11114" h="8187">
                <a:moveTo>
                  <a:pt x="14833" y="9079"/>
                </a:moveTo>
                <a:cubicBezTo>
                  <a:pt x="14711" y="9079"/>
                  <a:pt x="14675" y="9052"/>
                  <a:pt x="14635" y="9128"/>
                </a:cubicBezTo>
                <a:cubicBezTo>
                  <a:pt x="14597" y="9185"/>
                  <a:pt x="14581" y="9188"/>
                  <a:pt x="14585" y="9227"/>
                </a:cubicBezTo>
                <a:cubicBezTo>
                  <a:pt x="14660" y="9227"/>
                  <a:pt x="14739" y="9213"/>
                  <a:pt x="14808" y="9252"/>
                </a:cubicBezTo>
                <a:cubicBezTo>
                  <a:pt x="14853" y="9297"/>
                  <a:pt x="14870" y="9306"/>
                  <a:pt x="14858" y="9351"/>
                </a:cubicBezTo>
                <a:cubicBezTo>
                  <a:pt x="14749" y="9410"/>
                  <a:pt x="14687" y="9426"/>
                  <a:pt x="14560" y="9426"/>
                </a:cubicBezTo>
              </a:path>
              <a:path w="11114" h="8187">
                <a:moveTo>
                  <a:pt x="13047" y="9847"/>
                </a:moveTo>
                <a:cubicBezTo>
                  <a:pt x="13117" y="9865"/>
                  <a:pt x="13308" y="9872"/>
                  <a:pt x="13419" y="9872"/>
                </a:cubicBezTo>
                <a:cubicBezTo>
                  <a:pt x="13746" y="9872"/>
                  <a:pt x="14062" y="9855"/>
                  <a:pt x="14387" y="9823"/>
                </a:cubicBezTo>
                <a:cubicBezTo>
                  <a:pt x="14648" y="9797"/>
                  <a:pt x="14883" y="9760"/>
                  <a:pt x="15131" y="9674"/>
                </a:cubicBezTo>
                <a:cubicBezTo>
                  <a:pt x="15328" y="9606"/>
                  <a:pt x="15444" y="9509"/>
                  <a:pt x="15577" y="9351"/>
                </a:cubicBezTo>
                <a:cubicBezTo>
                  <a:pt x="15696" y="9210"/>
                  <a:pt x="15797" y="9075"/>
                  <a:pt x="15776" y="8880"/>
                </a:cubicBezTo>
                <a:cubicBezTo>
                  <a:pt x="15762" y="8755"/>
                  <a:pt x="15700" y="8559"/>
                  <a:pt x="15627" y="8458"/>
                </a:cubicBezTo>
                <a:cubicBezTo>
                  <a:pt x="15527" y="8319"/>
                  <a:pt x="15356" y="8210"/>
                  <a:pt x="15205" y="8136"/>
                </a:cubicBezTo>
                <a:cubicBezTo>
                  <a:pt x="15019" y="8045"/>
                  <a:pt x="14788" y="8018"/>
                  <a:pt x="14585" y="8012"/>
                </a:cubicBezTo>
                <a:cubicBezTo>
                  <a:pt x="14329" y="8004"/>
                  <a:pt x="14088" y="8078"/>
                  <a:pt x="13841" y="8136"/>
                </a:cubicBezTo>
                <a:cubicBezTo>
                  <a:pt x="13590" y="8195"/>
                  <a:pt x="13292" y="8237"/>
                  <a:pt x="13072" y="8384"/>
                </a:cubicBezTo>
                <a:cubicBezTo>
                  <a:pt x="12933" y="8477"/>
                  <a:pt x="12900" y="8669"/>
                  <a:pt x="12824" y="8806"/>
                </a:cubicBezTo>
                <a:cubicBezTo>
                  <a:pt x="12729" y="8977"/>
                  <a:pt x="12663" y="9131"/>
                  <a:pt x="12700" y="9327"/>
                </a:cubicBezTo>
                <a:cubicBezTo>
                  <a:pt x="12733" y="9500"/>
                  <a:pt x="12817" y="9595"/>
                  <a:pt x="12973" y="9674"/>
                </a:cubicBezTo>
                <a:cubicBezTo>
                  <a:pt x="13159" y="9769"/>
                  <a:pt x="13314" y="9773"/>
                  <a:pt x="13519" y="9773"/>
                </a:cubicBezTo>
                <a:cubicBezTo>
                  <a:pt x="13577" y="9773"/>
                  <a:pt x="13585" y="9773"/>
                  <a:pt x="13618" y="9773"/>
                </a:cubicBezTo>
              </a:path>
              <a:path w="11114" h="8187">
                <a:moveTo>
                  <a:pt x="4663" y="12005"/>
                </a:moveTo>
                <a:lnTo>
                  <a:pt x="4663" y="12005"/>
                </a:lnTo>
              </a:path>
              <a:path w="11114" h="8187">
                <a:moveTo>
                  <a:pt x="5829" y="15007"/>
                </a:moveTo>
                <a:cubicBezTo>
                  <a:pt x="5892" y="15002"/>
                  <a:pt x="5942" y="14992"/>
                  <a:pt x="6003" y="14982"/>
                </a:cubicBezTo>
              </a:path>
              <a:path w="11114" h="8187">
                <a:moveTo>
                  <a:pt x="6003" y="14982"/>
                </a:moveTo>
                <a:lnTo>
                  <a:pt x="6003" y="14982"/>
                </a:lnTo>
              </a:path>
              <a:path w="11114" h="8187">
                <a:moveTo>
                  <a:pt x="7094" y="14436"/>
                </a:moveTo>
                <a:lnTo>
                  <a:pt x="7094" y="14436"/>
                </a:lnTo>
              </a:path>
              <a:path w="11114" h="8187">
                <a:moveTo>
                  <a:pt x="10492" y="14684"/>
                </a:moveTo>
                <a:lnTo>
                  <a:pt x="10492" y="14684"/>
                </a:lnTo>
              </a:path>
              <a:path w="11114" h="8187">
                <a:moveTo>
                  <a:pt x="10691" y="14362"/>
                </a:moveTo>
                <a:cubicBezTo>
                  <a:pt x="10760" y="14316"/>
                  <a:pt x="10842" y="14305"/>
                  <a:pt x="10914" y="14288"/>
                </a:cubicBezTo>
                <a:cubicBezTo>
                  <a:pt x="10922" y="14288"/>
                  <a:pt x="10931" y="14288"/>
                  <a:pt x="10939" y="14288"/>
                </a:cubicBezTo>
              </a:path>
              <a:path w="11114" h="8187">
                <a:moveTo>
                  <a:pt x="9723" y="15255"/>
                </a:moveTo>
                <a:cubicBezTo>
                  <a:pt x="9769" y="15249"/>
                  <a:pt x="9803" y="15239"/>
                  <a:pt x="9847" y="15230"/>
                </a:cubicBezTo>
              </a:path>
              <a:path w="11114" h="8187">
                <a:moveTo>
                  <a:pt x="12502" y="13271"/>
                </a:moveTo>
                <a:lnTo>
                  <a:pt x="12502" y="13271"/>
                </a:lnTo>
              </a:path>
              <a:path w="11114" h="8187">
                <a:moveTo>
                  <a:pt x="10418" y="14039"/>
                </a:moveTo>
                <a:cubicBezTo>
                  <a:pt x="10535" y="14048"/>
                  <a:pt x="10647" y="14071"/>
                  <a:pt x="10765" y="14089"/>
                </a:cubicBezTo>
                <a:cubicBezTo>
                  <a:pt x="11068" y="14135"/>
                  <a:pt x="11376" y="14176"/>
                  <a:pt x="11683" y="14163"/>
                </a:cubicBezTo>
                <a:cubicBezTo>
                  <a:pt x="11983" y="14150"/>
                  <a:pt x="12316" y="14114"/>
                  <a:pt x="12601" y="14015"/>
                </a:cubicBezTo>
                <a:cubicBezTo>
                  <a:pt x="12766" y="13958"/>
                  <a:pt x="12893" y="13854"/>
                  <a:pt x="12998" y="13717"/>
                </a:cubicBezTo>
                <a:cubicBezTo>
                  <a:pt x="13094" y="13592"/>
                  <a:pt x="13123" y="13495"/>
                  <a:pt x="13097" y="13345"/>
                </a:cubicBezTo>
                <a:cubicBezTo>
                  <a:pt x="13062" y="13143"/>
                  <a:pt x="13008" y="13009"/>
                  <a:pt x="12849" y="12874"/>
                </a:cubicBezTo>
                <a:cubicBezTo>
                  <a:pt x="12702" y="12749"/>
                  <a:pt x="12515" y="12709"/>
                  <a:pt x="12328" y="12675"/>
                </a:cubicBezTo>
                <a:cubicBezTo>
                  <a:pt x="12029" y="12621"/>
                  <a:pt x="11774" y="12609"/>
                  <a:pt x="11485" y="12700"/>
                </a:cubicBezTo>
                <a:cubicBezTo>
                  <a:pt x="11237" y="12778"/>
                  <a:pt x="10995" y="12905"/>
                  <a:pt x="10765" y="13022"/>
                </a:cubicBezTo>
                <a:cubicBezTo>
                  <a:pt x="10592" y="13110"/>
                  <a:pt x="10479" y="13177"/>
                  <a:pt x="10418" y="13370"/>
                </a:cubicBezTo>
                <a:cubicBezTo>
                  <a:pt x="10369" y="13523"/>
                  <a:pt x="10324" y="13655"/>
                  <a:pt x="10319" y="13816"/>
                </a:cubicBezTo>
                <a:cubicBezTo>
                  <a:pt x="10315" y="13938"/>
                  <a:pt x="10371" y="14039"/>
                  <a:pt x="10492" y="14089"/>
                </a:cubicBezTo>
                <a:cubicBezTo>
                  <a:pt x="10633" y="14147"/>
                  <a:pt x="10662" y="14134"/>
                  <a:pt x="10716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90880" y="4680000"/>
            <a:ext cx="2243160" cy="758880"/>
          </a:xfrm>
          <a:custGeom>
            <a:avLst/>
            <a:gdLst/>
            <a:ahLst/>
            <a:rect l="l" t="t" r="r" b="b"/>
            <a:pathLst>
              <a:path w="6227" h="2109">
                <a:moveTo>
                  <a:pt x="14536" y="12998"/>
                </a:moveTo>
                <a:cubicBezTo>
                  <a:pt x="14482" y="13106"/>
                  <a:pt x="14427" y="13194"/>
                  <a:pt x="14362" y="13295"/>
                </a:cubicBezTo>
              </a:path>
              <a:path w="6227" h="2109">
                <a:moveTo>
                  <a:pt x="14362" y="13295"/>
                </a:moveTo>
                <a:lnTo>
                  <a:pt x="14362" y="13295"/>
                </a:lnTo>
              </a:path>
              <a:path w="6227" h="2109">
                <a:moveTo>
                  <a:pt x="13370" y="15032"/>
                </a:moveTo>
                <a:cubicBezTo>
                  <a:pt x="13617" y="14987"/>
                  <a:pt x="13683" y="14973"/>
                  <a:pt x="13841" y="14957"/>
                </a:cubicBezTo>
              </a:path>
              <a:path w="6227" h="2109">
                <a:moveTo>
                  <a:pt x="13841" y="14957"/>
                </a:moveTo>
                <a:lnTo>
                  <a:pt x="13841" y="14957"/>
                </a:lnTo>
              </a:path>
              <a:path w="6227" h="2109">
                <a:moveTo>
                  <a:pt x="8310" y="14784"/>
                </a:moveTo>
                <a:cubicBezTo>
                  <a:pt x="8427" y="14777"/>
                  <a:pt x="8539" y="14765"/>
                  <a:pt x="8657" y="14759"/>
                </a:cubicBezTo>
              </a:path>
              <a:path w="6227" h="2109">
                <a:moveTo>
                  <a:pt x="8657" y="14759"/>
                </a:moveTo>
                <a:lnTo>
                  <a:pt x="8657" y="14759"/>
                </a:lnTo>
              </a:path>
              <a:path w="6227" h="2109">
                <a:moveTo>
                  <a:pt x="9674" y="14932"/>
                </a:moveTo>
                <a:lnTo>
                  <a:pt x="9674" y="14932"/>
                </a:lnTo>
              </a:path>
              <a:path w="6227" h="2109">
                <a:moveTo>
                  <a:pt x="11683" y="15106"/>
                </a:moveTo>
                <a:lnTo>
                  <a:pt x="11683" y="15106"/>
                </a:lnTo>
              </a:path>
              <a:path w="6227" h="2109">
                <a:moveTo>
                  <a:pt x="12452" y="13494"/>
                </a:moveTo>
                <a:cubicBezTo>
                  <a:pt x="12497" y="13577"/>
                  <a:pt x="12517" y="13622"/>
                  <a:pt x="12526" y="13717"/>
                </a:cubicBezTo>
              </a:path>
              <a:path w="6227" h="2109">
                <a:moveTo>
                  <a:pt x="12526" y="13717"/>
                </a:moveTo>
                <a:lnTo>
                  <a:pt x="12526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6040" y="4143240"/>
            <a:ext cx="4214880" cy="1643040"/>
          </a:xfrm>
          <a:custGeom>
            <a:avLst/>
            <a:gdLst/>
            <a:ahLst/>
            <a:rect l="l" t="t" r="r" b="b"/>
            <a:pathLst>
              <a:path w="11708" h="4565">
                <a:moveTo>
                  <a:pt x="4663" y="14188"/>
                </a:moveTo>
                <a:cubicBezTo>
                  <a:pt x="4731" y="14256"/>
                  <a:pt x="4647" y="14415"/>
                  <a:pt x="4614" y="14511"/>
                </a:cubicBezTo>
                <a:cubicBezTo>
                  <a:pt x="4573" y="14634"/>
                  <a:pt x="4556" y="14656"/>
                  <a:pt x="4564" y="14734"/>
                </a:cubicBezTo>
                <a:cubicBezTo>
                  <a:pt x="4735" y="14751"/>
                  <a:pt x="4778" y="14729"/>
                  <a:pt x="4911" y="14610"/>
                </a:cubicBezTo>
                <a:cubicBezTo>
                  <a:pt x="4939" y="14582"/>
                  <a:pt x="4948" y="14569"/>
                  <a:pt x="4936" y="14536"/>
                </a:cubicBezTo>
                <a:cubicBezTo>
                  <a:pt x="4817" y="14512"/>
                  <a:pt x="4736" y="14548"/>
                  <a:pt x="4663" y="14660"/>
                </a:cubicBezTo>
                <a:cubicBezTo>
                  <a:pt x="4630" y="14711"/>
                  <a:pt x="4755" y="14656"/>
                  <a:pt x="4812" y="14635"/>
                </a:cubicBezTo>
              </a:path>
              <a:path w="11708" h="4565">
                <a:moveTo>
                  <a:pt x="5234" y="14238"/>
                </a:moveTo>
                <a:cubicBezTo>
                  <a:pt x="5175" y="14208"/>
                  <a:pt x="5125" y="14272"/>
                  <a:pt x="5085" y="14337"/>
                </a:cubicBezTo>
                <a:cubicBezTo>
                  <a:pt x="4992" y="14490"/>
                  <a:pt x="5259" y="14457"/>
                  <a:pt x="5259" y="14585"/>
                </a:cubicBezTo>
                <a:cubicBezTo>
                  <a:pt x="5259" y="14660"/>
                  <a:pt x="5072" y="14676"/>
                  <a:pt x="5035" y="14684"/>
                </a:cubicBezTo>
                <a:cubicBezTo>
                  <a:pt x="5055" y="14558"/>
                  <a:pt x="5159" y="14441"/>
                  <a:pt x="5159" y="14312"/>
                </a:cubicBezTo>
                <a:cubicBezTo>
                  <a:pt x="5151" y="14304"/>
                  <a:pt x="5143" y="14296"/>
                  <a:pt x="5135" y="14288"/>
                </a:cubicBezTo>
              </a:path>
              <a:path w="11708" h="4565">
                <a:moveTo>
                  <a:pt x="4490" y="14932"/>
                </a:moveTo>
                <a:cubicBezTo>
                  <a:pt x="4498" y="14908"/>
                  <a:pt x="4915" y="14860"/>
                  <a:pt x="4936" y="14858"/>
                </a:cubicBezTo>
                <a:cubicBezTo>
                  <a:pt x="5049" y="14849"/>
                  <a:pt x="5127" y="14848"/>
                  <a:pt x="5234" y="14833"/>
                </a:cubicBezTo>
              </a:path>
              <a:path w="11708" h="4565">
                <a:moveTo>
                  <a:pt x="4713" y="15081"/>
                </a:moveTo>
                <a:cubicBezTo>
                  <a:pt x="4824" y="15081"/>
                  <a:pt x="4926" y="15063"/>
                  <a:pt x="5035" y="15056"/>
                </a:cubicBezTo>
                <a:cubicBezTo>
                  <a:pt x="5091" y="15052"/>
                  <a:pt x="5152" y="15056"/>
                  <a:pt x="5209" y="15056"/>
                </a:cubicBezTo>
                <a:cubicBezTo>
                  <a:pt x="5209" y="15196"/>
                  <a:pt x="5137" y="15284"/>
                  <a:pt x="5085" y="15404"/>
                </a:cubicBezTo>
                <a:cubicBezTo>
                  <a:pt x="5066" y="15461"/>
                  <a:pt x="5057" y="15468"/>
                  <a:pt x="5060" y="15503"/>
                </a:cubicBezTo>
              </a:path>
              <a:path w="11708" h="4565">
                <a:moveTo>
                  <a:pt x="5779" y="14883"/>
                </a:moveTo>
                <a:cubicBezTo>
                  <a:pt x="5863" y="14869"/>
                  <a:pt x="5942" y="14842"/>
                  <a:pt x="6028" y="14833"/>
                </a:cubicBezTo>
              </a:path>
              <a:path w="11708" h="4565">
                <a:moveTo>
                  <a:pt x="14883" y="12353"/>
                </a:moveTo>
                <a:cubicBezTo>
                  <a:pt x="14953" y="12376"/>
                  <a:pt x="14936" y="12572"/>
                  <a:pt x="14932" y="12626"/>
                </a:cubicBezTo>
                <a:cubicBezTo>
                  <a:pt x="14925" y="12712"/>
                  <a:pt x="14920" y="12768"/>
                  <a:pt x="14858" y="12799"/>
                </a:cubicBezTo>
              </a:path>
              <a:path w="11708" h="4565">
                <a:moveTo>
                  <a:pt x="15304" y="12328"/>
                </a:moveTo>
                <a:cubicBezTo>
                  <a:pt x="15402" y="12312"/>
                  <a:pt x="15504" y="12292"/>
                  <a:pt x="15602" y="12278"/>
                </a:cubicBezTo>
                <a:cubicBezTo>
                  <a:pt x="15640" y="12335"/>
                  <a:pt x="15521" y="12533"/>
                  <a:pt x="15478" y="12626"/>
                </a:cubicBezTo>
                <a:cubicBezTo>
                  <a:pt x="15442" y="12699"/>
                  <a:pt x="15425" y="12704"/>
                  <a:pt x="15429" y="12750"/>
                </a:cubicBezTo>
              </a:path>
              <a:path w="11708" h="4565">
                <a:moveTo>
                  <a:pt x="14362" y="13022"/>
                </a:moveTo>
                <a:cubicBezTo>
                  <a:pt x="14403" y="13091"/>
                  <a:pt x="14551" y="13281"/>
                  <a:pt x="14511" y="13320"/>
                </a:cubicBezTo>
              </a:path>
              <a:path w="11708" h="4565">
                <a:moveTo>
                  <a:pt x="14957" y="12973"/>
                </a:moveTo>
                <a:cubicBezTo>
                  <a:pt x="14957" y="13070"/>
                  <a:pt x="14868" y="13130"/>
                  <a:pt x="14833" y="13221"/>
                </a:cubicBezTo>
                <a:cubicBezTo>
                  <a:pt x="14812" y="13303"/>
                  <a:pt x="14804" y="13319"/>
                  <a:pt x="14808" y="13370"/>
                </a:cubicBezTo>
                <a:cubicBezTo>
                  <a:pt x="14907" y="13443"/>
                  <a:pt x="15097" y="13440"/>
                  <a:pt x="15180" y="13295"/>
                </a:cubicBezTo>
                <a:cubicBezTo>
                  <a:pt x="15180" y="13237"/>
                  <a:pt x="15180" y="13229"/>
                  <a:pt x="15180" y="13196"/>
                </a:cubicBezTo>
                <a:cubicBezTo>
                  <a:pt x="15088" y="13204"/>
                  <a:pt x="14954" y="13236"/>
                  <a:pt x="14982" y="13370"/>
                </a:cubicBezTo>
                <a:cubicBezTo>
                  <a:pt x="14990" y="13370"/>
                  <a:pt x="14999" y="13370"/>
                  <a:pt x="15007" y="13370"/>
                </a:cubicBezTo>
              </a:path>
              <a:path w="11708" h="4565">
                <a:moveTo>
                  <a:pt x="15602" y="12948"/>
                </a:moveTo>
                <a:cubicBezTo>
                  <a:pt x="15558" y="12963"/>
                  <a:pt x="15306" y="13020"/>
                  <a:pt x="15379" y="13122"/>
                </a:cubicBezTo>
                <a:cubicBezTo>
                  <a:pt x="15434" y="13199"/>
                  <a:pt x="15542" y="13227"/>
                  <a:pt x="15602" y="13295"/>
                </a:cubicBezTo>
                <a:cubicBezTo>
                  <a:pt x="15534" y="13364"/>
                  <a:pt x="15491" y="13385"/>
                  <a:pt x="15404" y="13370"/>
                </a:cubicBezTo>
                <a:cubicBezTo>
                  <a:pt x="15366" y="13258"/>
                  <a:pt x="15505" y="13141"/>
                  <a:pt x="15553" y="13022"/>
                </a:cubicBezTo>
                <a:cubicBezTo>
                  <a:pt x="15553" y="12994"/>
                  <a:pt x="15550" y="12984"/>
                  <a:pt x="15528" y="12973"/>
                </a:cubicBezTo>
              </a:path>
              <a:path w="11708" h="4565">
                <a:moveTo>
                  <a:pt x="14089" y="13742"/>
                </a:moveTo>
                <a:cubicBezTo>
                  <a:pt x="14394" y="13733"/>
                  <a:pt x="14702" y="13718"/>
                  <a:pt x="15007" y="13692"/>
                </a:cubicBezTo>
                <a:cubicBezTo>
                  <a:pt x="15406" y="13659"/>
                  <a:pt x="15797" y="13626"/>
                  <a:pt x="16197" y="13618"/>
                </a:cubicBezTo>
              </a:path>
              <a:path w="11708" h="4565">
                <a:moveTo>
                  <a:pt x="15652" y="13866"/>
                </a:moveTo>
                <a:cubicBezTo>
                  <a:pt x="15619" y="13965"/>
                  <a:pt x="15535" y="14059"/>
                  <a:pt x="15503" y="14163"/>
                </a:cubicBezTo>
                <a:cubicBezTo>
                  <a:pt x="15452" y="14328"/>
                  <a:pt x="15708" y="14281"/>
                  <a:pt x="15776" y="14263"/>
                </a:cubicBezTo>
                <a:cubicBezTo>
                  <a:pt x="15852" y="14243"/>
                  <a:pt x="15978" y="14196"/>
                  <a:pt x="15999" y="14114"/>
                </a:cubicBezTo>
                <a:cubicBezTo>
                  <a:pt x="15881" y="14078"/>
                  <a:pt x="15788" y="14082"/>
                  <a:pt x="15701" y="14188"/>
                </a:cubicBezTo>
                <a:cubicBezTo>
                  <a:pt x="15693" y="14205"/>
                  <a:pt x="15685" y="14221"/>
                  <a:pt x="15677" y="14238"/>
                </a:cubicBezTo>
              </a:path>
              <a:path w="11708" h="4565">
                <a:moveTo>
                  <a:pt x="14709" y="11782"/>
                </a:moveTo>
                <a:cubicBezTo>
                  <a:pt x="14769" y="11782"/>
                  <a:pt x="14609" y="11805"/>
                  <a:pt x="14585" y="11807"/>
                </a:cubicBezTo>
                <a:cubicBezTo>
                  <a:pt x="14548" y="11810"/>
                  <a:pt x="14499" y="11922"/>
                  <a:pt x="14486" y="11956"/>
                </a:cubicBezTo>
                <a:cubicBezTo>
                  <a:pt x="14486" y="11964"/>
                  <a:pt x="14486" y="11973"/>
                  <a:pt x="14486" y="11981"/>
                </a:cubicBezTo>
                <a:cubicBezTo>
                  <a:pt x="14572" y="11981"/>
                  <a:pt x="14648" y="11981"/>
                  <a:pt x="14734" y="12005"/>
                </a:cubicBezTo>
                <a:cubicBezTo>
                  <a:pt x="14751" y="12013"/>
                  <a:pt x="14767" y="12022"/>
                  <a:pt x="14784" y="12030"/>
                </a:cubicBezTo>
                <a:cubicBezTo>
                  <a:pt x="14783" y="12177"/>
                  <a:pt x="14681" y="12169"/>
                  <a:pt x="14536" y="12179"/>
                </a:cubicBezTo>
              </a:path>
              <a:path w="11708" h="4565">
                <a:moveTo>
                  <a:pt x="14412" y="14139"/>
                </a:moveTo>
                <a:cubicBezTo>
                  <a:pt x="14412" y="14131"/>
                  <a:pt x="14412" y="14122"/>
                  <a:pt x="14412" y="14114"/>
                </a:cubicBezTo>
                <a:cubicBezTo>
                  <a:pt x="14498" y="14157"/>
                  <a:pt x="14461" y="14324"/>
                  <a:pt x="14461" y="14412"/>
                </a:cubicBezTo>
                <a:cubicBezTo>
                  <a:pt x="14461" y="14470"/>
                  <a:pt x="14461" y="14478"/>
                  <a:pt x="14461" y="14511"/>
                </a:cubicBezTo>
              </a:path>
              <a:path w="11708" h="4565">
                <a:moveTo>
                  <a:pt x="14784" y="14039"/>
                </a:moveTo>
                <a:cubicBezTo>
                  <a:pt x="14827" y="13953"/>
                  <a:pt x="14980" y="13929"/>
                  <a:pt x="15081" y="13940"/>
                </a:cubicBezTo>
                <a:cubicBezTo>
                  <a:pt x="15098" y="13948"/>
                  <a:pt x="15114" y="13957"/>
                  <a:pt x="15131" y="13965"/>
                </a:cubicBezTo>
                <a:cubicBezTo>
                  <a:pt x="15075" y="14070"/>
                  <a:pt x="15026" y="14149"/>
                  <a:pt x="14908" y="14188"/>
                </a:cubicBezTo>
                <a:cubicBezTo>
                  <a:pt x="15017" y="14147"/>
                  <a:pt x="15083" y="14159"/>
                  <a:pt x="15180" y="14213"/>
                </a:cubicBezTo>
                <a:cubicBezTo>
                  <a:pt x="15125" y="14421"/>
                  <a:pt x="14983" y="14450"/>
                  <a:pt x="14759" y="14412"/>
                </a:cubicBezTo>
                <a:cubicBezTo>
                  <a:pt x="14742" y="14404"/>
                  <a:pt x="14726" y="14395"/>
                  <a:pt x="14709" y="14387"/>
                </a:cubicBezTo>
              </a:path>
              <a:path w="11708" h="4565">
                <a:moveTo>
                  <a:pt x="15726" y="14536"/>
                </a:moveTo>
                <a:cubicBezTo>
                  <a:pt x="15740" y="14536"/>
                  <a:pt x="15649" y="14549"/>
                  <a:pt x="15602" y="14610"/>
                </a:cubicBezTo>
                <a:cubicBezTo>
                  <a:pt x="15558" y="14666"/>
                  <a:pt x="15460" y="14752"/>
                  <a:pt x="15478" y="14833"/>
                </a:cubicBezTo>
                <a:cubicBezTo>
                  <a:pt x="15495" y="14907"/>
                  <a:pt x="15658" y="14950"/>
                  <a:pt x="15726" y="14957"/>
                </a:cubicBezTo>
                <a:cubicBezTo>
                  <a:pt x="15859" y="14971"/>
                  <a:pt x="15895" y="14941"/>
                  <a:pt x="15974" y="14883"/>
                </a:cubicBezTo>
                <a:cubicBezTo>
                  <a:pt x="16041" y="14834"/>
                  <a:pt x="16037" y="14805"/>
                  <a:pt x="15999" y="14734"/>
                </a:cubicBezTo>
                <a:cubicBezTo>
                  <a:pt x="15954" y="14649"/>
                  <a:pt x="15921" y="14699"/>
                  <a:pt x="15850" y="14635"/>
                </a:cubicBezTo>
                <a:cubicBezTo>
                  <a:pt x="15819" y="14608"/>
                  <a:pt x="15808" y="14590"/>
                  <a:pt x="15751" y="14585"/>
                </a:cubicBezTo>
                <a:cubicBezTo>
                  <a:pt x="15715" y="14582"/>
                  <a:pt x="15687" y="14567"/>
                  <a:pt x="15652" y="14560"/>
                </a:cubicBezTo>
              </a:path>
              <a:path w="11708" h="4565">
                <a:moveTo>
                  <a:pt x="14808" y="14734"/>
                </a:moveTo>
                <a:cubicBezTo>
                  <a:pt x="14870" y="14692"/>
                  <a:pt x="14958" y="14647"/>
                  <a:pt x="15032" y="14635"/>
                </a:cubicBezTo>
                <a:cubicBezTo>
                  <a:pt x="15040" y="14635"/>
                  <a:pt x="15048" y="14635"/>
                  <a:pt x="15056" y="14635"/>
                </a:cubicBezTo>
                <a:cubicBezTo>
                  <a:pt x="15071" y="14857"/>
                  <a:pt x="14937" y="14966"/>
                  <a:pt x="14784" y="15131"/>
                </a:cubicBezTo>
                <a:cubicBezTo>
                  <a:pt x="14776" y="15139"/>
                  <a:pt x="14767" y="15148"/>
                  <a:pt x="14759" y="15156"/>
                </a:cubicBezTo>
                <a:cubicBezTo>
                  <a:pt x="14838" y="15136"/>
                  <a:pt x="14917" y="15078"/>
                  <a:pt x="15007" y="15056"/>
                </a:cubicBezTo>
                <a:cubicBezTo>
                  <a:pt x="15109" y="15032"/>
                  <a:pt x="15201" y="15032"/>
                  <a:pt x="15304" y="15032"/>
                </a:cubicBezTo>
              </a:path>
              <a:path w="11708" h="4565">
                <a:moveTo>
                  <a:pt x="14585" y="11782"/>
                </a:moveTo>
                <a:cubicBezTo>
                  <a:pt x="14585" y="11719"/>
                  <a:pt x="14572" y="11658"/>
                  <a:pt x="14610" y="11609"/>
                </a:cubicBezTo>
                <a:cubicBezTo>
                  <a:pt x="14610" y="11717"/>
                  <a:pt x="14537" y="11800"/>
                  <a:pt x="14536" y="11906"/>
                </a:cubicBezTo>
                <a:cubicBezTo>
                  <a:pt x="14536" y="11947"/>
                  <a:pt x="14773" y="11908"/>
                  <a:pt x="14808" y="11906"/>
                </a:cubicBezTo>
                <a:cubicBezTo>
                  <a:pt x="14890" y="11902"/>
                  <a:pt x="14834" y="11750"/>
                  <a:pt x="14858" y="11658"/>
                </a:cubicBezTo>
                <a:cubicBezTo>
                  <a:pt x="14875" y="11617"/>
                  <a:pt x="14891" y="11575"/>
                  <a:pt x="14908" y="11534"/>
                </a:cubicBezTo>
                <a:cubicBezTo>
                  <a:pt x="14860" y="11486"/>
                  <a:pt x="14817" y="11865"/>
                  <a:pt x="14808" y="11906"/>
                </a:cubicBezTo>
                <a:cubicBezTo>
                  <a:pt x="14783" y="12014"/>
                  <a:pt x="14784" y="12080"/>
                  <a:pt x="14734" y="12179"/>
                </a:cubicBezTo>
                <a:cubicBezTo>
                  <a:pt x="14734" y="12109"/>
                  <a:pt x="14763" y="12019"/>
                  <a:pt x="14759" y="11956"/>
                </a:cubicBezTo>
                <a:cubicBezTo>
                  <a:pt x="14752" y="11839"/>
                  <a:pt x="14759" y="11730"/>
                  <a:pt x="14759" y="11609"/>
                </a:cubicBezTo>
              </a:path>
              <a:path w="11708" h="4565">
                <a:moveTo>
                  <a:pt x="13940" y="14759"/>
                </a:moveTo>
                <a:cubicBezTo>
                  <a:pt x="13933" y="14890"/>
                  <a:pt x="13837" y="15115"/>
                  <a:pt x="13866" y="15230"/>
                </a:cubicBezTo>
                <a:cubicBezTo>
                  <a:pt x="13965" y="15230"/>
                  <a:pt x="14033" y="15185"/>
                  <a:pt x="14089" y="15081"/>
                </a:cubicBezTo>
              </a:path>
              <a:path w="11708" h="4565">
                <a:moveTo>
                  <a:pt x="14362" y="14784"/>
                </a:moveTo>
                <a:cubicBezTo>
                  <a:pt x="14285" y="14916"/>
                  <a:pt x="14076" y="15194"/>
                  <a:pt x="14412" y="15156"/>
                </a:cubicBezTo>
                <a:cubicBezTo>
                  <a:pt x="14533" y="15107"/>
                  <a:pt x="14572" y="15093"/>
                  <a:pt x="14610" y="15007"/>
                </a:cubicBezTo>
                <a:cubicBezTo>
                  <a:pt x="14518" y="14841"/>
                  <a:pt x="14543" y="14833"/>
                  <a:pt x="14362" y="14833"/>
                </a:cubicBezTo>
              </a:path>
              <a:path w="11708" h="4565">
                <a:moveTo>
                  <a:pt x="13444" y="14883"/>
                </a:moveTo>
                <a:cubicBezTo>
                  <a:pt x="13444" y="14963"/>
                  <a:pt x="13439" y="15032"/>
                  <a:pt x="13419" y="15106"/>
                </a:cubicBezTo>
              </a:path>
              <a:path w="11708" h="4565">
                <a:moveTo>
                  <a:pt x="13246" y="15503"/>
                </a:moveTo>
                <a:cubicBezTo>
                  <a:pt x="13871" y="15385"/>
                  <a:pt x="14499" y="15304"/>
                  <a:pt x="15131" y="15230"/>
                </a:cubicBezTo>
                <a:cubicBezTo>
                  <a:pt x="15427" y="15195"/>
                  <a:pt x="15728" y="15154"/>
                  <a:pt x="16024" y="15131"/>
                </a:cubicBezTo>
              </a:path>
              <a:path w="11708" h="4565">
                <a:moveTo>
                  <a:pt x="15751" y="15379"/>
                </a:moveTo>
                <a:cubicBezTo>
                  <a:pt x="15792" y="15298"/>
                  <a:pt x="15631" y="15547"/>
                  <a:pt x="15627" y="15553"/>
                </a:cubicBezTo>
                <a:cubicBezTo>
                  <a:pt x="15580" y="15670"/>
                  <a:pt x="15567" y="15704"/>
                  <a:pt x="15528" y="15776"/>
                </a:cubicBezTo>
                <a:cubicBezTo>
                  <a:pt x="15671" y="15848"/>
                  <a:pt x="15814" y="15867"/>
                  <a:pt x="15974" y="15801"/>
                </a:cubicBezTo>
                <a:cubicBezTo>
                  <a:pt x="16067" y="15762"/>
                  <a:pt x="16103" y="15706"/>
                  <a:pt x="16123" y="15627"/>
                </a:cubicBezTo>
                <a:cubicBezTo>
                  <a:pt x="16018" y="15627"/>
                  <a:pt x="15925" y="15643"/>
                  <a:pt x="15850" y="15726"/>
                </a:cubicBezTo>
                <a:cubicBezTo>
                  <a:pt x="15850" y="15734"/>
                  <a:pt x="15850" y="15743"/>
                  <a:pt x="15850" y="15751"/>
                </a:cubicBezTo>
              </a:path>
              <a:path w="11708" h="4565">
                <a:moveTo>
                  <a:pt x="15205" y="15553"/>
                </a:moveTo>
                <a:cubicBezTo>
                  <a:pt x="15297" y="15530"/>
                  <a:pt x="15223" y="15538"/>
                  <a:pt x="15156" y="15553"/>
                </a:cubicBezTo>
                <a:cubicBezTo>
                  <a:pt x="15077" y="15571"/>
                  <a:pt x="14957" y="15540"/>
                  <a:pt x="14957" y="15627"/>
                </a:cubicBezTo>
                <a:cubicBezTo>
                  <a:pt x="14957" y="15691"/>
                  <a:pt x="14943" y="15719"/>
                  <a:pt x="14932" y="15776"/>
                </a:cubicBezTo>
                <a:cubicBezTo>
                  <a:pt x="15071" y="15766"/>
                  <a:pt x="15201" y="15737"/>
                  <a:pt x="15329" y="15776"/>
                </a:cubicBezTo>
                <a:cubicBezTo>
                  <a:pt x="15213" y="15978"/>
                  <a:pt x="15066" y="15941"/>
                  <a:pt x="14833" y="15925"/>
                </a:cubicBezTo>
              </a:path>
              <a:path w="11708" h="4565">
                <a:moveTo>
                  <a:pt x="14461" y="15776"/>
                </a:moveTo>
                <a:cubicBezTo>
                  <a:pt x="14461" y="15751"/>
                  <a:pt x="14461" y="15743"/>
                  <a:pt x="14461" y="15726"/>
                </a:cubicBezTo>
                <a:cubicBezTo>
                  <a:pt x="14444" y="15826"/>
                  <a:pt x="14417" y="15920"/>
                  <a:pt x="14412" y="16024"/>
                </a:cubicBezTo>
                <a:cubicBezTo>
                  <a:pt x="14412" y="16032"/>
                  <a:pt x="14412" y="16041"/>
                  <a:pt x="14412" y="16049"/>
                </a:cubicBezTo>
              </a:path>
              <a:path w="11708" h="4565">
                <a:moveTo>
                  <a:pt x="14015" y="15751"/>
                </a:moveTo>
                <a:cubicBezTo>
                  <a:pt x="14015" y="15640"/>
                  <a:pt x="13988" y="15916"/>
                  <a:pt x="13965" y="16024"/>
                </a:cubicBezTo>
                <a:cubicBezTo>
                  <a:pt x="13957" y="16040"/>
                  <a:pt x="13948" y="16057"/>
                  <a:pt x="13940" y="16073"/>
                </a:cubicBezTo>
              </a:path>
              <a:path w="11708" h="4565">
                <a:moveTo>
                  <a:pt x="6772" y="14064"/>
                </a:moveTo>
                <a:cubicBezTo>
                  <a:pt x="6772" y="14214"/>
                  <a:pt x="6750" y="14360"/>
                  <a:pt x="6747" y="14511"/>
                </a:cubicBezTo>
                <a:cubicBezTo>
                  <a:pt x="6747" y="14544"/>
                  <a:pt x="6747" y="14577"/>
                  <a:pt x="6747" y="14610"/>
                </a:cubicBezTo>
              </a:path>
              <a:path w="11708" h="4565">
                <a:moveTo>
                  <a:pt x="7069" y="14015"/>
                </a:moveTo>
                <a:cubicBezTo>
                  <a:pt x="7133" y="14156"/>
                  <a:pt x="7103" y="14281"/>
                  <a:pt x="7094" y="14436"/>
                </a:cubicBezTo>
              </a:path>
              <a:path w="11708" h="4565">
                <a:moveTo>
                  <a:pt x="7615" y="13940"/>
                </a:moveTo>
                <a:cubicBezTo>
                  <a:pt x="7555" y="13950"/>
                  <a:pt x="7500" y="13984"/>
                  <a:pt x="7441" y="13990"/>
                </a:cubicBezTo>
                <a:cubicBezTo>
                  <a:pt x="7390" y="13995"/>
                  <a:pt x="7382" y="14094"/>
                  <a:pt x="7367" y="14139"/>
                </a:cubicBezTo>
                <a:cubicBezTo>
                  <a:pt x="7433" y="14187"/>
                  <a:pt x="7533" y="14163"/>
                  <a:pt x="7615" y="14163"/>
                </a:cubicBezTo>
                <a:cubicBezTo>
                  <a:pt x="7773" y="14163"/>
                  <a:pt x="7645" y="14367"/>
                  <a:pt x="7565" y="14387"/>
                </a:cubicBezTo>
                <a:cubicBezTo>
                  <a:pt x="7426" y="14422"/>
                  <a:pt x="7379" y="14376"/>
                  <a:pt x="7317" y="14288"/>
                </a:cubicBezTo>
              </a:path>
              <a:path w="11708" h="4565">
                <a:moveTo>
                  <a:pt x="7838" y="13866"/>
                </a:moveTo>
                <a:cubicBezTo>
                  <a:pt x="7826" y="13991"/>
                  <a:pt x="7759" y="14140"/>
                  <a:pt x="7764" y="14263"/>
                </a:cubicBezTo>
                <a:cubicBezTo>
                  <a:pt x="7772" y="14279"/>
                  <a:pt x="7781" y="14296"/>
                  <a:pt x="7789" y="14312"/>
                </a:cubicBezTo>
                <a:cubicBezTo>
                  <a:pt x="7951" y="14350"/>
                  <a:pt x="8079" y="14333"/>
                  <a:pt x="8210" y="14213"/>
                </a:cubicBezTo>
                <a:cubicBezTo>
                  <a:pt x="8218" y="14196"/>
                  <a:pt x="8227" y="14180"/>
                  <a:pt x="8235" y="14163"/>
                </a:cubicBezTo>
                <a:cubicBezTo>
                  <a:pt x="8219" y="14070"/>
                  <a:pt x="8134" y="14107"/>
                  <a:pt x="8062" y="14163"/>
                </a:cubicBezTo>
                <a:cubicBezTo>
                  <a:pt x="7977" y="14229"/>
                  <a:pt x="7987" y="14229"/>
                  <a:pt x="7987" y="14312"/>
                </a:cubicBezTo>
              </a:path>
              <a:path w="11708" h="4565">
                <a:moveTo>
                  <a:pt x="6524" y="14734"/>
                </a:moveTo>
                <a:cubicBezTo>
                  <a:pt x="6687" y="14734"/>
                  <a:pt x="6857" y="14683"/>
                  <a:pt x="7020" y="14660"/>
                </a:cubicBezTo>
                <a:cubicBezTo>
                  <a:pt x="7394" y="14607"/>
                  <a:pt x="7760" y="14525"/>
                  <a:pt x="8136" y="14486"/>
                </a:cubicBezTo>
                <a:cubicBezTo>
                  <a:pt x="8161" y="14486"/>
                  <a:pt x="8169" y="14486"/>
                  <a:pt x="8186" y="14486"/>
                </a:cubicBezTo>
              </a:path>
              <a:path w="11708" h="4565">
                <a:moveTo>
                  <a:pt x="6970" y="14858"/>
                </a:moveTo>
                <a:cubicBezTo>
                  <a:pt x="7050" y="14812"/>
                  <a:pt x="7100" y="14814"/>
                  <a:pt x="7193" y="14808"/>
                </a:cubicBezTo>
                <a:cubicBezTo>
                  <a:pt x="7250" y="15035"/>
                  <a:pt x="7149" y="15173"/>
                  <a:pt x="6896" y="15230"/>
                </a:cubicBezTo>
                <a:cubicBezTo>
                  <a:pt x="6787" y="15230"/>
                  <a:pt x="6751" y="15244"/>
                  <a:pt x="6747" y="15156"/>
                </a:cubicBezTo>
                <a:cubicBezTo>
                  <a:pt x="6851" y="15052"/>
                  <a:pt x="6937" y="15070"/>
                  <a:pt x="7069" y="15131"/>
                </a:cubicBezTo>
                <a:cubicBezTo>
                  <a:pt x="7109" y="15151"/>
                  <a:pt x="7126" y="15149"/>
                  <a:pt x="7119" y="15180"/>
                </a:cubicBezTo>
              </a:path>
              <a:path w="11708" h="4565">
                <a:moveTo>
                  <a:pt x="7417" y="14759"/>
                </a:moveTo>
                <a:cubicBezTo>
                  <a:pt x="7470" y="14831"/>
                  <a:pt x="7451" y="14996"/>
                  <a:pt x="7441" y="15081"/>
                </a:cubicBezTo>
                <a:cubicBezTo>
                  <a:pt x="7433" y="15114"/>
                  <a:pt x="7425" y="15147"/>
                  <a:pt x="7417" y="15180"/>
                </a:cubicBezTo>
              </a:path>
              <a:path w="11708" h="4565">
                <a:moveTo>
                  <a:pt x="8384" y="14585"/>
                </a:moveTo>
                <a:cubicBezTo>
                  <a:pt x="8473" y="14603"/>
                  <a:pt x="8447" y="14601"/>
                  <a:pt x="8558" y="14585"/>
                </a:cubicBezTo>
              </a:path>
              <a:path w="11708" h="4565">
                <a:moveTo>
                  <a:pt x="9426" y="14536"/>
                </a:moveTo>
                <a:cubicBezTo>
                  <a:pt x="9441" y="14474"/>
                  <a:pt x="9455" y="14489"/>
                  <a:pt x="9525" y="14461"/>
                </a:cubicBezTo>
                <a:cubicBezTo>
                  <a:pt x="9666" y="14682"/>
                  <a:pt x="9501" y="14828"/>
                  <a:pt x="9277" y="14932"/>
                </a:cubicBezTo>
                <a:cubicBezTo>
                  <a:pt x="9129" y="14969"/>
                  <a:pt x="9114" y="14986"/>
                  <a:pt x="9029" y="14982"/>
                </a:cubicBezTo>
                <a:cubicBezTo>
                  <a:pt x="9103" y="14902"/>
                  <a:pt x="9227" y="14749"/>
                  <a:pt x="9351" y="14858"/>
                </a:cubicBezTo>
                <a:cubicBezTo>
                  <a:pt x="9371" y="14898"/>
                  <a:pt x="9380" y="14905"/>
                  <a:pt x="9376" y="14932"/>
                </a:cubicBezTo>
              </a:path>
              <a:path w="11708" h="4565">
                <a:moveTo>
                  <a:pt x="9699" y="14412"/>
                </a:moveTo>
                <a:cubicBezTo>
                  <a:pt x="9699" y="14590"/>
                  <a:pt x="9702" y="14758"/>
                  <a:pt x="9674" y="14932"/>
                </a:cubicBezTo>
              </a:path>
              <a:path w="11708" h="4565">
                <a:moveTo>
                  <a:pt x="9847" y="14932"/>
                </a:moveTo>
                <a:cubicBezTo>
                  <a:pt x="9998" y="14768"/>
                  <a:pt x="9932" y="14604"/>
                  <a:pt x="9872" y="14387"/>
                </a:cubicBezTo>
                <a:cubicBezTo>
                  <a:pt x="9832" y="14264"/>
                  <a:pt x="9815" y="14242"/>
                  <a:pt x="9823" y="14163"/>
                </a:cubicBezTo>
                <a:cubicBezTo>
                  <a:pt x="10165" y="14111"/>
                  <a:pt x="10516" y="14087"/>
                  <a:pt x="10864" y="14064"/>
                </a:cubicBezTo>
                <a:cubicBezTo>
                  <a:pt x="10924" y="14060"/>
                  <a:pt x="11422" y="14024"/>
                  <a:pt x="11509" y="14039"/>
                </a:cubicBezTo>
              </a:path>
              <a:path w="11708" h="4565">
                <a:moveTo>
                  <a:pt x="10195" y="14362"/>
                </a:moveTo>
                <a:cubicBezTo>
                  <a:pt x="10223" y="14511"/>
                  <a:pt x="10209" y="14635"/>
                  <a:pt x="10195" y="14784"/>
                </a:cubicBezTo>
              </a:path>
              <a:path w="11708" h="4565">
                <a:moveTo>
                  <a:pt x="10468" y="14238"/>
                </a:moveTo>
                <a:cubicBezTo>
                  <a:pt x="10468" y="14379"/>
                  <a:pt x="10488" y="14518"/>
                  <a:pt x="10492" y="14660"/>
                </a:cubicBezTo>
                <a:cubicBezTo>
                  <a:pt x="10492" y="14669"/>
                  <a:pt x="10492" y="14814"/>
                  <a:pt x="10492" y="14684"/>
                </a:cubicBezTo>
              </a:path>
              <a:path w="11708" h="4565">
                <a:moveTo>
                  <a:pt x="10815" y="14288"/>
                </a:moveTo>
                <a:cubicBezTo>
                  <a:pt x="10760" y="14318"/>
                  <a:pt x="10720" y="14355"/>
                  <a:pt x="10691" y="14412"/>
                </a:cubicBezTo>
                <a:cubicBezTo>
                  <a:pt x="10683" y="14437"/>
                  <a:pt x="10674" y="14461"/>
                  <a:pt x="10666" y="14486"/>
                </a:cubicBezTo>
                <a:cubicBezTo>
                  <a:pt x="10712" y="14555"/>
                  <a:pt x="10870" y="14457"/>
                  <a:pt x="10964" y="14486"/>
                </a:cubicBezTo>
                <a:cubicBezTo>
                  <a:pt x="11196" y="14556"/>
                  <a:pt x="10904" y="14766"/>
                  <a:pt x="10815" y="14784"/>
                </a:cubicBezTo>
                <a:cubicBezTo>
                  <a:pt x="10678" y="14784"/>
                  <a:pt x="10634" y="14795"/>
                  <a:pt x="10616" y="14684"/>
                </a:cubicBezTo>
              </a:path>
              <a:path w="11708" h="4565">
                <a:moveTo>
                  <a:pt x="11212" y="14188"/>
                </a:moveTo>
                <a:cubicBezTo>
                  <a:pt x="11232" y="14331"/>
                  <a:pt x="11193" y="14462"/>
                  <a:pt x="11187" y="14610"/>
                </a:cubicBezTo>
                <a:cubicBezTo>
                  <a:pt x="11181" y="14777"/>
                  <a:pt x="11490" y="14656"/>
                  <a:pt x="11559" y="14610"/>
                </a:cubicBezTo>
                <a:cubicBezTo>
                  <a:pt x="11620" y="14549"/>
                  <a:pt x="11645" y="14542"/>
                  <a:pt x="11633" y="14486"/>
                </a:cubicBezTo>
                <a:cubicBezTo>
                  <a:pt x="11484" y="14501"/>
                  <a:pt x="11466" y="14539"/>
                  <a:pt x="11385" y="14660"/>
                </a:cubicBezTo>
              </a:path>
              <a:path w="11708" h="4565">
                <a:moveTo>
                  <a:pt x="10964" y="13543"/>
                </a:moveTo>
                <a:cubicBezTo>
                  <a:pt x="10886" y="13556"/>
                  <a:pt x="10809" y="13595"/>
                  <a:pt x="10740" y="13618"/>
                </a:cubicBezTo>
                <a:cubicBezTo>
                  <a:pt x="10650" y="13649"/>
                  <a:pt x="10728" y="13604"/>
                  <a:pt x="10666" y="13742"/>
                </a:cubicBezTo>
                <a:cubicBezTo>
                  <a:pt x="10644" y="13764"/>
                  <a:pt x="10635" y="13769"/>
                  <a:pt x="10641" y="13791"/>
                </a:cubicBezTo>
                <a:cubicBezTo>
                  <a:pt x="10718" y="13791"/>
                  <a:pt x="10785" y="13770"/>
                  <a:pt x="10864" y="13767"/>
                </a:cubicBezTo>
                <a:cubicBezTo>
                  <a:pt x="10918" y="13765"/>
                  <a:pt x="11045" y="13849"/>
                  <a:pt x="10988" y="13915"/>
                </a:cubicBezTo>
                <a:cubicBezTo>
                  <a:pt x="10925" y="13986"/>
                  <a:pt x="10826" y="13990"/>
                  <a:pt x="10740" y="13990"/>
                </a:cubicBezTo>
              </a:path>
              <a:path w="11708" h="4565">
                <a:moveTo>
                  <a:pt x="10195" y="15081"/>
                </a:moveTo>
                <a:cubicBezTo>
                  <a:pt x="10210" y="15198"/>
                  <a:pt x="10210" y="15262"/>
                  <a:pt x="10195" y="15379"/>
                </a:cubicBezTo>
              </a:path>
              <a:path w="11708" h="4565">
                <a:moveTo>
                  <a:pt x="10443" y="15106"/>
                </a:moveTo>
                <a:cubicBezTo>
                  <a:pt x="10423" y="15205"/>
                  <a:pt x="10415" y="15221"/>
                  <a:pt x="10418" y="15280"/>
                </a:cubicBezTo>
                <a:cubicBezTo>
                  <a:pt x="10480" y="15280"/>
                  <a:pt x="10647" y="15309"/>
                  <a:pt x="10616" y="15180"/>
                </a:cubicBezTo>
                <a:cubicBezTo>
                  <a:pt x="10587" y="15058"/>
                  <a:pt x="10562" y="15142"/>
                  <a:pt x="10542" y="15081"/>
                </a:cubicBezTo>
              </a:path>
              <a:path w="11708" h="4565">
                <a:moveTo>
                  <a:pt x="10914" y="14908"/>
                </a:moveTo>
                <a:cubicBezTo>
                  <a:pt x="10895" y="14944"/>
                  <a:pt x="10831" y="14958"/>
                  <a:pt x="10815" y="14982"/>
                </a:cubicBezTo>
                <a:cubicBezTo>
                  <a:pt x="10815" y="14990"/>
                  <a:pt x="10815" y="14999"/>
                  <a:pt x="10815" y="15007"/>
                </a:cubicBezTo>
                <a:cubicBezTo>
                  <a:pt x="10833" y="15061"/>
                  <a:pt x="10927" y="15051"/>
                  <a:pt x="10988" y="15056"/>
                </a:cubicBezTo>
                <a:cubicBezTo>
                  <a:pt x="10988" y="15168"/>
                  <a:pt x="10986" y="15236"/>
                  <a:pt x="10840" y="15230"/>
                </a:cubicBezTo>
                <a:cubicBezTo>
                  <a:pt x="10823" y="15222"/>
                  <a:pt x="10807" y="15213"/>
                  <a:pt x="10790" y="15205"/>
                </a:cubicBezTo>
              </a:path>
              <a:path w="11708" h="4565">
                <a:moveTo>
                  <a:pt x="10964" y="14883"/>
                </a:moveTo>
                <a:cubicBezTo>
                  <a:pt x="11030" y="14871"/>
                  <a:pt x="11179" y="14858"/>
                  <a:pt x="11112" y="14858"/>
                </a:cubicBezTo>
              </a:path>
              <a:path w="11708" h="4565">
                <a:moveTo>
                  <a:pt x="9847" y="15577"/>
                </a:moveTo>
                <a:cubicBezTo>
                  <a:pt x="10220" y="15535"/>
                  <a:pt x="10592" y="15463"/>
                  <a:pt x="10964" y="15429"/>
                </a:cubicBezTo>
                <a:cubicBezTo>
                  <a:pt x="11032" y="15423"/>
                  <a:pt x="11114" y="15429"/>
                  <a:pt x="11187" y="15429"/>
                </a:cubicBezTo>
              </a:path>
              <a:path w="11708" h="4565">
                <a:moveTo>
                  <a:pt x="10542" y="15627"/>
                </a:moveTo>
                <a:cubicBezTo>
                  <a:pt x="10542" y="15726"/>
                  <a:pt x="10549" y="15798"/>
                  <a:pt x="10542" y="15900"/>
                </a:cubicBezTo>
                <a:cubicBezTo>
                  <a:pt x="10542" y="15916"/>
                  <a:pt x="10542" y="15933"/>
                  <a:pt x="10542" y="15949"/>
                </a:cubicBezTo>
              </a:path>
              <a:path w="11708" h="4565">
                <a:moveTo>
                  <a:pt x="10988" y="15652"/>
                </a:moveTo>
                <a:cubicBezTo>
                  <a:pt x="10943" y="15716"/>
                  <a:pt x="10917" y="15778"/>
                  <a:pt x="10889" y="15850"/>
                </a:cubicBezTo>
                <a:cubicBezTo>
                  <a:pt x="10980" y="15889"/>
                  <a:pt x="11185" y="15906"/>
                  <a:pt x="11237" y="15776"/>
                </a:cubicBezTo>
                <a:cubicBezTo>
                  <a:pt x="11276" y="15678"/>
                  <a:pt x="11088" y="15667"/>
                  <a:pt x="11038" y="15652"/>
                </a:cubicBezTo>
              </a:path>
              <a:path w="11708" h="4565">
                <a:moveTo>
                  <a:pt x="11336" y="14932"/>
                </a:moveTo>
                <a:cubicBezTo>
                  <a:pt x="11360" y="14910"/>
                  <a:pt x="11405" y="15113"/>
                  <a:pt x="11410" y="15156"/>
                </a:cubicBezTo>
                <a:cubicBezTo>
                  <a:pt x="11410" y="15257"/>
                  <a:pt x="11400" y="15278"/>
                  <a:pt x="11435" y="15329"/>
                </a:cubicBezTo>
              </a:path>
              <a:path w="11708" h="4565">
                <a:moveTo>
                  <a:pt x="11311" y="15255"/>
                </a:moveTo>
                <a:cubicBezTo>
                  <a:pt x="11344" y="15296"/>
                  <a:pt x="11426" y="15343"/>
                  <a:pt x="11485" y="15379"/>
                </a:cubicBezTo>
                <a:cubicBezTo>
                  <a:pt x="11518" y="15313"/>
                  <a:pt x="11562" y="15153"/>
                  <a:pt x="11609" y="15131"/>
                </a:cubicBezTo>
                <a:cubicBezTo>
                  <a:pt x="11634" y="15123"/>
                  <a:pt x="11658" y="15114"/>
                  <a:pt x="11683" y="15106"/>
                </a:cubicBezTo>
              </a:path>
              <a:path w="11708" h="4565">
                <a:moveTo>
                  <a:pt x="11460" y="15528"/>
                </a:moveTo>
                <a:cubicBezTo>
                  <a:pt x="11460" y="15606"/>
                  <a:pt x="11425" y="15674"/>
                  <a:pt x="11410" y="15751"/>
                </a:cubicBezTo>
                <a:cubicBezTo>
                  <a:pt x="11390" y="15852"/>
                  <a:pt x="11470" y="15848"/>
                  <a:pt x="11534" y="15850"/>
                </a:cubicBezTo>
                <a:cubicBezTo>
                  <a:pt x="11644" y="15853"/>
                  <a:pt x="11694" y="15853"/>
                  <a:pt x="11782" y="15801"/>
                </a:cubicBezTo>
                <a:cubicBezTo>
                  <a:pt x="11799" y="15793"/>
                  <a:pt x="11815" y="15784"/>
                  <a:pt x="11832" y="15776"/>
                </a:cubicBezTo>
                <a:cubicBezTo>
                  <a:pt x="11818" y="15733"/>
                  <a:pt x="11762" y="15730"/>
                  <a:pt x="11708" y="15726"/>
                </a:cubicBezTo>
                <a:cubicBezTo>
                  <a:pt x="11640" y="15721"/>
                  <a:pt x="11639" y="15803"/>
                  <a:pt x="11633" y="15850"/>
                </a:cubicBezTo>
              </a:path>
              <a:path w="11708" h="4565">
                <a:moveTo>
                  <a:pt x="11435" y="13444"/>
                </a:moveTo>
                <a:cubicBezTo>
                  <a:pt x="11481" y="13444"/>
                  <a:pt x="11299" y="13485"/>
                  <a:pt x="11261" y="13494"/>
                </a:cubicBezTo>
                <a:cubicBezTo>
                  <a:pt x="11223" y="13503"/>
                  <a:pt x="11200" y="13570"/>
                  <a:pt x="11187" y="13618"/>
                </a:cubicBezTo>
                <a:cubicBezTo>
                  <a:pt x="11187" y="13626"/>
                  <a:pt x="11187" y="13635"/>
                  <a:pt x="11187" y="13643"/>
                </a:cubicBezTo>
                <a:cubicBezTo>
                  <a:pt x="11273" y="13643"/>
                  <a:pt x="11344" y="13589"/>
                  <a:pt x="11435" y="13618"/>
                </a:cubicBezTo>
                <a:cubicBezTo>
                  <a:pt x="11620" y="13677"/>
                  <a:pt x="11428" y="13825"/>
                  <a:pt x="11336" y="13841"/>
                </a:cubicBezTo>
                <a:cubicBezTo>
                  <a:pt x="11258" y="13841"/>
                  <a:pt x="11240" y="13856"/>
                  <a:pt x="11212" y="13816"/>
                </a:cubicBezTo>
              </a:path>
              <a:path w="11708" h="4565">
                <a:moveTo>
                  <a:pt x="12080" y="12898"/>
                </a:moveTo>
                <a:cubicBezTo>
                  <a:pt x="12106" y="12990"/>
                  <a:pt x="12129" y="13075"/>
                  <a:pt x="12129" y="13171"/>
                </a:cubicBezTo>
                <a:cubicBezTo>
                  <a:pt x="12129" y="13179"/>
                  <a:pt x="12129" y="13188"/>
                  <a:pt x="12129" y="13196"/>
                </a:cubicBezTo>
              </a:path>
              <a:path w="11708" h="4565">
                <a:moveTo>
                  <a:pt x="11857" y="13444"/>
                </a:moveTo>
                <a:cubicBezTo>
                  <a:pt x="12067" y="13396"/>
                  <a:pt x="12271" y="13329"/>
                  <a:pt x="12477" y="13271"/>
                </a:cubicBezTo>
                <a:cubicBezTo>
                  <a:pt x="12485" y="13271"/>
                  <a:pt x="12494" y="13271"/>
                  <a:pt x="12502" y="13271"/>
                </a:cubicBezTo>
              </a:path>
              <a:path w="11708" h="4565">
                <a:moveTo>
                  <a:pt x="12080" y="13543"/>
                </a:moveTo>
                <a:cubicBezTo>
                  <a:pt x="12161" y="13519"/>
                  <a:pt x="12149" y="13504"/>
                  <a:pt x="12204" y="13543"/>
                </a:cubicBezTo>
                <a:cubicBezTo>
                  <a:pt x="12219" y="13692"/>
                  <a:pt x="12126" y="13748"/>
                  <a:pt x="12005" y="13841"/>
                </a:cubicBezTo>
                <a:cubicBezTo>
                  <a:pt x="12025" y="13901"/>
                  <a:pt x="12223" y="13836"/>
                  <a:pt x="12278" y="13816"/>
                </a:cubicBezTo>
                <a:cubicBezTo>
                  <a:pt x="12286" y="13808"/>
                  <a:pt x="12295" y="13799"/>
                  <a:pt x="12303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16080" y="1973160"/>
            <a:ext cx="635040" cy="777960"/>
          </a:xfrm>
          <a:custGeom>
            <a:avLst/>
            <a:gdLst/>
            <a:ahLst/>
            <a:rect l="l" t="t" r="r" b="b"/>
            <a:pathLst>
              <a:path w="1762" h="2159">
                <a:moveTo>
                  <a:pt x="6548" y="6028"/>
                </a:moveTo>
                <a:cubicBezTo>
                  <a:pt x="6616" y="6002"/>
                  <a:pt x="6826" y="5915"/>
                  <a:pt x="6846" y="5854"/>
                </a:cubicBezTo>
                <a:cubicBezTo>
                  <a:pt x="6919" y="6023"/>
                  <a:pt x="6823" y="6205"/>
                  <a:pt x="6796" y="6375"/>
                </a:cubicBezTo>
                <a:cubicBezTo>
                  <a:pt x="6796" y="6391"/>
                  <a:pt x="6796" y="6408"/>
                  <a:pt x="6796" y="6424"/>
                </a:cubicBezTo>
              </a:path>
              <a:path w="1762" h="2159">
                <a:moveTo>
                  <a:pt x="6449" y="6846"/>
                </a:moveTo>
                <a:cubicBezTo>
                  <a:pt x="6692" y="6731"/>
                  <a:pt x="6961" y="6642"/>
                  <a:pt x="7218" y="6548"/>
                </a:cubicBezTo>
                <a:cubicBezTo>
                  <a:pt x="7276" y="6530"/>
                  <a:pt x="7282" y="6522"/>
                  <a:pt x="7317" y="6524"/>
                </a:cubicBezTo>
              </a:path>
              <a:path w="1762" h="2159">
                <a:moveTo>
                  <a:pt x="6672" y="7020"/>
                </a:moveTo>
                <a:cubicBezTo>
                  <a:pt x="6648" y="7020"/>
                  <a:pt x="6640" y="7020"/>
                  <a:pt x="6648" y="6995"/>
                </a:cubicBezTo>
                <a:cubicBezTo>
                  <a:pt x="6648" y="7148"/>
                  <a:pt x="6618" y="7290"/>
                  <a:pt x="6598" y="7441"/>
                </a:cubicBezTo>
                <a:cubicBezTo>
                  <a:pt x="6598" y="7449"/>
                  <a:pt x="6598" y="7458"/>
                  <a:pt x="6598" y="7466"/>
                </a:cubicBezTo>
              </a:path>
              <a:path w="1762" h="2159">
                <a:moveTo>
                  <a:pt x="6945" y="6921"/>
                </a:moveTo>
                <a:cubicBezTo>
                  <a:pt x="6910" y="6933"/>
                  <a:pt x="6813" y="7052"/>
                  <a:pt x="6796" y="7094"/>
                </a:cubicBezTo>
                <a:cubicBezTo>
                  <a:pt x="6761" y="7180"/>
                  <a:pt x="6772" y="7277"/>
                  <a:pt x="6772" y="7367"/>
                </a:cubicBezTo>
                <a:cubicBezTo>
                  <a:pt x="6876" y="7346"/>
                  <a:pt x="7011" y="7290"/>
                  <a:pt x="7045" y="7169"/>
                </a:cubicBezTo>
                <a:cubicBezTo>
                  <a:pt x="7081" y="7042"/>
                  <a:pt x="7021" y="7017"/>
                  <a:pt x="6945" y="6970"/>
                </a:cubicBezTo>
                <a:cubicBezTo>
                  <a:pt x="6937" y="6962"/>
                  <a:pt x="6929" y="6953"/>
                  <a:pt x="6921" y="6945"/>
                </a:cubicBezTo>
              </a:path>
              <a:path w="1762" h="2159">
                <a:moveTo>
                  <a:pt x="6226" y="7565"/>
                </a:moveTo>
                <a:cubicBezTo>
                  <a:pt x="6319" y="7625"/>
                  <a:pt x="6408" y="7637"/>
                  <a:pt x="6548" y="7640"/>
                </a:cubicBezTo>
                <a:cubicBezTo>
                  <a:pt x="6798" y="7645"/>
                  <a:pt x="7008" y="7582"/>
                  <a:pt x="7218" y="7441"/>
                </a:cubicBezTo>
                <a:cubicBezTo>
                  <a:pt x="7422" y="7305"/>
                  <a:pt x="7554" y="7106"/>
                  <a:pt x="7615" y="6871"/>
                </a:cubicBezTo>
                <a:cubicBezTo>
                  <a:pt x="7666" y="6673"/>
                  <a:pt x="7620" y="6496"/>
                  <a:pt x="7590" y="6300"/>
                </a:cubicBezTo>
                <a:cubicBezTo>
                  <a:pt x="7563" y="6123"/>
                  <a:pt x="7551" y="5939"/>
                  <a:pt x="7466" y="5779"/>
                </a:cubicBezTo>
                <a:cubicBezTo>
                  <a:pt x="7416" y="5684"/>
                  <a:pt x="7331" y="5611"/>
                  <a:pt x="7243" y="5556"/>
                </a:cubicBezTo>
                <a:cubicBezTo>
                  <a:pt x="7120" y="5479"/>
                  <a:pt x="6891" y="5469"/>
                  <a:pt x="6747" y="5482"/>
                </a:cubicBezTo>
                <a:cubicBezTo>
                  <a:pt x="6618" y="5493"/>
                  <a:pt x="6393" y="5524"/>
                  <a:pt x="6276" y="5581"/>
                </a:cubicBezTo>
                <a:cubicBezTo>
                  <a:pt x="6051" y="5690"/>
                  <a:pt x="5946" y="6008"/>
                  <a:pt x="5904" y="6226"/>
                </a:cubicBezTo>
                <a:cubicBezTo>
                  <a:pt x="5839" y="6559"/>
                  <a:pt x="5937" y="6871"/>
                  <a:pt x="6127" y="7144"/>
                </a:cubicBezTo>
                <a:cubicBezTo>
                  <a:pt x="6204" y="7254"/>
                  <a:pt x="6305" y="7400"/>
                  <a:pt x="6400" y="7491"/>
                </a:cubicBezTo>
                <a:cubicBezTo>
                  <a:pt x="6416" y="7499"/>
                  <a:pt x="6433" y="7508"/>
                  <a:pt x="6449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1920" y="3394080"/>
            <a:ext cx="4241880" cy="1044720"/>
          </a:xfrm>
          <a:custGeom>
            <a:avLst/>
            <a:gdLst/>
            <a:ahLst/>
            <a:rect l="l" t="t" r="r" b="b"/>
            <a:pathLst>
              <a:path w="11783" h="2903">
                <a:moveTo>
                  <a:pt x="3473" y="9426"/>
                </a:moveTo>
                <a:lnTo>
                  <a:pt x="3473" y="9426"/>
                </a:lnTo>
                <a:lnTo>
                  <a:pt x="3473" y="9426"/>
                </a:lnTo>
              </a:path>
              <a:path w="11783" h="2903">
                <a:moveTo>
                  <a:pt x="3473" y="9426"/>
                </a:moveTo>
                <a:lnTo>
                  <a:pt x="3473" y="9426"/>
                </a:lnTo>
              </a:path>
              <a:path w="11783" h="2903">
                <a:moveTo>
                  <a:pt x="3423" y="9723"/>
                </a:moveTo>
                <a:lnTo>
                  <a:pt x="3423" y="9723"/>
                </a:lnTo>
              </a:path>
              <a:path w="11783" h="2903">
                <a:moveTo>
                  <a:pt x="3597" y="9426"/>
                </a:moveTo>
                <a:cubicBezTo>
                  <a:pt x="3602" y="9428"/>
                  <a:pt x="3849" y="9496"/>
                  <a:pt x="3795" y="9550"/>
                </a:cubicBezTo>
                <a:cubicBezTo>
                  <a:pt x="3770" y="9566"/>
                  <a:pt x="3746" y="9583"/>
                  <a:pt x="3721" y="9599"/>
                </a:cubicBezTo>
              </a:path>
              <a:path w="11783" h="2903">
                <a:moveTo>
                  <a:pt x="3721" y="9599"/>
                </a:moveTo>
                <a:lnTo>
                  <a:pt x="3721" y="9599"/>
                </a:lnTo>
              </a:path>
              <a:path w="11783" h="2903">
                <a:moveTo>
                  <a:pt x="5457" y="10096"/>
                </a:moveTo>
                <a:cubicBezTo>
                  <a:pt x="5457" y="10112"/>
                  <a:pt x="5457" y="10129"/>
                  <a:pt x="5457" y="10145"/>
                </a:cubicBezTo>
              </a:path>
              <a:path w="11783" h="2903">
                <a:moveTo>
                  <a:pt x="5457" y="10145"/>
                </a:moveTo>
                <a:lnTo>
                  <a:pt x="5457" y="10145"/>
                </a:lnTo>
              </a:path>
              <a:path w="11783" h="2903">
                <a:moveTo>
                  <a:pt x="5457" y="10393"/>
                </a:moveTo>
                <a:cubicBezTo>
                  <a:pt x="5457" y="10385"/>
                  <a:pt x="5457" y="10376"/>
                  <a:pt x="5457" y="10368"/>
                </a:cubicBezTo>
              </a:path>
              <a:path w="11783" h="2903">
                <a:moveTo>
                  <a:pt x="15156" y="12303"/>
                </a:moveTo>
                <a:lnTo>
                  <a:pt x="15156" y="12303"/>
                </a:lnTo>
              </a:path>
              <a:path w="11783" h="2903">
                <a:moveTo>
                  <a:pt x="15205" y="12328"/>
                </a:moveTo>
                <a:lnTo>
                  <a:pt x="15205" y="123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1920" y="5742000"/>
            <a:ext cx="696960" cy="509400"/>
          </a:xfrm>
          <a:custGeom>
            <a:avLst/>
            <a:gdLst/>
            <a:ahLst/>
            <a:rect l="l" t="t" r="r" b="b"/>
            <a:pathLst>
              <a:path w="1936" h="1415">
                <a:moveTo>
                  <a:pt x="10592" y="16073"/>
                </a:moveTo>
                <a:cubicBezTo>
                  <a:pt x="10624" y="16215"/>
                  <a:pt x="10602" y="16388"/>
                  <a:pt x="10641" y="16520"/>
                </a:cubicBezTo>
                <a:cubicBezTo>
                  <a:pt x="10649" y="16520"/>
                  <a:pt x="10658" y="16520"/>
                  <a:pt x="10666" y="16520"/>
                </a:cubicBezTo>
              </a:path>
              <a:path w="1936" h="1415">
                <a:moveTo>
                  <a:pt x="11137" y="16123"/>
                </a:moveTo>
                <a:cubicBezTo>
                  <a:pt x="11061" y="16224"/>
                  <a:pt x="11015" y="16280"/>
                  <a:pt x="10988" y="16396"/>
                </a:cubicBezTo>
                <a:cubicBezTo>
                  <a:pt x="11086" y="16396"/>
                  <a:pt x="11231" y="16415"/>
                  <a:pt x="11237" y="16272"/>
                </a:cubicBezTo>
                <a:cubicBezTo>
                  <a:pt x="11241" y="16180"/>
                  <a:pt x="11188" y="16202"/>
                  <a:pt x="11137" y="16173"/>
                </a:cubicBezTo>
              </a:path>
              <a:path w="1936" h="1415">
                <a:moveTo>
                  <a:pt x="11782" y="15949"/>
                </a:moveTo>
                <a:cubicBezTo>
                  <a:pt x="11767" y="15995"/>
                  <a:pt x="11673" y="16048"/>
                  <a:pt x="11609" y="16073"/>
                </a:cubicBezTo>
                <a:cubicBezTo>
                  <a:pt x="11587" y="16082"/>
                  <a:pt x="11570" y="16115"/>
                  <a:pt x="11559" y="16148"/>
                </a:cubicBezTo>
                <a:cubicBezTo>
                  <a:pt x="11559" y="16156"/>
                  <a:pt x="11559" y="16165"/>
                  <a:pt x="11559" y="16173"/>
                </a:cubicBezTo>
                <a:cubicBezTo>
                  <a:pt x="11637" y="16184"/>
                  <a:pt x="11724" y="16180"/>
                  <a:pt x="11807" y="16197"/>
                </a:cubicBezTo>
                <a:cubicBezTo>
                  <a:pt x="11824" y="16205"/>
                  <a:pt x="11840" y="16214"/>
                  <a:pt x="11857" y="16222"/>
                </a:cubicBezTo>
                <a:cubicBezTo>
                  <a:pt x="11846" y="16346"/>
                  <a:pt x="11763" y="16448"/>
                  <a:pt x="11609" y="16421"/>
                </a:cubicBezTo>
                <a:cubicBezTo>
                  <a:pt x="11592" y="16404"/>
                  <a:pt x="11576" y="16388"/>
                  <a:pt x="11559" y="16371"/>
                </a:cubicBezTo>
              </a:path>
              <a:path w="1936" h="1415">
                <a:moveTo>
                  <a:pt x="9922" y="16470"/>
                </a:moveTo>
                <a:cubicBezTo>
                  <a:pt x="10048" y="16470"/>
                  <a:pt x="10168" y="16452"/>
                  <a:pt x="10294" y="16446"/>
                </a:cubicBezTo>
              </a:path>
              <a:path w="1936" h="1415">
                <a:moveTo>
                  <a:pt x="10046" y="16917"/>
                </a:moveTo>
                <a:cubicBezTo>
                  <a:pt x="10480" y="16811"/>
                  <a:pt x="10919" y="16780"/>
                  <a:pt x="11361" y="16718"/>
                </a:cubicBezTo>
                <a:cubicBezTo>
                  <a:pt x="11459" y="16704"/>
                  <a:pt x="11726" y="16680"/>
                  <a:pt x="11832" y="16644"/>
                </a:cubicBezTo>
              </a:path>
              <a:path w="1936" h="1415">
                <a:moveTo>
                  <a:pt x="11757" y="17016"/>
                </a:moveTo>
                <a:cubicBezTo>
                  <a:pt x="11739" y="17126"/>
                  <a:pt x="11743" y="17226"/>
                  <a:pt x="11733" y="17338"/>
                </a:cubicBezTo>
                <a:cubicBezTo>
                  <a:pt x="11733" y="17373"/>
                  <a:pt x="11728" y="17372"/>
                  <a:pt x="11708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2760" y="919080"/>
            <a:ext cx="6742080" cy="312840"/>
          </a:xfrm>
          <a:custGeom>
            <a:avLst/>
            <a:gdLst/>
            <a:ahLst/>
            <a:rect l="l" t="t" r="r" b="b"/>
            <a:pathLst>
              <a:path w="18729" h="869">
                <a:moveTo>
                  <a:pt x="1439" y="2580"/>
                </a:moveTo>
                <a:lnTo>
                  <a:pt x="1439" y="2580"/>
                </a:lnTo>
              </a:path>
              <a:path w="18729" h="869">
                <a:moveTo>
                  <a:pt x="1339" y="2729"/>
                </a:moveTo>
                <a:lnTo>
                  <a:pt x="1339" y="2729"/>
                </a:lnTo>
              </a:path>
              <a:path w="18729" h="869">
                <a:moveTo>
                  <a:pt x="2034" y="2555"/>
                </a:moveTo>
                <a:lnTo>
                  <a:pt x="2034" y="2555"/>
                </a:lnTo>
              </a:path>
              <a:path w="18729" h="869">
                <a:moveTo>
                  <a:pt x="9029" y="2877"/>
                </a:moveTo>
                <a:lnTo>
                  <a:pt x="9029" y="2877"/>
                </a:lnTo>
              </a:path>
              <a:path w="18729" h="869">
                <a:moveTo>
                  <a:pt x="1339" y="3398"/>
                </a:moveTo>
                <a:lnTo>
                  <a:pt x="1339" y="3398"/>
                </a:lnTo>
              </a:path>
              <a:path w="18729" h="869">
                <a:moveTo>
                  <a:pt x="1339" y="3398"/>
                </a:moveTo>
                <a:lnTo>
                  <a:pt x="1339" y="3398"/>
                </a:lnTo>
              </a:path>
              <a:path w="18729" h="869">
                <a:moveTo>
                  <a:pt x="2555" y="3373"/>
                </a:moveTo>
                <a:lnTo>
                  <a:pt x="2555" y="3373"/>
                </a:lnTo>
              </a:path>
              <a:path w="18729" h="869">
                <a:moveTo>
                  <a:pt x="2977" y="3423"/>
                </a:moveTo>
                <a:lnTo>
                  <a:pt x="2977" y="3423"/>
                </a:lnTo>
              </a:path>
              <a:path w="18729" h="869">
                <a:moveTo>
                  <a:pt x="15230" y="2828"/>
                </a:moveTo>
                <a:lnTo>
                  <a:pt x="15230" y="2828"/>
                </a:lnTo>
              </a:path>
              <a:path w="18729" h="869">
                <a:moveTo>
                  <a:pt x="18306" y="2629"/>
                </a:moveTo>
                <a:cubicBezTo>
                  <a:pt x="18355" y="2803"/>
                  <a:pt x="18410" y="2970"/>
                  <a:pt x="18430" y="3150"/>
                </a:cubicBezTo>
              </a:path>
              <a:path w="18729" h="869">
                <a:moveTo>
                  <a:pt x="18430" y="3150"/>
                </a:moveTo>
                <a:lnTo>
                  <a:pt x="18430" y="3150"/>
                </a:lnTo>
              </a:path>
              <a:path w="18729" h="869">
                <a:moveTo>
                  <a:pt x="19075" y="3026"/>
                </a:moveTo>
                <a:lnTo>
                  <a:pt x="19075" y="3026"/>
                </a:lnTo>
              </a:path>
              <a:path w="18729" h="869">
                <a:moveTo>
                  <a:pt x="20067" y="3051"/>
                </a:moveTo>
                <a:lnTo>
                  <a:pt x="20067" y="3051"/>
                </a:lnTo>
              </a:path>
              <a:path w="18729" h="869">
                <a:moveTo>
                  <a:pt x="19968" y="2629"/>
                </a:moveTo>
                <a:cubicBezTo>
                  <a:pt x="19993" y="2637"/>
                  <a:pt x="20017" y="2646"/>
                  <a:pt x="20042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847800"/>
            <a:ext cx="1411560" cy="393480"/>
          </a:xfrm>
          <a:custGeom>
            <a:avLst/>
            <a:gdLst/>
            <a:ahLst/>
            <a:rect l="l" t="t" r="r" b="b"/>
            <a:pathLst>
              <a:path w="3920" h="1093">
                <a:moveTo>
                  <a:pt x="1265" y="2356"/>
                </a:moveTo>
                <a:cubicBezTo>
                  <a:pt x="1265" y="2451"/>
                  <a:pt x="1305" y="2736"/>
                  <a:pt x="1240" y="2778"/>
                </a:cubicBezTo>
              </a:path>
              <a:path w="3920" h="1093">
                <a:moveTo>
                  <a:pt x="769" y="2654"/>
                </a:moveTo>
                <a:cubicBezTo>
                  <a:pt x="951" y="2598"/>
                  <a:pt x="1148" y="2595"/>
                  <a:pt x="1339" y="2580"/>
                </a:cubicBezTo>
                <a:cubicBezTo>
                  <a:pt x="1371" y="2577"/>
                  <a:pt x="1406" y="2580"/>
                  <a:pt x="1439" y="2580"/>
                </a:cubicBezTo>
              </a:path>
              <a:path w="3920" h="1093">
                <a:moveTo>
                  <a:pt x="1513" y="2431"/>
                </a:moveTo>
                <a:cubicBezTo>
                  <a:pt x="1414" y="2530"/>
                  <a:pt x="1302" y="2593"/>
                  <a:pt x="1191" y="2679"/>
                </a:cubicBezTo>
                <a:cubicBezTo>
                  <a:pt x="1168" y="2702"/>
                  <a:pt x="1164" y="2710"/>
                  <a:pt x="1141" y="2704"/>
                </a:cubicBezTo>
              </a:path>
              <a:path w="3920" h="1093">
                <a:moveTo>
                  <a:pt x="943" y="2530"/>
                </a:moveTo>
                <a:cubicBezTo>
                  <a:pt x="1068" y="2587"/>
                  <a:pt x="1201" y="2625"/>
                  <a:pt x="1315" y="2704"/>
                </a:cubicBezTo>
                <a:cubicBezTo>
                  <a:pt x="1323" y="2712"/>
                  <a:pt x="1331" y="2721"/>
                  <a:pt x="1339" y="2729"/>
                </a:cubicBezTo>
              </a:path>
              <a:path w="3920" h="1093">
                <a:moveTo>
                  <a:pt x="1860" y="2505"/>
                </a:moveTo>
                <a:cubicBezTo>
                  <a:pt x="1868" y="2513"/>
                  <a:pt x="1877" y="2522"/>
                  <a:pt x="1885" y="2530"/>
                </a:cubicBezTo>
                <a:cubicBezTo>
                  <a:pt x="1873" y="2482"/>
                  <a:pt x="1844" y="2463"/>
                  <a:pt x="1786" y="2480"/>
                </a:cubicBezTo>
                <a:cubicBezTo>
                  <a:pt x="1634" y="2525"/>
                  <a:pt x="1606" y="2673"/>
                  <a:pt x="1588" y="2803"/>
                </a:cubicBezTo>
                <a:cubicBezTo>
                  <a:pt x="1798" y="2838"/>
                  <a:pt x="1882" y="2818"/>
                  <a:pt x="2059" y="2704"/>
                </a:cubicBezTo>
              </a:path>
              <a:path w="3920" h="1093">
                <a:moveTo>
                  <a:pt x="2133" y="2530"/>
                </a:moveTo>
                <a:cubicBezTo>
                  <a:pt x="1993" y="2516"/>
                  <a:pt x="1931" y="2582"/>
                  <a:pt x="1860" y="2704"/>
                </a:cubicBezTo>
                <a:cubicBezTo>
                  <a:pt x="2044" y="2776"/>
                  <a:pt x="2183" y="2761"/>
                  <a:pt x="2332" y="2604"/>
                </a:cubicBezTo>
                <a:cubicBezTo>
                  <a:pt x="2406" y="2526"/>
                  <a:pt x="2142" y="2560"/>
                  <a:pt x="2034" y="2555"/>
                </a:cubicBezTo>
              </a:path>
              <a:path w="3920" h="1093">
                <a:moveTo>
                  <a:pt x="2406" y="2679"/>
                </a:moveTo>
                <a:cubicBezTo>
                  <a:pt x="2414" y="2712"/>
                  <a:pt x="2423" y="2745"/>
                  <a:pt x="2431" y="2778"/>
                </a:cubicBezTo>
                <a:cubicBezTo>
                  <a:pt x="2432" y="2762"/>
                  <a:pt x="2439" y="2571"/>
                  <a:pt x="2480" y="2580"/>
                </a:cubicBezTo>
                <a:cubicBezTo>
                  <a:pt x="2588" y="2603"/>
                  <a:pt x="2706" y="2666"/>
                  <a:pt x="2729" y="2778"/>
                </a:cubicBezTo>
                <a:cubicBezTo>
                  <a:pt x="2699" y="2708"/>
                  <a:pt x="2692" y="2625"/>
                  <a:pt x="2778" y="2580"/>
                </a:cubicBezTo>
                <a:cubicBezTo>
                  <a:pt x="2897" y="2517"/>
                  <a:pt x="3021" y="2678"/>
                  <a:pt x="3026" y="2778"/>
                </a:cubicBezTo>
                <a:cubicBezTo>
                  <a:pt x="3027" y="2805"/>
                  <a:pt x="2926" y="2882"/>
                  <a:pt x="3051" y="2778"/>
                </a:cubicBezTo>
              </a:path>
              <a:path w="3920" h="1093">
                <a:moveTo>
                  <a:pt x="3125" y="2604"/>
                </a:moveTo>
                <a:cubicBezTo>
                  <a:pt x="3125" y="2687"/>
                  <a:pt x="3125" y="2720"/>
                  <a:pt x="3125" y="2778"/>
                </a:cubicBezTo>
                <a:cubicBezTo>
                  <a:pt x="3158" y="2800"/>
                  <a:pt x="3175" y="2721"/>
                  <a:pt x="3200" y="2654"/>
                </a:cubicBezTo>
                <a:cubicBezTo>
                  <a:pt x="3235" y="2560"/>
                  <a:pt x="3400" y="2678"/>
                  <a:pt x="3448" y="2729"/>
                </a:cubicBezTo>
                <a:cubicBezTo>
                  <a:pt x="3468" y="2769"/>
                  <a:pt x="3477" y="2775"/>
                  <a:pt x="3473" y="2803"/>
                </a:cubicBezTo>
                <a:cubicBezTo>
                  <a:pt x="3473" y="2770"/>
                  <a:pt x="3460" y="2625"/>
                  <a:pt x="3497" y="2604"/>
                </a:cubicBezTo>
                <a:cubicBezTo>
                  <a:pt x="3619" y="2534"/>
                  <a:pt x="3790" y="2555"/>
                  <a:pt x="3795" y="2729"/>
                </a:cubicBezTo>
                <a:cubicBezTo>
                  <a:pt x="3796" y="2780"/>
                  <a:pt x="3770" y="2879"/>
                  <a:pt x="3770" y="2828"/>
                </a:cubicBezTo>
              </a:path>
              <a:path w="3920" h="1093">
                <a:moveTo>
                  <a:pt x="4167" y="2555"/>
                </a:moveTo>
                <a:cubicBezTo>
                  <a:pt x="4009" y="2621"/>
                  <a:pt x="3959" y="2668"/>
                  <a:pt x="3919" y="2828"/>
                </a:cubicBezTo>
                <a:cubicBezTo>
                  <a:pt x="3997" y="2840"/>
                  <a:pt x="4340" y="2915"/>
                  <a:pt x="4316" y="2729"/>
                </a:cubicBezTo>
                <a:cubicBezTo>
                  <a:pt x="4305" y="2644"/>
                  <a:pt x="4203" y="2621"/>
                  <a:pt x="4142" y="2604"/>
                </a:cubicBezTo>
              </a:path>
              <a:path w="3920" h="1093">
                <a:moveTo>
                  <a:pt x="4440" y="2828"/>
                </a:moveTo>
                <a:cubicBezTo>
                  <a:pt x="4440" y="2894"/>
                  <a:pt x="4463" y="2713"/>
                  <a:pt x="4465" y="2704"/>
                </a:cubicBezTo>
                <a:cubicBezTo>
                  <a:pt x="4488" y="2582"/>
                  <a:pt x="4635" y="2692"/>
                  <a:pt x="4663" y="2753"/>
                </a:cubicBezTo>
                <a:cubicBezTo>
                  <a:pt x="4687" y="2849"/>
                  <a:pt x="4698" y="2878"/>
                  <a:pt x="4638" y="2927"/>
                </a:cubicBezTo>
              </a:path>
              <a:path w="3920" h="1093">
                <a:moveTo>
                  <a:pt x="1215" y="3101"/>
                </a:moveTo>
                <a:cubicBezTo>
                  <a:pt x="1196" y="3198"/>
                  <a:pt x="1159" y="3298"/>
                  <a:pt x="1141" y="3398"/>
                </a:cubicBezTo>
                <a:cubicBezTo>
                  <a:pt x="1141" y="3423"/>
                  <a:pt x="1141" y="3431"/>
                  <a:pt x="1141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38240" y="839880"/>
            <a:ext cx="1793880" cy="241200"/>
          </a:xfrm>
          <a:custGeom>
            <a:avLst/>
            <a:gdLst/>
            <a:ahLst/>
            <a:rect l="l" t="t" r="r" b="b"/>
            <a:pathLst>
              <a:path w="4986" h="670">
                <a:moveTo>
                  <a:pt x="5779" y="2729"/>
                </a:moveTo>
                <a:cubicBezTo>
                  <a:pt x="5762" y="2660"/>
                  <a:pt x="5650" y="2627"/>
                  <a:pt x="5581" y="2629"/>
                </a:cubicBezTo>
                <a:cubicBezTo>
                  <a:pt x="5450" y="2633"/>
                  <a:pt x="5424" y="2811"/>
                  <a:pt x="5383" y="2902"/>
                </a:cubicBezTo>
                <a:cubicBezTo>
                  <a:pt x="5626" y="3077"/>
                  <a:pt x="5734" y="2980"/>
                  <a:pt x="5879" y="2753"/>
                </a:cubicBezTo>
              </a:path>
              <a:path w="4986" h="670">
                <a:moveTo>
                  <a:pt x="5680" y="2406"/>
                </a:moveTo>
                <a:cubicBezTo>
                  <a:pt x="5701" y="2465"/>
                  <a:pt x="5802" y="2912"/>
                  <a:pt x="5879" y="2927"/>
                </a:cubicBezTo>
                <a:cubicBezTo>
                  <a:pt x="5945" y="2893"/>
                  <a:pt x="5978" y="2877"/>
                  <a:pt x="6028" y="2853"/>
                </a:cubicBezTo>
              </a:path>
              <a:path w="4986" h="670">
                <a:moveTo>
                  <a:pt x="6152" y="2753"/>
                </a:moveTo>
                <a:cubicBezTo>
                  <a:pt x="6216" y="2740"/>
                  <a:pt x="6460" y="2745"/>
                  <a:pt x="6350" y="2679"/>
                </a:cubicBezTo>
                <a:cubicBezTo>
                  <a:pt x="6184" y="2640"/>
                  <a:pt x="6158" y="2709"/>
                  <a:pt x="6102" y="2877"/>
                </a:cubicBezTo>
                <a:cubicBezTo>
                  <a:pt x="6257" y="2929"/>
                  <a:pt x="6420" y="2965"/>
                  <a:pt x="6548" y="2828"/>
                </a:cubicBezTo>
                <a:cubicBezTo>
                  <a:pt x="6585" y="2788"/>
                  <a:pt x="6598" y="2663"/>
                  <a:pt x="6598" y="2704"/>
                </a:cubicBezTo>
                <a:cubicBezTo>
                  <a:pt x="6598" y="2770"/>
                  <a:pt x="6598" y="2803"/>
                  <a:pt x="6598" y="2853"/>
                </a:cubicBezTo>
                <a:cubicBezTo>
                  <a:pt x="6598" y="3049"/>
                  <a:pt x="6605" y="2729"/>
                  <a:pt x="6623" y="2679"/>
                </a:cubicBezTo>
                <a:cubicBezTo>
                  <a:pt x="6658" y="2584"/>
                  <a:pt x="6846" y="2639"/>
                  <a:pt x="6871" y="2679"/>
                </a:cubicBezTo>
                <a:cubicBezTo>
                  <a:pt x="6926" y="2767"/>
                  <a:pt x="6936" y="2798"/>
                  <a:pt x="6896" y="2877"/>
                </a:cubicBezTo>
              </a:path>
              <a:path w="4986" h="670">
                <a:moveTo>
                  <a:pt x="7317" y="2604"/>
                </a:moveTo>
                <a:cubicBezTo>
                  <a:pt x="7185" y="2648"/>
                  <a:pt x="7127" y="2729"/>
                  <a:pt x="7069" y="2853"/>
                </a:cubicBezTo>
                <a:cubicBezTo>
                  <a:pt x="7272" y="2884"/>
                  <a:pt x="7372" y="2897"/>
                  <a:pt x="7516" y="2753"/>
                </a:cubicBezTo>
                <a:cubicBezTo>
                  <a:pt x="7466" y="2654"/>
                  <a:pt x="7435" y="2638"/>
                  <a:pt x="7317" y="2604"/>
                </a:cubicBezTo>
              </a:path>
              <a:path w="4986" h="670">
                <a:moveTo>
                  <a:pt x="7491" y="2679"/>
                </a:moveTo>
                <a:cubicBezTo>
                  <a:pt x="7522" y="2740"/>
                  <a:pt x="7553" y="2789"/>
                  <a:pt x="7565" y="2853"/>
                </a:cubicBezTo>
                <a:cubicBezTo>
                  <a:pt x="7565" y="2803"/>
                  <a:pt x="7563" y="2710"/>
                  <a:pt x="7590" y="2679"/>
                </a:cubicBezTo>
                <a:cubicBezTo>
                  <a:pt x="7680" y="2575"/>
                  <a:pt x="7872" y="2690"/>
                  <a:pt x="7913" y="2778"/>
                </a:cubicBezTo>
                <a:cubicBezTo>
                  <a:pt x="7913" y="2803"/>
                  <a:pt x="7913" y="2828"/>
                  <a:pt x="7913" y="2853"/>
                </a:cubicBezTo>
                <a:cubicBezTo>
                  <a:pt x="7913" y="2916"/>
                  <a:pt x="7882" y="2714"/>
                  <a:pt x="7888" y="2679"/>
                </a:cubicBezTo>
                <a:cubicBezTo>
                  <a:pt x="7913" y="2538"/>
                  <a:pt x="8087" y="2608"/>
                  <a:pt x="8136" y="2679"/>
                </a:cubicBezTo>
                <a:cubicBezTo>
                  <a:pt x="8163" y="2718"/>
                  <a:pt x="8250" y="2856"/>
                  <a:pt x="8186" y="2877"/>
                </a:cubicBezTo>
              </a:path>
              <a:path w="4986" h="670">
                <a:moveTo>
                  <a:pt x="8607" y="2753"/>
                </a:moveTo>
                <a:cubicBezTo>
                  <a:pt x="8590" y="2668"/>
                  <a:pt x="8503" y="2616"/>
                  <a:pt x="8409" y="2654"/>
                </a:cubicBezTo>
                <a:cubicBezTo>
                  <a:pt x="8269" y="2710"/>
                  <a:pt x="8243" y="2815"/>
                  <a:pt x="8235" y="2927"/>
                </a:cubicBezTo>
                <a:cubicBezTo>
                  <a:pt x="8433" y="2901"/>
                  <a:pt x="8555" y="2912"/>
                  <a:pt x="8632" y="2704"/>
                </a:cubicBezTo>
                <a:cubicBezTo>
                  <a:pt x="8653" y="2851"/>
                  <a:pt x="8738" y="2923"/>
                  <a:pt x="8905" y="2877"/>
                </a:cubicBezTo>
                <a:cubicBezTo>
                  <a:pt x="9033" y="2801"/>
                  <a:pt x="9075" y="2772"/>
                  <a:pt x="9079" y="2654"/>
                </a:cubicBezTo>
              </a:path>
              <a:path w="4986" h="670">
                <a:moveTo>
                  <a:pt x="8855" y="2332"/>
                </a:moveTo>
                <a:cubicBezTo>
                  <a:pt x="8926" y="2499"/>
                  <a:pt x="8986" y="2675"/>
                  <a:pt x="9029" y="2853"/>
                </a:cubicBezTo>
                <a:cubicBezTo>
                  <a:pt x="9029" y="2861"/>
                  <a:pt x="9029" y="2869"/>
                  <a:pt x="9029" y="2877"/>
                </a:cubicBezTo>
              </a:path>
              <a:path w="4986" h="670">
                <a:moveTo>
                  <a:pt x="8731" y="2580"/>
                </a:moveTo>
                <a:cubicBezTo>
                  <a:pt x="8897" y="2574"/>
                  <a:pt x="9061" y="2555"/>
                  <a:pt x="9227" y="2555"/>
                </a:cubicBezTo>
                <a:cubicBezTo>
                  <a:pt x="9252" y="2555"/>
                  <a:pt x="9260" y="2555"/>
                  <a:pt x="9277" y="2555"/>
                </a:cubicBezTo>
                <a:cubicBezTo>
                  <a:pt x="9257" y="2632"/>
                  <a:pt x="9157" y="2733"/>
                  <a:pt x="9203" y="2828"/>
                </a:cubicBezTo>
                <a:cubicBezTo>
                  <a:pt x="9255" y="2936"/>
                  <a:pt x="9488" y="2919"/>
                  <a:pt x="9525" y="2828"/>
                </a:cubicBezTo>
                <a:cubicBezTo>
                  <a:pt x="9587" y="2674"/>
                  <a:pt x="9483" y="2651"/>
                  <a:pt x="9376" y="2580"/>
                </a:cubicBezTo>
              </a:path>
              <a:path w="4986" h="670">
                <a:moveTo>
                  <a:pt x="9624" y="2778"/>
                </a:moveTo>
                <a:cubicBezTo>
                  <a:pt x="9643" y="2852"/>
                  <a:pt x="9625" y="2885"/>
                  <a:pt x="9674" y="2877"/>
                </a:cubicBezTo>
                <a:cubicBezTo>
                  <a:pt x="9674" y="2768"/>
                  <a:pt x="9693" y="2701"/>
                  <a:pt x="9723" y="2604"/>
                </a:cubicBezTo>
                <a:cubicBezTo>
                  <a:pt x="9736" y="2562"/>
                  <a:pt x="9885" y="2561"/>
                  <a:pt x="9922" y="2555"/>
                </a:cubicBezTo>
              </a:path>
              <a:path w="4986" h="670">
                <a:moveTo>
                  <a:pt x="10170" y="2555"/>
                </a:moveTo>
                <a:cubicBezTo>
                  <a:pt x="10092" y="2581"/>
                  <a:pt x="10026" y="2631"/>
                  <a:pt x="9947" y="2679"/>
                </a:cubicBezTo>
                <a:cubicBezTo>
                  <a:pt x="9982" y="2733"/>
                  <a:pt x="10237" y="2712"/>
                  <a:pt x="10319" y="2729"/>
                </a:cubicBezTo>
                <a:cubicBezTo>
                  <a:pt x="10335" y="2737"/>
                  <a:pt x="10352" y="2745"/>
                  <a:pt x="10368" y="2753"/>
                </a:cubicBezTo>
                <a:cubicBezTo>
                  <a:pt x="10329" y="2898"/>
                  <a:pt x="10210" y="2924"/>
                  <a:pt x="10046" y="2902"/>
                </a:cubicBezTo>
                <a:cubicBezTo>
                  <a:pt x="10029" y="2894"/>
                  <a:pt x="10013" y="2885"/>
                  <a:pt x="9996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5960" y="973080"/>
            <a:ext cx="928800" cy="169920"/>
          </a:xfrm>
          <a:custGeom>
            <a:avLst/>
            <a:gdLst/>
            <a:ahLst/>
            <a:rect l="l" t="t" r="r" b="b"/>
            <a:pathLst>
              <a:path w="2581" h="472">
                <a:moveTo>
                  <a:pt x="15106" y="2753"/>
                </a:moveTo>
                <a:cubicBezTo>
                  <a:pt x="15106" y="2778"/>
                  <a:pt x="15106" y="2786"/>
                  <a:pt x="15106" y="2803"/>
                </a:cubicBezTo>
                <a:cubicBezTo>
                  <a:pt x="15040" y="2607"/>
                  <a:pt x="14909" y="2726"/>
                  <a:pt x="14808" y="2853"/>
                </a:cubicBezTo>
                <a:cubicBezTo>
                  <a:pt x="14457" y="3295"/>
                  <a:pt x="15069" y="3049"/>
                  <a:pt x="15230" y="2977"/>
                </a:cubicBezTo>
              </a:path>
              <a:path w="2581" h="472">
                <a:moveTo>
                  <a:pt x="15304" y="2828"/>
                </a:moveTo>
                <a:cubicBezTo>
                  <a:pt x="15177" y="2896"/>
                  <a:pt x="15163" y="2902"/>
                  <a:pt x="15131" y="3051"/>
                </a:cubicBezTo>
                <a:cubicBezTo>
                  <a:pt x="15205" y="3072"/>
                  <a:pt x="15639" y="3080"/>
                  <a:pt x="15429" y="2902"/>
                </a:cubicBezTo>
                <a:cubicBezTo>
                  <a:pt x="15321" y="2860"/>
                  <a:pt x="15297" y="2849"/>
                  <a:pt x="15230" y="2828"/>
                </a:cubicBezTo>
              </a:path>
              <a:path w="2581" h="472">
                <a:moveTo>
                  <a:pt x="15528" y="2952"/>
                </a:moveTo>
                <a:cubicBezTo>
                  <a:pt x="15528" y="2993"/>
                  <a:pt x="15528" y="3035"/>
                  <a:pt x="15528" y="3076"/>
                </a:cubicBezTo>
                <a:cubicBezTo>
                  <a:pt x="15528" y="3012"/>
                  <a:pt x="15491" y="2916"/>
                  <a:pt x="15553" y="2877"/>
                </a:cubicBezTo>
                <a:cubicBezTo>
                  <a:pt x="15672" y="2803"/>
                  <a:pt x="15746" y="3049"/>
                  <a:pt x="15776" y="3101"/>
                </a:cubicBezTo>
                <a:cubicBezTo>
                  <a:pt x="15741" y="3168"/>
                  <a:pt x="15767" y="2935"/>
                  <a:pt x="15801" y="2877"/>
                </a:cubicBezTo>
                <a:cubicBezTo>
                  <a:pt x="15884" y="2736"/>
                  <a:pt x="16010" y="3086"/>
                  <a:pt x="16024" y="3125"/>
                </a:cubicBezTo>
                <a:cubicBezTo>
                  <a:pt x="15993" y="3188"/>
                  <a:pt x="15984" y="3190"/>
                  <a:pt x="15999" y="3076"/>
                </a:cubicBezTo>
              </a:path>
              <a:path w="2581" h="472">
                <a:moveTo>
                  <a:pt x="16073" y="2927"/>
                </a:moveTo>
                <a:cubicBezTo>
                  <a:pt x="16093" y="3026"/>
                  <a:pt x="16101" y="3042"/>
                  <a:pt x="16098" y="3101"/>
                </a:cubicBezTo>
                <a:cubicBezTo>
                  <a:pt x="16099" y="3090"/>
                  <a:pt x="16126" y="2828"/>
                  <a:pt x="16197" y="2877"/>
                </a:cubicBezTo>
                <a:cubicBezTo>
                  <a:pt x="16295" y="2975"/>
                  <a:pt x="16327" y="3006"/>
                  <a:pt x="16346" y="3101"/>
                </a:cubicBezTo>
                <a:cubicBezTo>
                  <a:pt x="16346" y="2996"/>
                  <a:pt x="16343" y="2939"/>
                  <a:pt x="16421" y="2877"/>
                </a:cubicBezTo>
                <a:cubicBezTo>
                  <a:pt x="16532" y="3074"/>
                  <a:pt x="16460" y="3189"/>
                  <a:pt x="16644" y="3076"/>
                </a:cubicBezTo>
              </a:path>
              <a:path w="2581" h="472">
                <a:moveTo>
                  <a:pt x="17016" y="3001"/>
                </a:moveTo>
                <a:cubicBezTo>
                  <a:pt x="17016" y="3079"/>
                  <a:pt x="17032" y="3097"/>
                  <a:pt x="16991" y="3125"/>
                </a:cubicBezTo>
                <a:cubicBezTo>
                  <a:pt x="17020" y="3079"/>
                  <a:pt x="17089" y="2851"/>
                  <a:pt x="17190" y="2902"/>
                </a:cubicBezTo>
                <a:cubicBezTo>
                  <a:pt x="17292" y="2954"/>
                  <a:pt x="17280" y="3056"/>
                  <a:pt x="17289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990720"/>
            <a:ext cx="768600" cy="144360"/>
          </a:xfrm>
          <a:custGeom>
            <a:avLst/>
            <a:gdLst/>
            <a:ahLst/>
            <a:rect l="l" t="t" r="r" b="b"/>
            <a:pathLst>
              <a:path w="2134" h="398">
                <a:moveTo>
                  <a:pt x="18504" y="2902"/>
                </a:moveTo>
                <a:cubicBezTo>
                  <a:pt x="18319" y="2871"/>
                  <a:pt x="18277" y="2793"/>
                  <a:pt x="18083" y="2902"/>
                </a:cubicBezTo>
                <a:cubicBezTo>
                  <a:pt x="17964" y="3001"/>
                  <a:pt x="17915" y="3002"/>
                  <a:pt x="17934" y="3101"/>
                </a:cubicBezTo>
                <a:cubicBezTo>
                  <a:pt x="18219" y="3162"/>
                  <a:pt x="18193" y="3131"/>
                  <a:pt x="18430" y="2952"/>
                </a:cubicBezTo>
              </a:path>
              <a:path w="2134" h="398">
                <a:moveTo>
                  <a:pt x="18529" y="2977"/>
                </a:moveTo>
                <a:cubicBezTo>
                  <a:pt x="18596" y="2928"/>
                  <a:pt x="18708" y="2906"/>
                  <a:pt x="18728" y="2828"/>
                </a:cubicBezTo>
                <a:cubicBezTo>
                  <a:pt x="18539" y="2794"/>
                  <a:pt x="18512" y="2854"/>
                  <a:pt x="18479" y="3026"/>
                </a:cubicBezTo>
                <a:cubicBezTo>
                  <a:pt x="18687" y="3084"/>
                  <a:pt x="18665" y="3071"/>
                  <a:pt x="18827" y="2927"/>
                </a:cubicBezTo>
              </a:path>
              <a:path w="2134" h="398">
                <a:moveTo>
                  <a:pt x="18852" y="2877"/>
                </a:moveTo>
                <a:cubicBezTo>
                  <a:pt x="18852" y="2952"/>
                  <a:pt x="18852" y="2960"/>
                  <a:pt x="18852" y="3001"/>
                </a:cubicBezTo>
                <a:cubicBezTo>
                  <a:pt x="18864" y="2903"/>
                  <a:pt x="18876" y="2682"/>
                  <a:pt x="19000" y="2853"/>
                </a:cubicBezTo>
                <a:cubicBezTo>
                  <a:pt x="19086" y="2972"/>
                  <a:pt x="19039" y="3169"/>
                  <a:pt x="19075" y="3026"/>
                </a:cubicBezTo>
              </a:path>
              <a:path w="2134" h="398">
                <a:moveTo>
                  <a:pt x="19199" y="2753"/>
                </a:moveTo>
                <a:cubicBezTo>
                  <a:pt x="19079" y="2850"/>
                  <a:pt x="19040" y="2879"/>
                  <a:pt x="19000" y="2977"/>
                </a:cubicBezTo>
                <a:cubicBezTo>
                  <a:pt x="19191" y="3103"/>
                  <a:pt x="19293" y="3107"/>
                  <a:pt x="19422" y="2927"/>
                </a:cubicBezTo>
                <a:cubicBezTo>
                  <a:pt x="19331" y="2852"/>
                  <a:pt x="19271" y="2814"/>
                  <a:pt x="19174" y="2753"/>
                </a:cubicBezTo>
              </a:path>
              <a:path w="2134" h="398">
                <a:moveTo>
                  <a:pt x="19472" y="2977"/>
                </a:moveTo>
                <a:cubicBezTo>
                  <a:pt x="19472" y="3120"/>
                  <a:pt x="19479" y="2819"/>
                  <a:pt x="19496" y="2778"/>
                </a:cubicBezTo>
                <a:cubicBezTo>
                  <a:pt x="19532" y="2687"/>
                  <a:pt x="19618" y="2918"/>
                  <a:pt x="19670" y="3001"/>
                </a:cubicBezTo>
                <a:cubicBezTo>
                  <a:pt x="19722" y="3002"/>
                  <a:pt x="19617" y="2847"/>
                  <a:pt x="19720" y="2778"/>
                </a:cubicBezTo>
                <a:cubicBezTo>
                  <a:pt x="19736" y="2767"/>
                  <a:pt x="19886" y="2983"/>
                  <a:pt x="19893" y="3001"/>
                </a:cubicBezTo>
                <a:cubicBezTo>
                  <a:pt x="19893" y="3018"/>
                  <a:pt x="19893" y="3034"/>
                  <a:pt x="19893" y="3051"/>
                </a:cubicBezTo>
              </a:path>
              <a:path w="2134" h="398">
                <a:moveTo>
                  <a:pt x="20042" y="2778"/>
                </a:moveTo>
                <a:cubicBezTo>
                  <a:pt x="20051" y="2871"/>
                  <a:pt x="20067" y="2956"/>
                  <a:pt x="20067" y="3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960" y="1347840"/>
            <a:ext cx="1554120" cy="314280"/>
          </a:xfrm>
          <a:custGeom>
            <a:avLst/>
            <a:gdLst/>
            <a:ahLst/>
            <a:rect l="l" t="t" r="r" b="b"/>
            <a:pathLst>
              <a:path w="4317" h="869">
                <a:moveTo>
                  <a:pt x="1612" y="3969"/>
                </a:moveTo>
                <a:cubicBezTo>
                  <a:pt x="1612" y="3961"/>
                  <a:pt x="1612" y="3952"/>
                  <a:pt x="1612" y="3944"/>
                </a:cubicBezTo>
              </a:path>
              <a:path w="4317" h="869">
                <a:moveTo>
                  <a:pt x="1612" y="3944"/>
                </a:moveTo>
                <a:lnTo>
                  <a:pt x="1612" y="3944"/>
                </a:lnTo>
              </a:path>
              <a:path w="4317" h="869">
                <a:moveTo>
                  <a:pt x="1488" y="4514"/>
                </a:moveTo>
                <a:cubicBezTo>
                  <a:pt x="1488" y="4506"/>
                  <a:pt x="1488" y="4498"/>
                  <a:pt x="1488" y="4490"/>
                </a:cubicBezTo>
              </a:path>
              <a:path w="4317" h="869">
                <a:moveTo>
                  <a:pt x="2332" y="3944"/>
                </a:moveTo>
                <a:lnTo>
                  <a:pt x="2332" y="3944"/>
                </a:lnTo>
              </a:path>
              <a:path w="4317" h="869">
                <a:moveTo>
                  <a:pt x="3026" y="3944"/>
                </a:moveTo>
                <a:lnTo>
                  <a:pt x="3026" y="3944"/>
                </a:lnTo>
              </a:path>
              <a:path w="4317" h="869">
                <a:moveTo>
                  <a:pt x="4217" y="3919"/>
                </a:moveTo>
                <a:lnTo>
                  <a:pt x="4217" y="3919"/>
                </a:lnTo>
              </a:path>
              <a:path w="4317" h="869">
                <a:moveTo>
                  <a:pt x="4167" y="3746"/>
                </a:moveTo>
                <a:lnTo>
                  <a:pt x="4167" y="3746"/>
                </a:lnTo>
                <a:lnTo>
                  <a:pt x="4167" y="3746"/>
                </a:lnTo>
              </a:path>
              <a:path w="4317" h="869">
                <a:moveTo>
                  <a:pt x="5209" y="3894"/>
                </a:moveTo>
                <a:lnTo>
                  <a:pt x="5209" y="3894"/>
                </a:lnTo>
              </a:path>
              <a:path w="4317" h="869">
                <a:moveTo>
                  <a:pt x="4762" y="4440"/>
                </a:moveTo>
                <a:lnTo>
                  <a:pt x="4762" y="4440"/>
                </a:lnTo>
              </a:path>
              <a:path w="4317" h="869">
                <a:moveTo>
                  <a:pt x="5531" y="4242"/>
                </a:moveTo>
                <a:lnTo>
                  <a:pt x="5531" y="4242"/>
                </a:lnTo>
              </a:path>
              <a:path w="4317" h="869">
                <a:moveTo>
                  <a:pt x="5804" y="4614"/>
                </a:moveTo>
                <a:lnTo>
                  <a:pt x="5804" y="461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150012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943" y="4192"/>
                </a:moveTo>
                <a:cubicBezTo>
                  <a:pt x="1038" y="4192"/>
                  <a:pt x="1122" y="4178"/>
                  <a:pt x="1215" y="4167"/>
                </a:cubicBezTo>
                <a:cubicBezTo>
                  <a:pt x="1257" y="4167"/>
                  <a:pt x="1273" y="4159"/>
                  <a:pt x="1265" y="4192"/>
                </a:cubicBezTo>
                <a:cubicBezTo>
                  <a:pt x="1197" y="4328"/>
                  <a:pt x="1143" y="4353"/>
                  <a:pt x="992" y="4390"/>
                </a:cubicBezTo>
                <a:cubicBezTo>
                  <a:pt x="984" y="4390"/>
                  <a:pt x="975" y="4390"/>
                  <a:pt x="967" y="4390"/>
                </a:cubicBezTo>
                <a:cubicBezTo>
                  <a:pt x="1066" y="4390"/>
                  <a:pt x="1137" y="4376"/>
                  <a:pt x="1215" y="4440"/>
                </a:cubicBezTo>
                <a:cubicBezTo>
                  <a:pt x="1200" y="4550"/>
                  <a:pt x="1096" y="4544"/>
                  <a:pt x="992" y="4564"/>
                </a:cubicBezTo>
                <a:cubicBezTo>
                  <a:pt x="944" y="4573"/>
                  <a:pt x="970" y="4546"/>
                  <a:pt x="992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880" y="1482840"/>
            <a:ext cx="955800" cy="169920"/>
          </a:xfrm>
          <a:custGeom>
            <a:avLst/>
            <a:gdLst/>
            <a:ahLst/>
            <a:rect l="l" t="t" r="r" b="b"/>
            <a:pathLst>
              <a:path w="2655" h="472">
                <a:moveTo>
                  <a:pt x="2406" y="4217"/>
                </a:moveTo>
                <a:cubicBezTo>
                  <a:pt x="2394" y="4182"/>
                  <a:pt x="2309" y="4147"/>
                  <a:pt x="2257" y="4167"/>
                </a:cubicBezTo>
                <a:cubicBezTo>
                  <a:pt x="2184" y="4195"/>
                  <a:pt x="2154" y="4261"/>
                  <a:pt x="2108" y="4316"/>
                </a:cubicBezTo>
                <a:cubicBezTo>
                  <a:pt x="2213" y="4340"/>
                  <a:pt x="2426" y="4315"/>
                  <a:pt x="2505" y="4390"/>
                </a:cubicBezTo>
                <a:cubicBezTo>
                  <a:pt x="2513" y="4415"/>
                  <a:pt x="2522" y="4440"/>
                  <a:pt x="2530" y="4465"/>
                </a:cubicBezTo>
                <a:cubicBezTo>
                  <a:pt x="2449" y="4591"/>
                  <a:pt x="2322" y="4630"/>
                  <a:pt x="2158" y="4589"/>
                </a:cubicBezTo>
                <a:cubicBezTo>
                  <a:pt x="2158" y="4564"/>
                  <a:pt x="2158" y="4556"/>
                  <a:pt x="2133" y="4564"/>
                </a:cubicBezTo>
              </a:path>
              <a:path w="2655" h="472">
                <a:moveTo>
                  <a:pt x="2629" y="4217"/>
                </a:moveTo>
                <a:cubicBezTo>
                  <a:pt x="2621" y="4209"/>
                  <a:pt x="2612" y="4200"/>
                  <a:pt x="2604" y="4192"/>
                </a:cubicBezTo>
                <a:cubicBezTo>
                  <a:pt x="2629" y="4290"/>
                  <a:pt x="2671" y="4392"/>
                  <a:pt x="2704" y="4490"/>
                </a:cubicBezTo>
              </a:path>
              <a:path w="2655" h="472">
                <a:moveTo>
                  <a:pt x="2778" y="4217"/>
                </a:moveTo>
                <a:cubicBezTo>
                  <a:pt x="2841" y="4289"/>
                  <a:pt x="2897" y="4363"/>
                  <a:pt x="2952" y="4440"/>
                </a:cubicBezTo>
                <a:cubicBezTo>
                  <a:pt x="2952" y="4352"/>
                  <a:pt x="2880" y="4341"/>
                  <a:pt x="2927" y="4266"/>
                </a:cubicBezTo>
                <a:cubicBezTo>
                  <a:pt x="3017" y="4122"/>
                  <a:pt x="3177" y="4289"/>
                  <a:pt x="3225" y="4366"/>
                </a:cubicBezTo>
                <a:cubicBezTo>
                  <a:pt x="3244" y="4423"/>
                  <a:pt x="3252" y="4466"/>
                  <a:pt x="3249" y="4415"/>
                </a:cubicBezTo>
                <a:cubicBezTo>
                  <a:pt x="3246" y="4374"/>
                  <a:pt x="3189" y="4158"/>
                  <a:pt x="3274" y="4167"/>
                </a:cubicBezTo>
                <a:cubicBezTo>
                  <a:pt x="3365" y="4177"/>
                  <a:pt x="3442" y="4345"/>
                  <a:pt x="3473" y="4415"/>
                </a:cubicBezTo>
                <a:cubicBezTo>
                  <a:pt x="3492" y="4473"/>
                  <a:pt x="3500" y="4516"/>
                  <a:pt x="3497" y="4465"/>
                </a:cubicBezTo>
              </a:path>
              <a:path w="2655" h="472">
                <a:moveTo>
                  <a:pt x="3646" y="4242"/>
                </a:moveTo>
                <a:cubicBezTo>
                  <a:pt x="3683" y="4315"/>
                  <a:pt x="3672" y="4379"/>
                  <a:pt x="3746" y="4415"/>
                </a:cubicBezTo>
                <a:cubicBezTo>
                  <a:pt x="3654" y="4278"/>
                  <a:pt x="3601" y="4144"/>
                  <a:pt x="3845" y="4118"/>
                </a:cubicBezTo>
                <a:cubicBezTo>
                  <a:pt x="3878" y="4126"/>
                  <a:pt x="3911" y="4134"/>
                  <a:pt x="3944" y="4142"/>
                </a:cubicBezTo>
                <a:cubicBezTo>
                  <a:pt x="3967" y="4280"/>
                  <a:pt x="3949" y="4320"/>
                  <a:pt x="3795" y="4341"/>
                </a:cubicBezTo>
                <a:cubicBezTo>
                  <a:pt x="3787" y="4341"/>
                  <a:pt x="3778" y="4341"/>
                  <a:pt x="3770" y="4341"/>
                </a:cubicBezTo>
              </a:path>
              <a:path w="2655" h="472">
                <a:moveTo>
                  <a:pt x="4167" y="4217"/>
                </a:moveTo>
                <a:cubicBezTo>
                  <a:pt x="4234" y="4283"/>
                  <a:pt x="4221" y="4368"/>
                  <a:pt x="4192" y="4465"/>
                </a:cubicBezTo>
                <a:cubicBezTo>
                  <a:pt x="4288" y="4486"/>
                  <a:pt x="4404" y="4454"/>
                  <a:pt x="4514" y="4440"/>
                </a:cubicBezTo>
              </a:path>
              <a:path w="2655" h="472">
                <a:moveTo>
                  <a:pt x="4688" y="4142"/>
                </a:moveTo>
                <a:cubicBezTo>
                  <a:pt x="4688" y="4251"/>
                  <a:pt x="4727" y="4319"/>
                  <a:pt x="4762" y="4415"/>
                </a:cubicBezTo>
                <a:cubicBezTo>
                  <a:pt x="4764" y="4421"/>
                  <a:pt x="4762" y="4508"/>
                  <a:pt x="4762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0880" y="14828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5060" y="4192"/>
                </a:moveTo>
                <a:cubicBezTo>
                  <a:pt x="5111" y="4275"/>
                  <a:pt x="5158" y="4357"/>
                  <a:pt x="5209" y="4440"/>
                </a:cubicBezTo>
                <a:cubicBezTo>
                  <a:pt x="5169" y="4343"/>
                  <a:pt x="5127" y="4245"/>
                  <a:pt x="5110" y="4142"/>
                </a:cubicBezTo>
                <a:cubicBezTo>
                  <a:pt x="5203" y="4129"/>
                  <a:pt x="5287" y="4118"/>
                  <a:pt x="5383" y="4118"/>
                </a:cubicBezTo>
                <a:cubicBezTo>
                  <a:pt x="5424" y="4118"/>
                  <a:pt x="5432" y="4118"/>
                  <a:pt x="5457" y="4118"/>
                </a:cubicBezTo>
              </a:path>
              <a:path w="745" h="497">
                <a:moveTo>
                  <a:pt x="5184" y="4266"/>
                </a:moveTo>
                <a:cubicBezTo>
                  <a:pt x="5317" y="4280"/>
                  <a:pt x="5403" y="4276"/>
                  <a:pt x="5531" y="4242"/>
                </a:cubicBezTo>
              </a:path>
              <a:path w="745" h="497">
                <a:moveTo>
                  <a:pt x="5556" y="4118"/>
                </a:moveTo>
                <a:cubicBezTo>
                  <a:pt x="5583" y="4172"/>
                  <a:pt x="5640" y="4264"/>
                  <a:pt x="5705" y="4291"/>
                </a:cubicBezTo>
                <a:cubicBezTo>
                  <a:pt x="5730" y="4291"/>
                  <a:pt x="5738" y="4291"/>
                  <a:pt x="5730" y="4266"/>
                </a:cubicBezTo>
              </a:path>
              <a:path w="745" h="497">
                <a:moveTo>
                  <a:pt x="5730" y="4118"/>
                </a:moveTo>
                <a:cubicBezTo>
                  <a:pt x="5730" y="4246"/>
                  <a:pt x="5727" y="4364"/>
                  <a:pt x="5755" y="4490"/>
                </a:cubicBezTo>
                <a:cubicBezTo>
                  <a:pt x="5766" y="4539"/>
                  <a:pt x="5770" y="4603"/>
                  <a:pt x="580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7160" y="820800"/>
            <a:ext cx="5000760" cy="2938320"/>
          </a:xfrm>
          <a:custGeom>
            <a:avLst/>
            <a:gdLst/>
            <a:ahLst/>
            <a:rect l="l" t="t" r="r" b="b"/>
            <a:pathLst>
              <a:path w="13892" h="8162">
                <a:moveTo>
                  <a:pt x="8880" y="3870"/>
                </a:moveTo>
                <a:lnTo>
                  <a:pt x="8880" y="3870"/>
                </a:lnTo>
              </a:path>
              <a:path w="13892" h="8162">
                <a:moveTo>
                  <a:pt x="9947" y="10443"/>
                </a:moveTo>
                <a:lnTo>
                  <a:pt x="9947" y="10443"/>
                </a:lnTo>
              </a:path>
              <a:path w="13892" h="8162">
                <a:moveTo>
                  <a:pt x="9302" y="10393"/>
                </a:moveTo>
                <a:cubicBezTo>
                  <a:pt x="9388" y="10366"/>
                  <a:pt x="9461" y="10351"/>
                  <a:pt x="9550" y="10344"/>
                </a:cubicBezTo>
              </a:path>
              <a:path w="13892" h="8162">
                <a:moveTo>
                  <a:pt x="18008" y="2282"/>
                </a:moveTo>
                <a:lnTo>
                  <a:pt x="18008" y="2282"/>
                </a:lnTo>
              </a:path>
              <a:path w="13892" h="8162">
                <a:moveTo>
                  <a:pt x="16272" y="5135"/>
                </a:moveTo>
                <a:lnTo>
                  <a:pt x="16272" y="5135"/>
                </a:lnTo>
              </a:path>
              <a:path w="13892" h="8162">
                <a:moveTo>
                  <a:pt x="19199" y="5234"/>
                </a:moveTo>
                <a:cubicBezTo>
                  <a:pt x="19184" y="5443"/>
                  <a:pt x="19106" y="5630"/>
                  <a:pt x="19075" y="5829"/>
                </a:cubicBezTo>
                <a:cubicBezTo>
                  <a:pt x="19083" y="5821"/>
                  <a:pt x="19092" y="5812"/>
                  <a:pt x="19100" y="5804"/>
                </a:cubicBezTo>
              </a:path>
              <a:path w="13892" h="8162">
                <a:moveTo>
                  <a:pt x="17760" y="5209"/>
                </a:moveTo>
                <a:lnTo>
                  <a:pt x="17760" y="5209"/>
                </a:lnTo>
              </a:path>
              <a:path w="13892" h="8162">
                <a:moveTo>
                  <a:pt x="20216" y="5730"/>
                </a:moveTo>
                <a:lnTo>
                  <a:pt x="20216" y="5730"/>
                </a:lnTo>
              </a:path>
              <a:path w="13892" h="8162">
                <a:moveTo>
                  <a:pt x="20315" y="5928"/>
                </a:moveTo>
                <a:cubicBezTo>
                  <a:pt x="20472" y="5903"/>
                  <a:pt x="20612" y="5829"/>
                  <a:pt x="20762" y="5779"/>
                </a:cubicBezTo>
                <a:cubicBezTo>
                  <a:pt x="20836" y="5761"/>
                  <a:pt x="20843" y="5753"/>
                  <a:pt x="20886" y="5755"/>
                </a:cubicBezTo>
              </a:path>
              <a:path w="13892" h="8162">
                <a:moveTo>
                  <a:pt x="22771" y="5978"/>
                </a:moveTo>
                <a:lnTo>
                  <a:pt x="22771" y="59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2320" y="1089000"/>
            <a:ext cx="1419480" cy="349200"/>
          </a:xfrm>
          <a:custGeom>
            <a:avLst/>
            <a:gdLst/>
            <a:ahLst/>
            <a:rect l="l" t="t" r="r" b="b"/>
            <a:pathLst>
              <a:path w="3945" h="969">
                <a:moveTo>
                  <a:pt x="2183" y="3249"/>
                </a:moveTo>
                <a:cubicBezTo>
                  <a:pt x="2136" y="3240"/>
                  <a:pt x="2056" y="3166"/>
                  <a:pt x="2009" y="3175"/>
                </a:cubicBezTo>
                <a:cubicBezTo>
                  <a:pt x="1885" y="3200"/>
                  <a:pt x="1856" y="3301"/>
                  <a:pt x="1811" y="3398"/>
                </a:cubicBezTo>
                <a:cubicBezTo>
                  <a:pt x="1886" y="3448"/>
                  <a:pt x="1968" y="3487"/>
                  <a:pt x="2034" y="3398"/>
                </a:cubicBezTo>
                <a:cubicBezTo>
                  <a:pt x="2099" y="3310"/>
                  <a:pt x="2062" y="3170"/>
                  <a:pt x="2133" y="3349"/>
                </a:cubicBezTo>
                <a:cubicBezTo>
                  <a:pt x="2133" y="3373"/>
                  <a:pt x="2133" y="3381"/>
                  <a:pt x="2158" y="3373"/>
                </a:cubicBezTo>
              </a:path>
              <a:path w="3945" h="969">
                <a:moveTo>
                  <a:pt x="2505" y="3274"/>
                </a:moveTo>
                <a:cubicBezTo>
                  <a:pt x="2491" y="3232"/>
                  <a:pt x="2435" y="3228"/>
                  <a:pt x="2381" y="3225"/>
                </a:cubicBezTo>
                <a:cubicBezTo>
                  <a:pt x="2298" y="3221"/>
                  <a:pt x="2274" y="3311"/>
                  <a:pt x="2232" y="3373"/>
                </a:cubicBezTo>
                <a:cubicBezTo>
                  <a:pt x="2356" y="3451"/>
                  <a:pt x="2404" y="3398"/>
                  <a:pt x="2480" y="3274"/>
                </a:cubicBezTo>
              </a:path>
              <a:path w="3945" h="969">
                <a:moveTo>
                  <a:pt x="2456" y="3051"/>
                </a:moveTo>
                <a:cubicBezTo>
                  <a:pt x="2472" y="3151"/>
                  <a:pt x="2499" y="3246"/>
                  <a:pt x="2505" y="3349"/>
                </a:cubicBezTo>
                <a:cubicBezTo>
                  <a:pt x="2505" y="3382"/>
                  <a:pt x="2514" y="3390"/>
                  <a:pt x="2555" y="3373"/>
                </a:cubicBezTo>
              </a:path>
              <a:path w="3945" h="969">
                <a:moveTo>
                  <a:pt x="2977" y="3324"/>
                </a:moveTo>
                <a:cubicBezTo>
                  <a:pt x="2977" y="3269"/>
                  <a:pt x="2966" y="3240"/>
                  <a:pt x="2902" y="3225"/>
                </a:cubicBezTo>
                <a:cubicBezTo>
                  <a:pt x="2847" y="3212"/>
                  <a:pt x="2735" y="3220"/>
                  <a:pt x="2704" y="3274"/>
                </a:cubicBezTo>
                <a:cubicBezTo>
                  <a:pt x="2682" y="3339"/>
                  <a:pt x="2674" y="3354"/>
                  <a:pt x="2679" y="3398"/>
                </a:cubicBezTo>
                <a:cubicBezTo>
                  <a:pt x="2792" y="3455"/>
                  <a:pt x="2846" y="3400"/>
                  <a:pt x="2902" y="3299"/>
                </a:cubicBezTo>
                <a:cubicBezTo>
                  <a:pt x="2919" y="3266"/>
                  <a:pt x="2935" y="3233"/>
                  <a:pt x="2952" y="3200"/>
                </a:cubicBezTo>
              </a:path>
              <a:path w="3945" h="969">
                <a:moveTo>
                  <a:pt x="2902" y="3026"/>
                </a:moveTo>
                <a:cubicBezTo>
                  <a:pt x="2925" y="3151"/>
                  <a:pt x="2959" y="3270"/>
                  <a:pt x="2977" y="3398"/>
                </a:cubicBezTo>
                <a:cubicBezTo>
                  <a:pt x="2977" y="3406"/>
                  <a:pt x="2977" y="3415"/>
                  <a:pt x="2977" y="3423"/>
                </a:cubicBezTo>
              </a:path>
              <a:path w="3945" h="969">
                <a:moveTo>
                  <a:pt x="3597" y="3175"/>
                </a:moveTo>
                <a:cubicBezTo>
                  <a:pt x="3616" y="3241"/>
                  <a:pt x="3657" y="3305"/>
                  <a:pt x="3671" y="3373"/>
                </a:cubicBezTo>
                <a:cubicBezTo>
                  <a:pt x="3633" y="3311"/>
                  <a:pt x="3620" y="3226"/>
                  <a:pt x="3696" y="3175"/>
                </a:cubicBezTo>
                <a:cubicBezTo>
                  <a:pt x="3792" y="3111"/>
                  <a:pt x="3897" y="3183"/>
                  <a:pt x="3944" y="3274"/>
                </a:cubicBezTo>
                <a:cubicBezTo>
                  <a:pt x="3963" y="3348"/>
                  <a:pt x="3971" y="3355"/>
                  <a:pt x="3969" y="3398"/>
                </a:cubicBezTo>
              </a:path>
              <a:path w="3945" h="969">
                <a:moveTo>
                  <a:pt x="4093" y="3200"/>
                </a:moveTo>
                <a:cubicBezTo>
                  <a:pt x="4120" y="3281"/>
                  <a:pt x="4129" y="3312"/>
                  <a:pt x="4118" y="3373"/>
                </a:cubicBezTo>
                <a:cubicBezTo>
                  <a:pt x="4227" y="3373"/>
                  <a:pt x="4307" y="3380"/>
                  <a:pt x="4366" y="3274"/>
                </a:cubicBezTo>
                <a:cubicBezTo>
                  <a:pt x="4391" y="3229"/>
                  <a:pt x="4364" y="3208"/>
                  <a:pt x="4341" y="3200"/>
                </a:cubicBezTo>
                <a:cubicBezTo>
                  <a:pt x="4341" y="3255"/>
                  <a:pt x="4349" y="3332"/>
                  <a:pt x="4390" y="3373"/>
                </a:cubicBezTo>
                <a:cubicBezTo>
                  <a:pt x="4423" y="3406"/>
                  <a:pt x="4461" y="3335"/>
                  <a:pt x="4490" y="3299"/>
                </a:cubicBezTo>
              </a:path>
              <a:path w="3945" h="969">
                <a:moveTo>
                  <a:pt x="4539" y="3249"/>
                </a:moveTo>
                <a:cubicBezTo>
                  <a:pt x="4539" y="3301"/>
                  <a:pt x="4540" y="3319"/>
                  <a:pt x="4564" y="3349"/>
                </a:cubicBezTo>
                <a:cubicBezTo>
                  <a:pt x="4564" y="3421"/>
                  <a:pt x="4564" y="3225"/>
                  <a:pt x="4564" y="3225"/>
                </a:cubicBezTo>
                <a:cubicBezTo>
                  <a:pt x="4679" y="3162"/>
                  <a:pt x="4770" y="3265"/>
                  <a:pt x="4812" y="3349"/>
                </a:cubicBezTo>
                <a:cubicBezTo>
                  <a:pt x="4812" y="3277"/>
                  <a:pt x="4809" y="3200"/>
                  <a:pt x="4911" y="3200"/>
                </a:cubicBezTo>
                <a:cubicBezTo>
                  <a:pt x="5017" y="3200"/>
                  <a:pt x="5035" y="3295"/>
                  <a:pt x="5035" y="3373"/>
                </a:cubicBezTo>
                <a:cubicBezTo>
                  <a:pt x="5035" y="3381"/>
                  <a:pt x="5035" y="3390"/>
                  <a:pt x="5035" y="3398"/>
                </a:cubicBezTo>
              </a:path>
              <a:path w="3945" h="969">
                <a:moveTo>
                  <a:pt x="5209" y="3349"/>
                </a:moveTo>
                <a:cubicBezTo>
                  <a:pt x="5259" y="3349"/>
                  <a:pt x="5308" y="3349"/>
                  <a:pt x="5358" y="3349"/>
                </a:cubicBezTo>
                <a:cubicBezTo>
                  <a:pt x="5344" y="3293"/>
                  <a:pt x="5318" y="3214"/>
                  <a:pt x="5234" y="3249"/>
                </a:cubicBezTo>
                <a:cubicBezTo>
                  <a:pt x="5187" y="3269"/>
                  <a:pt x="5173" y="3381"/>
                  <a:pt x="5159" y="3423"/>
                </a:cubicBezTo>
                <a:cubicBezTo>
                  <a:pt x="5255" y="3459"/>
                  <a:pt x="5333" y="3451"/>
                  <a:pt x="5432" y="3423"/>
                </a:cubicBezTo>
              </a:path>
              <a:path w="3945" h="969">
                <a:moveTo>
                  <a:pt x="5556" y="3299"/>
                </a:moveTo>
                <a:cubicBezTo>
                  <a:pt x="5556" y="3349"/>
                  <a:pt x="5556" y="3365"/>
                  <a:pt x="5556" y="3398"/>
                </a:cubicBezTo>
                <a:cubicBezTo>
                  <a:pt x="5567" y="3275"/>
                  <a:pt x="5571" y="3267"/>
                  <a:pt x="5705" y="3249"/>
                </a:cubicBezTo>
                <a:cubicBezTo>
                  <a:pt x="5722" y="3249"/>
                  <a:pt x="5738" y="3249"/>
                  <a:pt x="5755" y="3249"/>
                </a:cubicBezTo>
              </a:path>
              <a:path w="3945" h="969">
                <a:moveTo>
                  <a:pt x="2381" y="3870"/>
                </a:moveTo>
                <a:cubicBezTo>
                  <a:pt x="2427" y="3861"/>
                  <a:pt x="2525" y="3835"/>
                  <a:pt x="2530" y="3795"/>
                </a:cubicBezTo>
                <a:cubicBezTo>
                  <a:pt x="2530" y="3787"/>
                  <a:pt x="2530" y="3778"/>
                  <a:pt x="2530" y="3770"/>
                </a:cubicBezTo>
                <a:cubicBezTo>
                  <a:pt x="2521" y="3744"/>
                  <a:pt x="2441" y="3720"/>
                  <a:pt x="2406" y="3746"/>
                </a:cubicBezTo>
                <a:cubicBezTo>
                  <a:pt x="2344" y="3793"/>
                  <a:pt x="2329" y="3931"/>
                  <a:pt x="2406" y="3969"/>
                </a:cubicBezTo>
                <a:cubicBezTo>
                  <a:pt x="2544" y="4038"/>
                  <a:pt x="2602" y="3932"/>
                  <a:pt x="2679" y="3845"/>
                </a:cubicBezTo>
              </a:path>
              <a:path w="3945" h="969">
                <a:moveTo>
                  <a:pt x="2679" y="3845"/>
                </a:moveTo>
                <a:cubicBezTo>
                  <a:pt x="2704" y="3894"/>
                  <a:pt x="2713" y="3911"/>
                  <a:pt x="2729" y="3944"/>
                </a:cubicBezTo>
                <a:cubicBezTo>
                  <a:pt x="2701" y="3870"/>
                  <a:pt x="2683" y="3805"/>
                  <a:pt x="2778" y="3770"/>
                </a:cubicBezTo>
                <a:cubicBezTo>
                  <a:pt x="2891" y="3729"/>
                  <a:pt x="2983" y="3783"/>
                  <a:pt x="3026" y="3894"/>
                </a:cubicBezTo>
                <a:cubicBezTo>
                  <a:pt x="3026" y="3919"/>
                  <a:pt x="3026" y="3927"/>
                  <a:pt x="3026" y="3944"/>
                </a:cubicBezTo>
              </a:path>
              <a:path w="3945" h="969">
                <a:moveTo>
                  <a:pt x="3299" y="3795"/>
                </a:moveTo>
                <a:cubicBezTo>
                  <a:pt x="3203" y="3807"/>
                  <a:pt x="3177" y="3837"/>
                  <a:pt x="3125" y="3919"/>
                </a:cubicBezTo>
                <a:cubicBezTo>
                  <a:pt x="3216" y="3961"/>
                  <a:pt x="3374" y="4015"/>
                  <a:pt x="3398" y="3845"/>
                </a:cubicBezTo>
                <a:cubicBezTo>
                  <a:pt x="3408" y="3774"/>
                  <a:pt x="3335" y="3795"/>
                  <a:pt x="3299" y="3795"/>
                </a:cubicBezTo>
              </a:path>
              <a:path w="3945" h="969">
                <a:moveTo>
                  <a:pt x="3497" y="3870"/>
                </a:moveTo>
                <a:cubicBezTo>
                  <a:pt x="3497" y="3886"/>
                  <a:pt x="3497" y="3903"/>
                  <a:pt x="3497" y="3919"/>
                </a:cubicBezTo>
                <a:cubicBezTo>
                  <a:pt x="3497" y="3873"/>
                  <a:pt x="3475" y="3802"/>
                  <a:pt x="3522" y="3795"/>
                </a:cubicBezTo>
                <a:cubicBezTo>
                  <a:pt x="3606" y="3782"/>
                  <a:pt x="3679" y="3893"/>
                  <a:pt x="3696" y="3894"/>
                </a:cubicBezTo>
                <a:cubicBezTo>
                  <a:pt x="3740" y="3896"/>
                  <a:pt x="3727" y="3832"/>
                  <a:pt x="3770" y="3820"/>
                </a:cubicBezTo>
                <a:cubicBezTo>
                  <a:pt x="3870" y="3791"/>
                  <a:pt x="3862" y="3782"/>
                  <a:pt x="3919" y="3870"/>
                </a:cubicBezTo>
                <a:cubicBezTo>
                  <a:pt x="3939" y="3910"/>
                  <a:pt x="3948" y="3916"/>
                  <a:pt x="3944" y="3944"/>
                </a:cubicBezTo>
              </a:path>
              <a:path w="3945" h="969">
                <a:moveTo>
                  <a:pt x="4142" y="3820"/>
                </a:moveTo>
                <a:cubicBezTo>
                  <a:pt x="4166" y="3880"/>
                  <a:pt x="4160" y="4051"/>
                  <a:pt x="4192" y="3994"/>
                </a:cubicBezTo>
                <a:cubicBezTo>
                  <a:pt x="4200" y="3969"/>
                  <a:pt x="4209" y="3944"/>
                  <a:pt x="4217" y="3919"/>
                </a:cubicBezTo>
              </a:path>
              <a:path w="3945" h="969">
                <a:moveTo>
                  <a:pt x="4341" y="3919"/>
                </a:moveTo>
                <a:cubicBezTo>
                  <a:pt x="4341" y="3982"/>
                  <a:pt x="4341" y="3865"/>
                  <a:pt x="4341" y="3845"/>
                </a:cubicBezTo>
                <a:cubicBezTo>
                  <a:pt x="4414" y="3845"/>
                  <a:pt x="4565" y="3800"/>
                  <a:pt x="4589" y="3894"/>
                </a:cubicBezTo>
                <a:cubicBezTo>
                  <a:pt x="4604" y="3953"/>
                  <a:pt x="4571" y="3965"/>
                  <a:pt x="4614" y="3994"/>
                </a:cubicBezTo>
              </a:path>
              <a:path w="3945" h="969">
                <a:moveTo>
                  <a:pt x="4936" y="3845"/>
                </a:moveTo>
                <a:cubicBezTo>
                  <a:pt x="4856" y="3799"/>
                  <a:pt x="4748" y="3776"/>
                  <a:pt x="4663" y="3845"/>
                </a:cubicBezTo>
                <a:cubicBezTo>
                  <a:pt x="4655" y="3861"/>
                  <a:pt x="4646" y="3878"/>
                  <a:pt x="4638" y="3894"/>
                </a:cubicBezTo>
                <a:cubicBezTo>
                  <a:pt x="4769" y="3967"/>
                  <a:pt x="4757" y="3852"/>
                  <a:pt x="4837" y="3894"/>
                </a:cubicBezTo>
                <a:cubicBezTo>
                  <a:pt x="4995" y="3977"/>
                  <a:pt x="4986" y="3963"/>
                  <a:pt x="5085" y="3845"/>
                </a:cubicBezTo>
              </a:path>
              <a:path w="3945" h="969">
                <a:moveTo>
                  <a:pt x="5135" y="3646"/>
                </a:moveTo>
                <a:cubicBezTo>
                  <a:pt x="5135" y="3733"/>
                  <a:pt x="5163" y="3871"/>
                  <a:pt x="5209" y="3944"/>
                </a:cubicBezTo>
                <a:cubicBezTo>
                  <a:pt x="5209" y="3927"/>
                  <a:pt x="5209" y="3911"/>
                  <a:pt x="5209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03640" y="1152360"/>
            <a:ext cx="1644480" cy="268560"/>
          </a:xfrm>
          <a:custGeom>
            <a:avLst/>
            <a:gdLst/>
            <a:ahLst/>
            <a:rect l="l" t="t" r="r" b="b"/>
            <a:pathLst>
              <a:path w="4565" h="745">
                <a:moveTo>
                  <a:pt x="6400" y="3249"/>
                </a:moveTo>
                <a:cubicBezTo>
                  <a:pt x="6553" y="3221"/>
                  <a:pt x="6714" y="3212"/>
                  <a:pt x="6871" y="3200"/>
                </a:cubicBezTo>
                <a:cubicBezTo>
                  <a:pt x="6878" y="3248"/>
                  <a:pt x="6794" y="3358"/>
                  <a:pt x="6896" y="3373"/>
                </a:cubicBezTo>
                <a:cubicBezTo>
                  <a:pt x="6953" y="3382"/>
                  <a:pt x="7123" y="3327"/>
                  <a:pt x="7020" y="3225"/>
                </a:cubicBezTo>
                <a:cubicBezTo>
                  <a:pt x="7006" y="3211"/>
                  <a:pt x="6895" y="3203"/>
                  <a:pt x="6871" y="3200"/>
                </a:cubicBezTo>
                <a:cubicBezTo>
                  <a:pt x="6805" y="3200"/>
                  <a:pt x="6954" y="3200"/>
                  <a:pt x="7020" y="3200"/>
                </a:cubicBezTo>
              </a:path>
              <a:path w="4565" h="745">
                <a:moveTo>
                  <a:pt x="7144" y="3225"/>
                </a:moveTo>
                <a:cubicBezTo>
                  <a:pt x="7174" y="3284"/>
                  <a:pt x="7189" y="3310"/>
                  <a:pt x="7218" y="3349"/>
                </a:cubicBezTo>
                <a:cubicBezTo>
                  <a:pt x="7218" y="3282"/>
                  <a:pt x="7233" y="3211"/>
                  <a:pt x="7317" y="3200"/>
                </a:cubicBezTo>
                <a:cubicBezTo>
                  <a:pt x="7367" y="3200"/>
                  <a:pt x="7416" y="3200"/>
                  <a:pt x="7466" y="3200"/>
                </a:cubicBezTo>
              </a:path>
              <a:path w="4565" h="745">
                <a:moveTo>
                  <a:pt x="7714" y="3200"/>
                </a:moveTo>
                <a:cubicBezTo>
                  <a:pt x="7666" y="3200"/>
                  <a:pt x="7653" y="3202"/>
                  <a:pt x="7615" y="3225"/>
                </a:cubicBezTo>
                <a:cubicBezTo>
                  <a:pt x="7571" y="3225"/>
                  <a:pt x="7769" y="3243"/>
                  <a:pt x="7813" y="3274"/>
                </a:cubicBezTo>
                <a:cubicBezTo>
                  <a:pt x="7903" y="3337"/>
                  <a:pt x="7734" y="3363"/>
                  <a:pt x="7714" y="3373"/>
                </a:cubicBezTo>
                <a:cubicBezTo>
                  <a:pt x="7706" y="3381"/>
                  <a:pt x="7697" y="3390"/>
                  <a:pt x="7689" y="3398"/>
                </a:cubicBezTo>
              </a:path>
              <a:path w="4565" h="745">
                <a:moveTo>
                  <a:pt x="7590" y="3770"/>
                </a:moveTo>
                <a:cubicBezTo>
                  <a:pt x="7470" y="3822"/>
                  <a:pt x="7552" y="3836"/>
                  <a:pt x="7640" y="3894"/>
                </a:cubicBezTo>
                <a:cubicBezTo>
                  <a:pt x="7558" y="3964"/>
                  <a:pt x="7536" y="3942"/>
                  <a:pt x="7417" y="3919"/>
                </a:cubicBezTo>
              </a:path>
              <a:path w="4565" h="745">
                <a:moveTo>
                  <a:pt x="8161" y="3597"/>
                </a:moveTo>
                <a:cubicBezTo>
                  <a:pt x="8178" y="3697"/>
                  <a:pt x="8304" y="3932"/>
                  <a:pt x="8210" y="3894"/>
                </a:cubicBezTo>
                <a:cubicBezTo>
                  <a:pt x="8202" y="3878"/>
                  <a:pt x="8194" y="3861"/>
                  <a:pt x="8186" y="3845"/>
                </a:cubicBezTo>
              </a:path>
              <a:path w="4565" h="745">
                <a:moveTo>
                  <a:pt x="7987" y="3721"/>
                </a:moveTo>
                <a:cubicBezTo>
                  <a:pt x="8108" y="3721"/>
                  <a:pt x="8295" y="3772"/>
                  <a:pt x="8359" y="3646"/>
                </a:cubicBezTo>
                <a:cubicBezTo>
                  <a:pt x="8378" y="3589"/>
                  <a:pt x="8369" y="3564"/>
                  <a:pt x="8409" y="3572"/>
                </a:cubicBezTo>
                <a:cubicBezTo>
                  <a:pt x="8389" y="3582"/>
                  <a:pt x="8429" y="3722"/>
                  <a:pt x="8434" y="3795"/>
                </a:cubicBezTo>
                <a:cubicBezTo>
                  <a:pt x="8445" y="3750"/>
                  <a:pt x="8469" y="3677"/>
                  <a:pt x="8533" y="3696"/>
                </a:cubicBezTo>
                <a:cubicBezTo>
                  <a:pt x="8657" y="3733"/>
                  <a:pt x="8679" y="3769"/>
                  <a:pt x="8706" y="3870"/>
                </a:cubicBezTo>
              </a:path>
              <a:path w="4565" h="745">
                <a:moveTo>
                  <a:pt x="8756" y="3746"/>
                </a:moveTo>
                <a:cubicBezTo>
                  <a:pt x="8830" y="3721"/>
                  <a:pt x="8855" y="3712"/>
                  <a:pt x="8905" y="3696"/>
                </a:cubicBezTo>
                <a:cubicBezTo>
                  <a:pt x="8806" y="3678"/>
                  <a:pt x="8684" y="3702"/>
                  <a:pt x="8756" y="3845"/>
                </a:cubicBezTo>
                <a:cubicBezTo>
                  <a:pt x="8808" y="3896"/>
                  <a:pt x="8827" y="3911"/>
                  <a:pt x="8880" y="3870"/>
                </a:cubicBezTo>
              </a:path>
              <a:path w="4565" h="745">
                <a:moveTo>
                  <a:pt x="9451" y="3646"/>
                </a:moveTo>
                <a:cubicBezTo>
                  <a:pt x="9389" y="3646"/>
                  <a:pt x="9374" y="3637"/>
                  <a:pt x="9351" y="3671"/>
                </a:cubicBezTo>
                <a:cubicBezTo>
                  <a:pt x="9391" y="3688"/>
                  <a:pt x="9638" y="3808"/>
                  <a:pt x="9624" y="3820"/>
                </a:cubicBezTo>
                <a:cubicBezTo>
                  <a:pt x="9524" y="3903"/>
                  <a:pt x="9296" y="3928"/>
                  <a:pt x="9351" y="3795"/>
                </a:cubicBezTo>
              </a:path>
              <a:path w="4565" h="745">
                <a:moveTo>
                  <a:pt x="9872" y="3696"/>
                </a:moveTo>
                <a:cubicBezTo>
                  <a:pt x="9852" y="3635"/>
                  <a:pt x="9724" y="3626"/>
                  <a:pt x="9674" y="3696"/>
                </a:cubicBezTo>
                <a:cubicBezTo>
                  <a:pt x="9562" y="3851"/>
                  <a:pt x="9768" y="3891"/>
                  <a:pt x="9823" y="3770"/>
                </a:cubicBezTo>
                <a:cubicBezTo>
                  <a:pt x="9823" y="3745"/>
                  <a:pt x="9823" y="3721"/>
                  <a:pt x="9823" y="3696"/>
                </a:cubicBezTo>
                <a:cubicBezTo>
                  <a:pt x="9873" y="3760"/>
                  <a:pt x="9918" y="3851"/>
                  <a:pt x="10021" y="3820"/>
                </a:cubicBezTo>
                <a:cubicBezTo>
                  <a:pt x="10092" y="3799"/>
                  <a:pt x="10145" y="3635"/>
                  <a:pt x="10145" y="3746"/>
                </a:cubicBezTo>
                <a:cubicBezTo>
                  <a:pt x="10145" y="3762"/>
                  <a:pt x="10145" y="3779"/>
                  <a:pt x="10145" y="3795"/>
                </a:cubicBezTo>
                <a:cubicBezTo>
                  <a:pt x="10145" y="3744"/>
                  <a:pt x="10138" y="3683"/>
                  <a:pt x="10195" y="3671"/>
                </a:cubicBezTo>
                <a:cubicBezTo>
                  <a:pt x="10276" y="3653"/>
                  <a:pt x="10305" y="3719"/>
                  <a:pt x="10344" y="3770"/>
                </a:cubicBezTo>
                <a:cubicBezTo>
                  <a:pt x="10344" y="3696"/>
                  <a:pt x="10341" y="3660"/>
                  <a:pt x="10418" y="3646"/>
                </a:cubicBezTo>
                <a:cubicBezTo>
                  <a:pt x="10541" y="3624"/>
                  <a:pt x="10526" y="3781"/>
                  <a:pt x="10517" y="3845"/>
                </a:cubicBezTo>
                <a:cubicBezTo>
                  <a:pt x="10517" y="3880"/>
                  <a:pt x="10522" y="3879"/>
                  <a:pt x="10542" y="3820"/>
                </a:cubicBezTo>
              </a:path>
              <a:path w="4565" h="745">
                <a:moveTo>
                  <a:pt x="10765" y="3721"/>
                </a:moveTo>
                <a:cubicBezTo>
                  <a:pt x="10813" y="3721"/>
                  <a:pt x="10827" y="3725"/>
                  <a:pt x="10864" y="3696"/>
                </a:cubicBezTo>
                <a:cubicBezTo>
                  <a:pt x="10813" y="3679"/>
                  <a:pt x="10770" y="3658"/>
                  <a:pt x="10716" y="3646"/>
                </a:cubicBezTo>
                <a:cubicBezTo>
                  <a:pt x="10692" y="3678"/>
                  <a:pt x="10659" y="3785"/>
                  <a:pt x="10691" y="3845"/>
                </a:cubicBezTo>
                <a:cubicBezTo>
                  <a:pt x="10737" y="3930"/>
                  <a:pt x="10905" y="3844"/>
                  <a:pt x="10964" y="38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61000" y="741240"/>
            <a:ext cx="857160" cy="1652760"/>
          </a:xfrm>
          <a:custGeom>
            <a:avLst/>
            <a:gdLst/>
            <a:ahLst/>
            <a:rect l="l" t="t" r="r" b="b"/>
            <a:pathLst>
              <a:path w="2382" h="4590">
                <a:moveTo>
                  <a:pt x="17487" y="2059"/>
                </a:moveTo>
                <a:cubicBezTo>
                  <a:pt x="17625" y="2059"/>
                  <a:pt x="17956" y="2006"/>
                  <a:pt x="18033" y="2084"/>
                </a:cubicBezTo>
              </a:path>
              <a:path w="2382" h="4590">
                <a:moveTo>
                  <a:pt x="17537" y="2282"/>
                </a:moveTo>
                <a:cubicBezTo>
                  <a:pt x="17694" y="2282"/>
                  <a:pt x="17851" y="2282"/>
                  <a:pt x="18008" y="2282"/>
                </a:cubicBezTo>
              </a:path>
              <a:path w="2382" h="4590">
                <a:moveTo>
                  <a:pt x="16371" y="6325"/>
                </a:moveTo>
                <a:cubicBezTo>
                  <a:pt x="16371" y="6379"/>
                  <a:pt x="16383" y="6362"/>
                  <a:pt x="16396" y="6400"/>
                </a:cubicBezTo>
              </a:path>
              <a:path w="2382" h="4590">
                <a:moveTo>
                  <a:pt x="16396" y="6276"/>
                </a:moveTo>
                <a:cubicBezTo>
                  <a:pt x="16396" y="6347"/>
                  <a:pt x="16361" y="6393"/>
                  <a:pt x="16321" y="6449"/>
                </a:cubicBezTo>
              </a:path>
              <a:path w="2382" h="4590">
                <a:moveTo>
                  <a:pt x="16495" y="6102"/>
                </a:moveTo>
                <a:cubicBezTo>
                  <a:pt x="16540" y="6091"/>
                  <a:pt x="16565" y="6077"/>
                  <a:pt x="16619" y="6077"/>
                </a:cubicBezTo>
                <a:cubicBezTo>
                  <a:pt x="16599" y="6170"/>
                  <a:pt x="16533" y="6217"/>
                  <a:pt x="16495" y="6300"/>
                </a:cubicBezTo>
                <a:cubicBezTo>
                  <a:pt x="16495" y="6308"/>
                  <a:pt x="16495" y="6317"/>
                  <a:pt x="16495" y="6325"/>
                </a:cubicBezTo>
                <a:cubicBezTo>
                  <a:pt x="16553" y="6325"/>
                  <a:pt x="16611" y="6325"/>
                  <a:pt x="16669" y="6325"/>
                </a:cubicBezTo>
              </a:path>
              <a:path w="2382" h="4590">
                <a:moveTo>
                  <a:pt x="16197" y="5035"/>
                </a:moveTo>
                <a:cubicBezTo>
                  <a:pt x="16247" y="5055"/>
                  <a:pt x="16284" y="5082"/>
                  <a:pt x="16297" y="5135"/>
                </a:cubicBezTo>
              </a:path>
              <a:path w="2382" h="4590">
                <a:moveTo>
                  <a:pt x="16321" y="5011"/>
                </a:moveTo>
                <a:cubicBezTo>
                  <a:pt x="16310" y="5054"/>
                  <a:pt x="16282" y="5087"/>
                  <a:pt x="16272" y="5135"/>
                </a:cubicBezTo>
              </a:path>
              <a:path w="2382" h="4590">
                <a:moveTo>
                  <a:pt x="16396" y="4961"/>
                </a:moveTo>
                <a:cubicBezTo>
                  <a:pt x="16437" y="4961"/>
                  <a:pt x="16445" y="4961"/>
                  <a:pt x="16470" y="4961"/>
                </a:cubicBezTo>
                <a:cubicBezTo>
                  <a:pt x="16495" y="5036"/>
                  <a:pt x="16441" y="5127"/>
                  <a:pt x="16371" y="5184"/>
                </a:cubicBezTo>
                <a:cubicBezTo>
                  <a:pt x="16363" y="5184"/>
                  <a:pt x="16354" y="5184"/>
                  <a:pt x="16346" y="5184"/>
                </a:cubicBezTo>
                <a:cubicBezTo>
                  <a:pt x="16408" y="5184"/>
                  <a:pt x="16527" y="5212"/>
                  <a:pt x="16545" y="5159"/>
                </a:cubicBezTo>
              </a:path>
              <a:path w="2382" h="4590">
                <a:moveTo>
                  <a:pt x="16197" y="4093"/>
                </a:moveTo>
                <a:cubicBezTo>
                  <a:pt x="16175" y="4161"/>
                  <a:pt x="16146" y="4294"/>
                  <a:pt x="16123" y="4390"/>
                </a:cubicBezTo>
                <a:cubicBezTo>
                  <a:pt x="16104" y="4448"/>
                  <a:pt x="16095" y="4455"/>
                  <a:pt x="16098" y="4490"/>
                </a:cubicBezTo>
              </a:path>
              <a:path w="2382" h="4590">
                <a:moveTo>
                  <a:pt x="16446" y="4093"/>
                </a:moveTo>
                <a:cubicBezTo>
                  <a:pt x="16351" y="4152"/>
                  <a:pt x="16316" y="4264"/>
                  <a:pt x="16297" y="4390"/>
                </a:cubicBezTo>
                <a:cubicBezTo>
                  <a:pt x="16400" y="4420"/>
                  <a:pt x="16535" y="4384"/>
                  <a:pt x="16545" y="4242"/>
                </a:cubicBezTo>
                <a:cubicBezTo>
                  <a:pt x="16550" y="4174"/>
                  <a:pt x="16515" y="4153"/>
                  <a:pt x="16470" y="4142"/>
                </a:cubicBezTo>
              </a:path>
              <a:path w="2382" h="4590">
                <a:moveTo>
                  <a:pt x="16570" y="4961"/>
                </a:moveTo>
                <a:cubicBezTo>
                  <a:pt x="16311" y="5173"/>
                  <a:pt x="16049" y="5387"/>
                  <a:pt x="15776" y="5581"/>
                </a:cubicBezTo>
                <a:cubicBezTo>
                  <a:pt x="15735" y="5601"/>
                  <a:pt x="15719" y="5599"/>
                  <a:pt x="15726" y="5631"/>
                </a:cubicBezTo>
              </a:path>
              <a:path w="2382" h="4590">
                <a:moveTo>
                  <a:pt x="16669" y="6077"/>
                </a:moveTo>
                <a:cubicBezTo>
                  <a:pt x="16437" y="6177"/>
                  <a:pt x="16193" y="6359"/>
                  <a:pt x="15974" y="6499"/>
                </a:cubicBezTo>
                <a:cubicBezTo>
                  <a:pt x="15842" y="6583"/>
                  <a:pt x="15732" y="6753"/>
                  <a:pt x="15850" y="6548"/>
                </a:cubicBezTo>
              </a:path>
              <a:path w="2382" h="4590">
                <a:moveTo>
                  <a:pt x="17959" y="6251"/>
                </a:moveTo>
                <a:cubicBezTo>
                  <a:pt x="18018" y="6239"/>
                  <a:pt x="18049" y="6209"/>
                  <a:pt x="18107" y="6201"/>
                </a:cubicBezTo>
                <a:cubicBezTo>
                  <a:pt x="18089" y="6282"/>
                  <a:pt x="18075" y="6300"/>
                  <a:pt x="18008" y="6350"/>
                </a:cubicBezTo>
                <a:cubicBezTo>
                  <a:pt x="18027" y="6407"/>
                  <a:pt x="18115" y="6377"/>
                  <a:pt x="18033" y="6499"/>
                </a:cubicBezTo>
                <a:cubicBezTo>
                  <a:pt x="18024" y="6513"/>
                  <a:pt x="17952" y="6535"/>
                  <a:pt x="17934" y="6548"/>
                </a:cubicBezTo>
              </a:path>
              <a:path w="2382" h="4590">
                <a:moveTo>
                  <a:pt x="17711" y="5085"/>
                </a:moveTo>
                <a:cubicBezTo>
                  <a:pt x="17748" y="5104"/>
                  <a:pt x="17774" y="5139"/>
                  <a:pt x="17785" y="5184"/>
                </a:cubicBezTo>
              </a:path>
              <a:path w="2382" h="4590">
                <a:moveTo>
                  <a:pt x="17810" y="5035"/>
                </a:moveTo>
                <a:cubicBezTo>
                  <a:pt x="17800" y="5096"/>
                  <a:pt x="17772" y="5151"/>
                  <a:pt x="17760" y="5209"/>
                </a:cubicBezTo>
              </a:path>
              <a:path w="2382" h="4590">
                <a:moveTo>
                  <a:pt x="17959" y="5011"/>
                </a:moveTo>
                <a:cubicBezTo>
                  <a:pt x="18003" y="5002"/>
                  <a:pt x="18037" y="4992"/>
                  <a:pt x="18083" y="4986"/>
                </a:cubicBezTo>
                <a:cubicBezTo>
                  <a:pt x="18064" y="5034"/>
                  <a:pt x="18025" y="5089"/>
                  <a:pt x="17983" y="5110"/>
                </a:cubicBezTo>
                <a:cubicBezTo>
                  <a:pt x="18041" y="5110"/>
                  <a:pt x="18107" y="5082"/>
                  <a:pt x="18058" y="5159"/>
                </a:cubicBezTo>
                <a:cubicBezTo>
                  <a:pt x="18030" y="5187"/>
                  <a:pt x="18016" y="5196"/>
                  <a:pt x="17983" y="5184"/>
                </a:cubicBezTo>
              </a:path>
              <a:path w="2382" h="4590">
                <a:moveTo>
                  <a:pt x="17487" y="4217"/>
                </a:moveTo>
                <a:cubicBezTo>
                  <a:pt x="17487" y="4143"/>
                  <a:pt x="17440" y="4433"/>
                  <a:pt x="17438" y="4440"/>
                </a:cubicBezTo>
                <a:cubicBezTo>
                  <a:pt x="17422" y="4502"/>
                  <a:pt x="17413" y="4510"/>
                  <a:pt x="17413" y="4564"/>
                </a:cubicBezTo>
              </a:path>
              <a:path w="2382" h="4590">
                <a:moveTo>
                  <a:pt x="17983" y="3994"/>
                </a:moveTo>
                <a:cubicBezTo>
                  <a:pt x="17913" y="4000"/>
                  <a:pt x="17840" y="3994"/>
                  <a:pt x="17810" y="4043"/>
                </a:cubicBezTo>
                <a:cubicBezTo>
                  <a:pt x="17779" y="4094"/>
                  <a:pt x="17747" y="4145"/>
                  <a:pt x="17711" y="4192"/>
                </a:cubicBezTo>
                <a:cubicBezTo>
                  <a:pt x="17766" y="4192"/>
                  <a:pt x="17870" y="4167"/>
                  <a:pt x="17909" y="4217"/>
                </a:cubicBezTo>
                <a:cubicBezTo>
                  <a:pt x="18007" y="4342"/>
                  <a:pt x="17860" y="4498"/>
                  <a:pt x="17735" y="4514"/>
                </a:cubicBezTo>
                <a:cubicBezTo>
                  <a:pt x="17615" y="4529"/>
                  <a:pt x="17663" y="4449"/>
                  <a:pt x="17711" y="44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23080" y="1758960"/>
            <a:ext cx="2054160" cy="785880"/>
          </a:xfrm>
          <a:custGeom>
            <a:avLst/>
            <a:gdLst/>
            <a:ahLst/>
            <a:rect l="l" t="t" r="r" b="b"/>
            <a:pathLst>
              <a:path w="5706" h="2183">
                <a:moveTo>
                  <a:pt x="19571" y="5259"/>
                </a:moveTo>
                <a:cubicBezTo>
                  <a:pt x="19386" y="5409"/>
                  <a:pt x="19306" y="5520"/>
                  <a:pt x="19397" y="5730"/>
                </a:cubicBezTo>
                <a:cubicBezTo>
                  <a:pt x="19572" y="5710"/>
                  <a:pt x="19766" y="5569"/>
                  <a:pt x="19670" y="5333"/>
                </a:cubicBezTo>
                <a:cubicBezTo>
                  <a:pt x="19615" y="5278"/>
                  <a:pt x="19617" y="5253"/>
                  <a:pt x="19571" y="5259"/>
                </a:cubicBezTo>
              </a:path>
              <a:path w="5706" h="2183">
                <a:moveTo>
                  <a:pt x="18951" y="6003"/>
                </a:moveTo>
                <a:cubicBezTo>
                  <a:pt x="19152" y="5984"/>
                  <a:pt x="19347" y="5919"/>
                  <a:pt x="19546" y="5879"/>
                </a:cubicBezTo>
                <a:cubicBezTo>
                  <a:pt x="19662" y="5860"/>
                  <a:pt x="19678" y="5851"/>
                  <a:pt x="19745" y="5854"/>
                </a:cubicBezTo>
              </a:path>
              <a:path w="5706" h="2183">
                <a:moveTo>
                  <a:pt x="19248" y="6152"/>
                </a:moveTo>
                <a:cubicBezTo>
                  <a:pt x="19248" y="6273"/>
                  <a:pt x="19203" y="6391"/>
                  <a:pt x="19149" y="6499"/>
                </a:cubicBezTo>
                <a:cubicBezTo>
                  <a:pt x="19130" y="6537"/>
                  <a:pt x="19105" y="6527"/>
                  <a:pt x="19224" y="6400"/>
                </a:cubicBezTo>
              </a:path>
              <a:path w="5706" h="2183">
                <a:moveTo>
                  <a:pt x="19670" y="6052"/>
                </a:moveTo>
                <a:cubicBezTo>
                  <a:pt x="19505" y="6119"/>
                  <a:pt x="19405" y="6134"/>
                  <a:pt x="19546" y="6276"/>
                </a:cubicBezTo>
                <a:cubicBezTo>
                  <a:pt x="19629" y="6359"/>
                  <a:pt x="19662" y="6370"/>
                  <a:pt x="19645" y="6449"/>
                </a:cubicBezTo>
                <a:cubicBezTo>
                  <a:pt x="19553" y="6519"/>
                  <a:pt x="19528" y="6544"/>
                  <a:pt x="19447" y="6524"/>
                </a:cubicBezTo>
                <a:cubicBezTo>
                  <a:pt x="19465" y="6435"/>
                  <a:pt x="19683" y="6153"/>
                  <a:pt x="19670" y="6102"/>
                </a:cubicBezTo>
                <a:cubicBezTo>
                  <a:pt x="19654" y="6102"/>
                  <a:pt x="19637" y="6102"/>
                  <a:pt x="19621" y="6102"/>
                </a:cubicBezTo>
              </a:path>
              <a:path w="5706" h="2183">
                <a:moveTo>
                  <a:pt x="20042" y="5680"/>
                </a:moveTo>
                <a:cubicBezTo>
                  <a:pt x="20064" y="5767"/>
                  <a:pt x="20037" y="5832"/>
                  <a:pt x="20017" y="5928"/>
                </a:cubicBezTo>
                <a:cubicBezTo>
                  <a:pt x="20017" y="5936"/>
                  <a:pt x="20017" y="5945"/>
                  <a:pt x="20017" y="5953"/>
                </a:cubicBezTo>
              </a:path>
              <a:path w="5706" h="2183">
                <a:moveTo>
                  <a:pt x="19993" y="5854"/>
                </a:moveTo>
                <a:cubicBezTo>
                  <a:pt x="20056" y="5828"/>
                  <a:pt x="20091" y="5813"/>
                  <a:pt x="20141" y="5779"/>
                </a:cubicBezTo>
                <a:cubicBezTo>
                  <a:pt x="20166" y="5763"/>
                  <a:pt x="20191" y="5746"/>
                  <a:pt x="20216" y="5730"/>
                </a:cubicBezTo>
              </a:path>
              <a:path w="5706" h="2183">
                <a:moveTo>
                  <a:pt x="20439" y="6028"/>
                </a:moveTo>
                <a:cubicBezTo>
                  <a:pt x="20422" y="6148"/>
                  <a:pt x="20384" y="6250"/>
                  <a:pt x="20315" y="6350"/>
                </a:cubicBezTo>
                <a:cubicBezTo>
                  <a:pt x="20285" y="6380"/>
                  <a:pt x="20280" y="6382"/>
                  <a:pt x="20315" y="6325"/>
                </a:cubicBezTo>
              </a:path>
              <a:path w="5706" h="2183">
                <a:moveTo>
                  <a:pt x="20836" y="5978"/>
                </a:moveTo>
                <a:cubicBezTo>
                  <a:pt x="20818" y="5980"/>
                  <a:pt x="20561" y="6007"/>
                  <a:pt x="20638" y="6102"/>
                </a:cubicBezTo>
                <a:cubicBezTo>
                  <a:pt x="20731" y="6216"/>
                  <a:pt x="20761" y="6128"/>
                  <a:pt x="20762" y="6276"/>
                </a:cubicBezTo>
                <a:cubicBezTo>
                  <a:pt x="20684" y="6327"/>
                  <a:pt x="20656" y="6343"/>
                  <a:pt x="20588" y="6325"/>
                </a:cubicBezTo>
                <a:cubicBezTo>
                  <a:pt x="20632" y="6178"/>
                  <a:pt x="20768" y="6116"/>
                  <a:pt x="20836" y="5978"/>
                </a:cubicBezTo>
                <a:cubicBezTo>
                  <a:pt x="20828" y="5978"/>
                  <a:pt x="20819" y="5978"/>
                  <a:pt x="20811" y="5978"/>
                </a:cubicBezTo>
              </a:path>
              <a:path w="5706" h="2183">
                <a:moveTo>
                  <a:pt x="20067" y="5854"/>
                </a:moveTo>
                <a:cubicBezTo>
                  <a:pt x="20021" y="5785"/>
                  <a:pt x="19960" y="5876"/>
                  <a:pt x="19893" y="5904"/>
                </a:cubicBezTo>
                <a:cubicBezTo>
                  <a:pt x="19885" y="5907"/>
                  <a:pt x="19775" y="5904"/>
                  <a:pt x="19844" y="5904"/>
                </a:cubicBezTo>
                <a:cubicBezTo>
                  <a:pt x="19905" y="5904"/>
                  <a:pt x="19956" y="5879"/>
                  <a:pt x="20017" y="5879"/>
                </a:cubicBezTo>
              </a:path>
              <a:path w="5706" h="2183">
                <a:moveTo>
                  <a:pt x="20042" y="5680"/>
                </a:moveTo>
                <a:cubicBezTo>
                  <a:pt x="20042" y="5655"/>
                  <a:pt x="20042" y="5647"/>
                  <a:pt x="20017" y="5655"/>
                </a:cubicBezTo>
                <a:cubicBezTo>
                  <a:pt x="20017" y="5806"/>
                  <a:pt x="19998" y="5952"/>
                  <a:pt x="19993" y="6102"/>
                </a:cubicBezTo>
                <a:cubicBezTo>
                  <a:pt x="19993" y="6143"/>
                  <a:pt x="19993" y="6151"/>
                  <a:pt x="19993" y="6176"/>
                </a:cubicBezTo>
              </a:path>
              <a:path w="5706" h="2183">
                <a:moveTo>
                  <a:pt x="21208" y="5705"/>
                </a:moveTo>
                <a:cubicBezTo>
                  <a:pt x="21200" y="5705"/>
                  <a:pt x="21191" y="5705"/>
                  <a:pt x="21183" y="5705"/>
                </a:cubicBezTo>
                <a:cubicBezTo>
                  <a:pt x="21225" y="5698"/>
                  <a:pt x="21320" y="5698"/>
                  <a:pt x="21357" y="5680"/>
                </a:cubicBezTo>
                <a:cubicBezTo>
                  <a:pt x="21365" y="5672"/>
                  <a:pt x="21374" y="5663"/>
                  <a:pt x="21382" y="5655"/>
                </a:cubicBezTo>
              </a:path>
              <a:path w="5706" h="2183">
                <a:moveTo>
                  <a:pt x="21258" y="5829"/>
                </a:moveTo>
                <a:cubicBezTo>
                  <a:pt x="21305" y="5829"/>
                  <a:pt x="21338" y="5813"/>
                  <a:pt x="21382" y="5804"/>
                </a:cubicBezTo>
              </a:path>
              <a:path w="5706" h="2183">
                <a:moveTo>
                  <a:pt x="22076" y="5159"/>
                </a:moveTo>
                <a:cubicBezTo>
                  <a:pt x="22104" y="5159"/>
                  <a:pt x="22110" y="5161"/>
                  <a:pt x="22076" y="5184"/>
                </a:cubicBezTo>
                <a:cubicBezTo>
                  <a:pt x="22009" y="5229"/>
                  <a:pt x="22075" y="5138"/>
                  <a:pt x="22126" y="5159"/>
                </a:cubicBezTo>
                <a:cubicBezTo>
                  <a:pt x="22364" y="5257"/>
                  <a:pt x="22066" y="5462"/>
                  <a:pt x="21977" y="5531"/>
                </a:cubicBezTo>
                <a:cubicBezTo>
                  <a:pt x="21892" y="5596"/>
                  <a:pt x="21891" y="5607"/>
                  <a:pt x="21878" y="5531"/>
                </a:cubicBezTo>
                <a:cubicBezTo>
                  <a:pt x="21972" y="5458"/>
                  <a:pt x="22022" y="5450"/>
                  <a:pt x="22126" y="5507"/>
                </a:cubicBezTo>
                <a:cubicBezTo>
                  <a:pt x="22184" y="5538"/>
                  <a:pt x="22200" y="5642"/>
                  <a:pt x="22200" y="5606"/>
                </a:cubicBezTo>
              </a:path>
              <a:path w="5706" h="2183">
                <a:moveTo>
                  <a:pt x="22597" y="5060"/>
                </a:moveTo>
                <a:cubicBezTo>
                  <a:pt x="22545" y="5060"/>
                  <a:pt x="22515" y="5072"/>
                  <a:pt x="22473" y="5085"/>
                </a:cubicBezTo>
                <a:cubicBezTo>
                  <a:pt x="22418" y="5102"/>
                  <a:pt x="22423" y="5156"/>
                  <a:pt x="22423" y="5209"/>
                </a:cubicBezTo>
                <a:cubicBezTo>
                  <a:pt x="22423" y="5217"/>
                  <a:pt x="22423" y="5226"/>
                  <a:pt x="22423" y="5234"/>
                </a:cubicBezTo>
                <a:cubicBezTo>
                  <a:pt x="22489" y="5226"/>
                  <a:pt x="22542" y="5187"/>
                  <a:pt x="22597" y="5234"/>
                </a:cubicBezTo>
                <a:cubicBezTo>
                  <a:pt x="22677" y="5302"/>
                  <a:pt x="22660" y="5399"/>
                  <a:pt x="22572" y="5457"/>
                </a:cubicBezTo>
                <a:cubicBezTo>
                  <a:pt x="22561" y="5464"/>
                  <a:pt x="22511" y="5457"/>
                  <a:pt x="22498" y="5457"/>
                </a:cubicBezTo>
              </a:path>
              <a:path w="5706" h="2183">
                <a:moveTo>
                  <a:pt x="21779" y="5854"/>
                </a:moveTo>
                <a:cubicBezTo>
                  <a:pt x="21800" y="5787"/>
                  <a:pt x="22056" y="5787"/>
                  <a:pt x="22101" y="5779"/>
                </a:cubicBezTo>
                <a:cubicBezTo>
                  <a:pt x="22268" y="5749"/>
                  <a:pt x="22498" y="5719"/>
                  <a:pt x="22647" y="5631"/>
                </a:cubicBezTo>
                <a:cubicBezTo>
                  <a:pt x="22655" y="5623"/>
                  <a:pt x="22663" y="5614"/>
                  <a:pt x="22671" y="5606"/>
                </a:cubicBezTo>
              </a:path>
              <a:path w="5706" h="2183">
                <a:moveTo>
                  <a:pt x="22002" y="6003"/>
                </a:moveTo>
                <a:cubicBezTo>
                  <a:pt x="21925" y="6156"/>
                  <a:pt x="21828" y="6309"/>
                  <a:pt x="21779" y="6474"/>
                </a:cubicBezTo>
                <a:cubicBezTo>
                  <a:pt x="21779" y="6499"/>
                  <a:pt x="21779" y="6507"/>
                  <a:pt x="21779" y="6474"/>
                </a:cubicBezTo>
              </a:path>
              <a:path w="5706" h="2183">
                <a:moveTo>
                  <a:pt x="22399" y="5928"/>
                </a:moveTo>
                <a:cubicBezTo>
                  <a:pt x="22302" y="5987"/>
                  <a:pt x="22211" y="6032"/>
                  <a:pt x="22175" y="6127"/>
                </a:cubicBezTo>
                <a:cubicBezTo>
                  <a:pt x="22331" y="6175"/>
                  <a:pt x="22333" y="6209"/>
                  <a:pt x="22225" y="6325"/>
                </a:cubicBezTo>
                <a:cubicBezTo>
                  <a:pt x="22217" y="6333"/>
                  <a:pt x="22208" y="6342"/>
                  <a:pt x="22200" y="6350"/>
                </a:cubicBezTo>
                <a:cubicBezTo>
                  <a:pt x="22216" y="6268"/>
                  <a:pt x="22257" y="6176"/>
                  <a:pt x="22299" y="6102"/>
                </a:cubicBezTo>
                <a:cubicBezTo>
                  <a:pt x="22336" y="6037"/>
                  <a:pt x="22359" y="5997"/>
                  <a:pt x="22374" y="5953"/>
                </a:cubicBezTo>
              </a:path>
              <a:path w="5706" h="2183">
                <a:moveTo>
                  <a:pt x="23937" y="5606"/>
                </a:moveTo>
                <a:cubicBezTo>
                  <a:pt x="23894" y="5649"/>
                  <a:pt x="23875" y="5680"/>
                  <a:pt x="23862" y="5730"/>
                </a:cubicBezTo>
                <a:cubicBezTo>
                  <a:pt x="23867" y="5709"/>
                  <a:pt x="23924" y="5633"/>
                  <a:pt x="23961" y="5655"/>
                </a:cubicBezTo>
                <a:cubicBezTo>
                  <a:pt x="24074" y="5721"/>
                  <a:pt x="23968" y="5940"/>
                  <a:pt x="23912" y="6003"/>
                </a:cubicBezTo>
                <a:cubicBezTo>
                  <a:pt x="23868" y="6052"/>
                  <a:pt x="23801" y="6077"/>
                  <a:pt x="23738" y="6077"/>
                </a:cubicBezTo>
                <a:cubicBezTo>
                  <a:pt x="23738" y="6043"/>
                  <a:pt x="23725" y="5997"/>
                  <a:pt x="23763" y="5978"/>
                </a:cubicBezTo>
                <a:cubicBezTo>
                  <a:pt x="23857" y="5931"/>
                  <a:pt x="23893" y="5967"/>
                  <a:pt x="23961" y="6028"/>
                </a:cubicBezTo>
              </a:path>
              <a:path w="5706" h="2183">
                <a:moveTo>
                  <a:pt x="24309" y="5507"/>
                </a:moveTo>
                <a:cubicBezTo>
                  <a:pt x="24262" y="5512"/>
                  <a:pt x="24196" y="5520"/>
                  <a:pt x="24185" y="5556"/>
                </a:cubicBezTo>
                <a:cubicBezTo>
                  <a:pt x="24167" y="5647"/>
                  <a:pt x="24158" y="5654"/>
                  <a:pt x="24160" y="5705"/>
                </a:cubicBezTo>
                <a:cubicBezTo>
                  <a:pt x="24201" y="5726"/>
                  <a:pt x="24220" y="5705"/>
                  <a:pt x="24284" y="5705"/>
                </a:cubicBezTo>
                <a:cubicBezTo>
                  <a:pt x="24444" y="5705"/>
                  <a:pt x="24467" y="5852"/>
                  <a:pt x="24358" y="5953"/>
                </a:cubicBezTo>
                <a:cubicBezTo>
                  <a:pt x="24272" y="6033"/>
                  <a:pt x="24235" y="6029"/>
                  <a:pt x="24185" y="5978"/>
                </a:cubicBezTo>
              </a:path>
              <a:path w="5706" h="2183">
                <a:moveTo>
                  <a:pt x="23688" y="6375"/>
                </a:moveTo>
                <a:cubicBezTo>
                  <a:pt x="23657" y="6265"/>
                  <a:pt x="23624" y="6145"/>
                  <a:pt x="23614" y="6028"/>
                </a:cubicBezTo>
                <a:cubicBezTo>
                  <a:pt x="23601" y="5868"/>
                  <a:pt x="23564" y="5717"/>
                  <a:pt x="23564" y="5556"/>
                </a:cubicBezTo>
                <a:cubicBezTo>
                  <a:pt x="23564" y="5493"/>
                  <a:pt x="23565" y="5521"/>
                  <a:pt x="23614" y="5507"/>
                </a:cubicBezTo>
                <a:cubicBezTo>
                  <a:pt x="23888" y="5427"/>
                  <a:pt x="24151" y="5338"/>
                  <a:pt x="24433" y="5283"/>
                </a:cubicBezTo>
                <a:cubicBezTo>
                  <a:pt x="24526" y="5265"/>
                  <a:pt x="24574" y="5264"/>
                  <a:pt x="24656" y="5259"/>
                </a:cubicBezTo>
              </a:path>
              <a:path w="5706" h="2183">
                <a:moveTo>
                  <a:pt x="23019" y="5829"/>
                </a:moveTo>
                <a:cubicBezTo>
                  <a:pt x="23089" y="5852"/>
                  <a:pt x="23110" y="6032"/>
                  <a:pt x="23118" y="6102"/>
                </a:cubicBezTo>
                <a:cubicBezTo>
                  <a:pt x="23118" y="6176"/>
                  <a:pt x="23118" y="6185"/>
                  <a:pt x="23118" y="6226"/>
                </a:cubicBezTo>
              </a:path>
              <a:path w="5706" h="2183">
                <a:moveTo>
                  <a:pt x="23490" y="5655"/>
                </a:moveTo>
                <a:cubicBezTo>
                  <a:pt x="23393" y="5679"/>
                  <a:pt x="23368" y="5703"/>
                  <a:pt x="23292" y="5779"/>
                </a:cubicBezTo>
                <a:cubicBezTo>
                  <a:pt x="23353" y="5850"/>
                  <a:pt x="23640" y="5931"/>
                  <a:pt x="23490" y="6052"/>
                </a:cubicBezTo>
                <a:cubicBezTo>
                  <a:pt x="23465" y="6060"/>
                  <a:pt x="23441" y="6069"/>
                  <a:pt x="23416" y="6077"/>
                </a:cubicBezTo>
                <a:cubicBezTo>
                  <a:pt x="23416" y="5932"/>
                  <a:pt x="23454" y="5842"/>
                  <a:pt x="23490" y="5705"/>
                </a:cubicBezTo>
                <a:cubicBezTo>
                  <a:pt x="23490" y="5697"/>
                  <a:pt x="23490" y="5688"/>
                  <a:pt x="23490" y="5680"/>
                </a:cubicBezTo>
              </a:path>
              <a:path w="5706" h="2183">
                <a:moveTo>
                  <a:pt x="22746" y="5755"/>
                </a:moveTo>
                <a:cubicBezTo>
                  <a:pt x="22679" y="5755"/>
                  <a:pt x="22763" y="5755"/>
                  <a:pt x="22771" y="5755"/>
                </a:cubicBezTo>
              </a:path>
              <a:path w="5706" h="2183">
                <a:moveTo>
                  <a:pt x="22696" y="6003"/>
                </a:moveTo>
                <a:cubicBezTo>
                  <a:pt x="22731" y="5977"/>
                  <a:pt x="22727" y="5978"/>
                  <a:pt x="22771" y="5978"/>
                </a:cubicBezTo>
              </a:path>
              <a:path w="5706" h="2183">
                <a:moveTo>
                  <a:pt x="22671" y="5730"/>
                </a:moveTo>
                <a:cubicBezTo>
                  <a:pt x="22721" y="5701"/>
                  <a:pt x="22741" y="5680"/>
                  <a:pt x="22796" y="5680"/>
                </a:cubicBezTo>
              </a:path>
              <a:path w="5706" h="2183">
                <a:moveTo>
                  <a:pt x="24135" y="4911"/>
                </a:moveTo>
                <a:cubicBezTo>
                  <a:pt x="24135" y="4887"/>
                  <a:pt x="24135" y="4879"/>
                  <a:pt x="24110" y="4887"/>
                </a:cubicBezTo>
                <a:cubicBezTo>
                  <a:pt x="24110" y="4971"/>
                  <a:pt x="24121" y="5059"/>
                  <a:pt x="24160" y="5135"/>
                </a:cubicBezTo>
                <a:cubicBezTo>
                  <a:pt x="24177" y="5169"/>
                  <a:pt x="24183" y="5200"/>
                  <a:pt x="24209" y="5209"/>
                </a:cubicBezTo>
              </a:path>
              <a:path w="5706" h="2183">
                <a:moveTo>
                  <a:pt x="23862" y="6251"/>
                </a:moveTo>
                <a:cubicBezTo>
                  <a:pt x="23884" y="6338"/>
                  <a:pt x="23887" y="6422"/>
                  <a:pt x="23887" y="6524"/>
                </a:cubicBezTo>
                <a:cubicBezTo>
                  <a:pt x="23887" y="6532"/>
                  <a:pt x="23887" y="6540"/>
                  <a:pt x="23887" y="6548"/>
                </a:cubicBezTo>
              </a:path>
              <a:path w="5706" h="2183">
                <a:moveTo>
                  <a:pt x="24333" y="6127"/>
                </a:moveTo>
                <a:cubicBezTo>
                  <a:pt x="24270" y="6148"/>
                  <a:pt x="24145" y="6152"/>
                  <a:pt x="24185" y="6251"/>
                </a:cubicBezTo>
                <a:cubicBezTo>
                  <a:pt x="24209" y="6312"/>
                  <a:pt x="24314" y="6327"/>
                  <a:pt x="24333" y="6400"/>
                </a:cubicBezTo>
                <a:cubicBezTo>
                  <a:pt x="24360" y="6503"/>
                  <a:pt x="24255" y="6459"/>
                  <a:pt x="24209" y="6449"/>
                </a:cubicBezTo>
                <a:cubicBezTo>
                  <a:pt x="24219" y="6354"/>
                  <a:pt x="24269" y="6285"/>
                  <a:pt x="24284" y="6201"/>
                </a:cubicBezTo>
                <a:cubicBezTo>
                  <a:pt x="24290" y="6167"/>
                  <a:pt x="24269" y="6182"/>
                  <a:pt x="24259" y="6152"/>
                </a:cubicBezTo>
              </a:path>
              <a:path w="5706" h="2183">
                <a:moveTo>
                  <a:pt x="23416" y="6499"/>
                </a:moveTo>
                <a:cubicBezTo>
                  <a:pt x="23478" y="6499"/>
                  <a:pt x="23529" y="6484"/>
                  <a:pt x="23589" y="6474"/>
                </a:cubicBezTo>
              </a:path>
              <a:path w="5706" h="2183">
                <a:moveTo>
                  <a:pt x="23490" y="6672"/>
                </a:moveTo>
                <a:cubicBezTo>
                  <a:pt x="23779" y="6632"/>
                  <a:pt x="24070" y="6600"/>
                  <a:pt x="24358" y="6548"/>
                </a:cubicBezTo>
                <a:cubicBezTo>
                  <a:pt x="24492" y="6524"/>
                  <a:pt x="24424" y="6528"/>
                  <a:pt x="24507" y="6548"/>
                </a:cubicBezTo>
              </a:path>
              <a:path w="5706" h="2183">
                <a:moveTo>
                  <a:pt x="24011" y="5655"/>
                </a:moveTo>
                <a:cubicBezTo>
                  <a:pt x="23954" y="5679"/>
                  <a:pt x="23868" y="5919"/>
                  <a:pt x="23812" y="6028"/>
                </a:cubicBezTo>
                <a:cubicBezTo>
                  <a:pt x="23791" y="6068"/>
                  <a:pt x="23724" y="6178"/>
                  <a:pt x="23713" y="6201"/>
                </a:cubicBezTo>
                <a:cubicBezTo>
                  <a:pt x="23713" y="6229"/>
                  <a:pt x="23715" y="6235"/>
                  <a:pt x="23738" y="6201"/>
                </a:cubicBezTo>
              </a:path>
              <a:path w="5706" h="2183">
                <a:moveTo>
                  <a:pt x="23639" y="5482"/>
                </a:moveTo>
                <a:cubicBezTo>
                  <a:pt x="23639" y="5397"/>
                  <a:pt x="23662" y="5599"/>
                  <a:pt x="23688" y="5680"/>
                </a:cubicBezTo>
                <a:cubicBezTo>
                  <a:pt x="23704" y="5729"/>
                  <a:pt x="23676" y="5793"/>
                  <a:pt x="23713" y="5829"/>
                </a:cubicBezTo>
                <a:cubicBezTo>
                  <a:pt x="23736" y="5852"/>
                  <a:pt x="23738" y="5827"/>
                  <a:pt x="23738" y="5879"/>
                </a:cubicBezTo>
              </a:path>
              <a:path w="5706" h="2183">
                <a:moveTo>
                  <a:pt x="24061" y="5482"/>
                </a:moveTo>
                <a:cubicBezTo>
                  <a:pt x="24061" y="5474"/>
                  <a:pt x="24061" y="5465"/>
                  <a:pt x="24061" y="5457"/>
                </a:cubicBezTo>
                <a:cubicBezTo>
                  <a:pt x="24072" y="5503"/>
                  <a:pt x="24071" y="5557"/>
                  <a:pt x="24085" y="5606"/>
                </a:cubicBezTo>
                <a:cubicBezTo>
                  <a:pt x="24101" y="5664"/>
                  <a:pt x="24089" y="5751"/>
                  <a:pt x="24110" y="5804"/>
                </a:cubicBezTo>
                <a:cubicBezTo>
                  <a:pt x="24128" y="5850"/>
                  <a:pt x="24135" y="5868"/>
                  <a:pt x="24135" y="5928"/>
                </a:cubicBezTo>
                <a:cubicBezTo>
                  <a:pt x="24135" y="5936"/>
                  <a:pt x="24135" y="5945"/>
                  <a:pt x="24135" y="5953"/>
                </a:cubicBezTo>
                <a:cubicBezTo>
                  <a:pt x="24182" y="5969"/>
                  <a:pt x="24138" y="5987"/>
                  <a:pt x="24185" y="6003"/>
                </a:cubicBezTo>
              </a:path>
              <a:path w="5706" h="2183">
                <a:moveTo>
                  <a:pt x="24259" y="6722"/>
                </a:moveTo>
                <a:cubicBezTo>
                  <a:pt x="24267" y="6730"/>
                  <a:pt x="24276" y="6739"/>
                  <a:pt x="24284" y="6747"/>
                </a:cubicBezTo>
                <a:cubicBezTo>
                  <a:pt x="24329" y="6713"/>
                  <a:pt x="24363" y="6745"/>
                  <a:pt x="24408" y="6722"/>
                </a:cubicBezTo>
                <a:cubicBezTo>
                  <a:pt x="24430" y="6700"/>
                  <a:pt x="24435" y="6691"/>
                  <a:pt x="24457" y="6697"/>
                </a:cubicBezTo>
                <a:cubicBezTo>
                  <a:pt x="24457" y="6766"/>
                  <a:pt x="24460" y="6886"/>
                  <a:pt x="24433" y="6945"/>
                </a:cubicBezTo>
                <a:cubicBezTo>
                  <a:pt x="24431" y="6949"/>
                  <a:pt x="24421" y="7023"/>
                  <a:pt x="24408" y="7045"/>
                </a:cubicBezTo>
                <a:cubicBezTo>
                  <a:pt x="24400" y="7053"/>
                  <a:pt x="24391" y="7061"/>
                  <a:pt x="24383" y="7069"/>
                </a:cubicBezTo>
              </a:path>
              <a:path w="5706" h="2183">
                <a:moveTo>
                  <a:pt x="23912" y="6821"/>
                </a:moveTo>
                <a:cubicBezTo>
                  <a:pt x="23951" y="6860"/>
                  <a:pt x="23864" y="6895"/>
                  <a:pt x="23887" y="6970"/>
                </a:cubicBezTo>
                <a:cubicBezTo>
                  <a:pt x="23915" y="7062"/>
                  <a:pt x="24019" y="6950"/>
                  <a:pt x="24036" y="6921"/>
                </a:cubicBezTo>
                <a:cubicBezTo>
                  <a:pt x="24056" y="6881"/>
                  <a:pt x="24054" y="6864"/>
                  <a:pt x="24085" y="6871"/>
                </a:cubicBezTo>
                <a:cubicBezTo>
                  <a:pt x="24049" y="6843"/>
                  <a:pt x="24037" y="6840"/>
                  <a:pt x="24011" y="6821"/>
                </a:cubicBezTo>
                <a:cubicBezTo>
                  <a:pt x="24003" y="6813"/>
                  <a:pt x="23994" y="6804"/>
                  <a:pt x="23986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1027080"/>
            <a:ext cx="3224160" cy="4670280"/>
          </a:xfrm>
          <a:custGeom>
            <a:avLst/>
            <a:gdLst/>
            <a:ahLst/>
            <a:rect l="l" t="t" r="r" b="b"/>
            <a:pathLst>
              <a:path w="8955" h="12973">
                <a:moveTo>
                  <a:pt x="6028" y="2853"/>
                </a:moveTo>
                <a:lnTo>
                  <a:pt x="6028" y="2853"/>
                </a:lnTo>
              </a:path>
              <a:path w="8955" h="12973">
                <a:moveTo>
                  <a:pt x="9996" y="2877"/>
                </a:moveTo>
                <a:lnTo>
                  <a:pt x="9996" y="2877"/>
                </a:lnTo>
              </a:path>
              <a:path w="8955" h="12973">
                <a:moveTo>
                  <a:pt x="6623" y="7689"/>
                </a:moveTo>
                <a:lnTo>
                  <a:pt x="6623" y="7689"/>
                </a:lnTo>
              </a:path>
              <a:path w="8955" h="12973">
                <a:moveTo>
                  <a:pt x="5755" y="3249"/>
                </a:moveTo>
                <a:lnTo>
                  <a:pt x="5755" y="3249"/>
                </a:lnTo>
              </a:path>
              <a:path w="8955" h="12973">
                <a:moveTo>
                  <a:pt x="6449" y="3076"/>
                </a:moveTo>
                <a:cubicBezTo>
                  <a:pt x="6479" y="3181"/>
                  <a:pt x="6517" y="3289"/>
                  <a:pt x="6548" y="3398"/>
                </a:cubicBezTo>
              </a:path>
              <a:path w="8955" h="12973">
                <a:moveTo>
                  <a:pt x="6548" y="3398"/>
                </a:moveTo>
                <a:lnTo>
                  <a:pt x="6548" y="3398"/>
                </a:lnTo>
              </a:path>
              <a:path w="8955" h="12973">
                <a:moveTo>
                  <a:pt x="6648" y="3597"/>
                </a:moveTo>
                <a:cubicBezTo>
                  <a:pt x="6699" y="3715"/>
                  <a:pt x="6785" y="3811"/>
                  <a:pt x="6821" y="3944"/>
                </a:cubicBezTo>
                <a:cubicBezTo>
                  <a:pt x="6821" y="3952"/>
                  <a:pt x="6821" y="3961"/>
                  <a:pt x="6821" y="3969"/>
                </a:cubicBezTo>
              </a:path>
              <a:path w="8955" h="12973">
                <a:moveTo>
                  <a:pt x="6871" y="3820"/>
                </a:moveTo>
                <a:lnTo>
                  <a:pt x="6871" y="3820"/>
                </a:lnTo>
              </a:path>
              <a:path w="8955" h="12973">
                <a:moveTo>
                  <a:pt x="7317" y="4192"/>
                </a:moveTo>
                <a:lnTo>
                  <a:pt x="7317" y="4192"/>
                </a:lnTo>
              </a:path>
              <a:path w="8955" h="12973">
                <a:moveTo>
                  <a:pt x="8533" y="6152"/>
                </a:moveTo>
                <a:lnTo>
                  <a:pt x="8533" y="6152"/>
                </a:lnTo>
                <a:lnTo>
                  <a:pt x="8533" y="6152"/>
                </a:lnTo>
              </a:path>
              <a:path w="8955" h="12973">
                <a:moveTo>
                  <a:pt x="8533" y="6152"/>
                </a:moveTo>
                <a:lnTo>
                  <a:pt x="8533" y="6152"/>
                </a:lnTo>
              </a:path>
              <a:path w="8955" h="12973">
                <a:moveTo>
                  <a:pt x="8607" y="6449"/>
                </a:moveTo>
                <a:lnTo>
                  <a:pt x="8607" y="6449"/>
                </a:lnTo>
              </a:path>
              <a:path w="8955" h="12973">
                <a:moveTo>
                  <a:pt x="11137" y="5879"/>
                </a:moveTo>
                <a:cubicBezTo>
                  <a:pt x="11318" y="5818"/>
                  <a:pt x="11493" y="5757"/>
                  <a:pt x="11683" y="5730"/>
                </a:cubicBezTo>
              </a:path>
              <a:path w="8955" h="12973">
                <a:moveTo>
                  <a:pt x="11683" y="5730"/>
                </a:moveTo>
                <a:lnTo>
                  <a:pt x="11683" y="5730"/>
                </a:lnTo>
              </a:path>
              <a:path w="8955" h="12973">
                <a:moveTo>
                  <a:pt x="10517" y="9674"/>
                </a:moveTo>
                <a:cubicBezTo>
                  <a:pt x="10599" y="9653"/>
                  <a:pt x="10680" y="9613"/>
                  <a:pt x="10765" y="9599"/>
                </a:cubicBezTo>
              </a:path>
              <a:path w="8955" h="12973">
                <a:moveTo>
                  <a:pt x="10740" y="9798"/>
                </a:moveTo>
                <a:lnTo>
                  <a:pt x="10740" y="9798"/>
                </a:lnTo>
              </a:path>
              <a:path w="8955" h="12973">
                <a:moveTo>
                  <a:pt x="11931" y="14263"/>
                </a:moveTo>
                <a:lnTo>
                  <a:pt x="11931" y="14263"/>
                </a:lnTo>
                <a:lnTo>
                  <a:pt x="11931" y="14263"/>
                </a:lnTo>
                <a:lnTo>
                  <a:pt x="11931" y="14263"/>
                </a:lnTo>
              </a:path>
              <a:path w="8955" h="12973">
                <a:moveTo>
                  <a:pt x="11931" y="14263"/>
                </a:moveTo>
                <a:lnTo>
                  <a:pt x="11931" y="14263"/>
                </a:lnTo>
              </a:path>
              <a:path w="8955" h="12973">
                <a:moveTo>
                  <a:pt x="11956" y="14486"/>
                </a:moveTo>
                <a:cubicBezTo>
                  <a:pt x="11956" y="14494"/>
                  <a:pt x="11956" y="14503"/>
                  <a:pt x="11956" y="14511"/>
                </a:cubicBezTo>
              </a:path>
              <a:path w="8955" h="12973">
                <a:moveTo>
                  <a:pt x="14709" y="15701"/>
                </a:moveTo>
                <a:cubicBezTo>
                  <a:pt x="14687" y="15768"/>
                  <a:pt x="14682" y="15786"/>
                  <a:pt x="1466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5320" y="1170000"/>
            <a:ext cx="85752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6176" y="3299"/>
                </a:moveTo>
                <a:cubicBezTo>
                  <a:pt x="6121" y="3243"/>
                  <a:pt x="5995" y="3227"/>
                  <a:pt x="5904" y="3274"/>
                </a:cubicBezTo>
                <a:cubicBezTo>
                  <a:pt x="5850" y="3328"/>
                  <a:pt x="5829" y="3350"/>
                  <a:pt x="5804" y="3398"/>
                </a:cubicBezTo>
                <a:cubicBezTo>
                  <a:pt x="5925" y="3450"/>
                  <a:pt x="6018" y="3486"/>
                  <a:pt x="6102" y="3349"/>
                </a:cubicBezTo>
                <a:cubicBezTo>
                  <a:pt x="6102" y="3341"/>
                  <a:pt x="6102" y="3332"/>
                  <a:pt x="6102" y="3324"/>
                </a:cubicBezTo>
                <a:cubicBezTo>
                  <a:pt x="6175" y="3447"/>
                  <a:pt x="6229" y="3430"/>
                  <a:pt x="6350" y="3398"/>
                </a:cubicBezTo>
              </a:path>
              <a:path w="2382" h="944">
                <a:moveTo>
                  <a:pt x="4986" y="3795"/>
                </a:moveTo>
                <a:cubicBezTo>
                  <a:pt x="5102" y="3795"/>
                  <a:pt x="5217" y="3795"/>
                  <a:pt x="5333" y="3795"/>
                </a:cubicBezTo>
                <a:cubicBezTo>
                  <a:pt x="5322" y="3852"/>
                  <a:pt x="5278" y="3915"/>
                  <a:pt x="5333" y="3969"/>
                </a:cubicBezTo>
                <a:cubicBezTo>
                  <a:pt x="5416" y="4051"/>
                  <a:pt x="5543" y="3893"/>
                  <a:pt x="5482" y="3820"/>
                </a:cubicBezTo>
                <a:cubicBezTo>
                  <a:pt x="5424" y="3801"/>
                  <a:pt x="5381" y="3792"/>
                  <a:pt x="5432" y="3795"/>
                </a:cubicBezTo>
                <a:cubicBezTo>
                  <a:pt x="5500" y="3855"/>
                  <a:pt x="5557" y="3891"/>
                  <a:pt x="5606" y="3969"/>
                </a:cubicBezTo>
                <a:cubicBezTo>
                  <a:pt x="5606" y="3896"/>
                  <a:pt x="5588" y="3770"/>
                  <a:pt x="5705" y="3795"/>
                </a:cubicBezTo>
                <a:cubicBezTo>
                  <a:pt x="5755" y="3812"/>
                  <a:pt x="5804" y="3828"/>
                  <a:pt x="5854" y="3845"/>
                </a:cubicBezTo>
              </a:path>
              <a:path w="2382" h="944">
                <a:moveTo>
                  <a:pt x="6300" y="3795"/>
                </a:moveTo>
                <a:cubicBezTo>
                  <a:pt x="6231" y="3795"/>
                  <a:pt x="6193" y="3803"/>
                  <a:pt x="6127" y="3820"/>
                </a:cubicBezTo>
                <a:cubicBezTo>
                  <a:pt x="6272" y="3835"/>
                  <a:pt x="6396" y="3855"/>
                  <a:pt x="6524" y="3919"/>
                </a:cubicBezTo>
                <a:cubicBezTo>
                  <a:pt x="6479" y="3935"/>
                  <a:pt x="6184" y="4048"/>
                  <a:pt x="6201" y="3919"/>
                </a:cubicBezTo>
                <a:cubicBezTo>
                  <a:pt x="6218" y="3903"/>
                  <a:pt x="6234" y="3886"/>
                  <a:pt x="6251" y="3870"/>
                </a:cubicBezTo>
              </a:path>
              <a:path w="2382" h="944">
                <a:moveTo>
                  <a:pt x="6524" y="3820"/>
                </a:moveTo>
                <a:cubicBezTo>
                  <a:pt x="6640" y="3820"/>
                  <a:pt x="6755" y="3820"/>
                  <a:pt x="6871" y="3820"/>
                </a:cubicBezTo>
              </a:path>
              <a:path w="2382" h="944">
                <a:moveTo>
                  <a:pt x="7020" y="3820"/>
                </a:moveTo>
                <a:cubicBezTo>
                  <a:pt x="6953" y="3827"/>
                  <a:pt x="6903" y="3837"/>
                  <a:pt x="6846" y="3870"/>
                </a:cubicBezTo>
                <a:cubicBezTo>
                  <a:pt x="6846" y="3981"/>
                  <a:pt x="6938" y="4001"/>
                  <a:pt x="7020" y="3894"/>
                </a:cubicBezTo>
                <a:cubicBezTo>
                  <a:pt x="7020" y="3886"/>
                  <a:pt x="7020" y="3878"/>
                  <a:pt x="7020" y="3870"/>
                </a:cubicBezTo>
                <a:cubicBezTo>
                  <a:pt x="7037" y="3913"/>
                  <a:pt x="7128" y="4033"/>
                  <a:pt x="7193" y="3944"/>
                </a:cubicBezTo>
                <a:cubicBezTo>
                  <a:pt x="7201" y="3911"/>
                  <a:pt x="7210" y="3878"/>
                  <a:pt x="7218" y="3845"/>
                </a:cubicBezTo>
              </a:path>
              <a:path w="2382" h="944">
                <a:moveTo>
                  <a:pt x="7193" y="3845"/>
                </a:moveTo>
                <a:cubicBezTo>
                  <a:pt x="7215" y="3887"/>
                  <a:pt x="7272" y="4035"/>
                  <a:pt x="7342" y="3944"/>
                </a:cubicBezTo>
                <a:cubicBezTo>
                  <a:pt x="7358" y="3923"/>
                  <a:pt x="7367" y="3790"/>
                  <a:pt x="7367" y="3845"/>
                </a:cubicBezTo>
                <a:cubicBezTo>
                  <a:pt x="7359" y="3943"/>
                  <a:pt x="7285" y="4103"/>
                  <a:pt x="7293" y="4192"/>
                </a:cubicBezTo>
                <a:cubicBezTo>
                  <a:pt x="7301" y="4192"/>
                  <a:pt x="7309" y="4192"/>
                  <a:pt x="7317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6680" y="1884240"/>
            <a:ext cx="617400" cy="490680"/>
          </a:xfrm>
          <a:custGeom>
            <a:avLst/>
            <a:gdLst/>
            <a:ahLst/>
            <a:rect l="l" t="t" r="r" b="b"/>
            <a:pathLst>
              <a:path w="1713" h="1365">
                <a:moveTo>
                  <a:pt x="8161" y="5234"/>
                </a:moveTo>
                <a:cubicBezTo>
                  <a:pt x="8057" y="5286"/>
                  <a:pt x="7995" y="5378"/>
                  <a:pt x="7938" y="5482"/>
                </a:cubicBezTo>
                <a:cubicBezTo>
                  <a:pt x="7877" y="5593"/>
                  <a:pt x="7852" y="5691"/>
                  <a:pt x="8012" y="5730"/>
                </a:cubicBezTo>
                <a:cubicBezTo>
                  <a:pt x="8129" y="5758"/>
                  <a:pt x="8228" y="5733"/>
                  <a:pt x="8310" y="5655"/>
                </a:cubicBezTo>
                <a:cubicBezTo>
                  <a:pt x="8371" y="5594"/>
                  <a:pt x="8396" y="5587"/>
                  <a:pt x="8384" y="5531"/>
                </a:cubicBezTo>
                <a:cubicBezTo>
                  <a:pt x="8289" y="5522"/>
                  <a:pt x="8219" y="5491"/>
                  <a:pt x="8136" y="5556"/>
                </a:cubicBezTo>
                <a:cubicBezTo>
                  <a:pt x="8066" y="5611"/>
                  <a:pt x="8062" y="5673"/>
                  <a:pt x="8062" y="5755"/>
                </a:cubicBezTo>
              </a:path>
              <a:path w="1713" h="1365">
                <a:moveTo>
                  <a:pt x="7714" y="5879"/>
                </a:moveTo>
                <a:cubicBezTo>
                  <a:pt x="7872" y="5902"/>
                  <a:pt x="8024" y="5904"/>
                  <a:pt x="8186" y="5904"/>
                </a:cubicBezTo>
                <a:cubicBezTo>
                  <a:pt x="8293" y="5904"/>
                  <a:pt x="8401" y="5904"/>
                  <a:pt x="8508" y="5904"/>
                </a:cubicBezTo>
              </a:path>
              <a:path w="1713" h="1365">
                <a:moveTo>
                  <a:pt x="7863" y="6201"/>
                </a:moveTo>
                <a:cubicBezTo>
                  <a:pt x="7795" y="6224"/>
                  <a:pt x="7823" y="6361"/>
                  <a:pt x="7813" y="6424"/>
                </a:cubicBezTo>
                <a:cubicBezTo>
                  <a:pt x="7805" y="6477"/>
                  <a:pt x="7755" y="6578"/>
                  <a:pt x="7813" y="6598"/>
                </a:cubicBezTo>
              </a:path>
              <a:path w="1713" h="1365">
                <a:moveTo>
                  <a:pt x="8161" y="6251"/>
                </a:moveTo>
                <a:cubicBezTo>
                  <a:pt x="8125" y="6197"/>
                  <a:pt x="8245" y="6178"/>
                  <a:pt x="8310" y="6152"/>
                </a:cubicBezTo>
                <a:cubicBezTo>
                  <a:pt x="8295" y="6273"/>
                  <a:pt x="8199" y="6389"/>
                  <a:pt x="8111" y="6474"/>
                </a:cubicBezTo>
                <a:cubicBezTo>
                  <a:pt x="8055" y="6512"/>
                  <a:pt x="8030" y="6507"/>
                  <a:pt x="8037" y="6548"/>
                </a:cubicBezTo>
                <a:cubicBezTo>
                  <a:pt x="8097" y="6548"/>
                  <a:pt x="8347" y="6520"/>
                  <a:pt x="8359" y="6524"/>
                </a:cubicBezTo>
                <a:cubicBezTo>
                  <a:pt x="8367" y="6532"/>
                  <a:pt x="8376" y="6540"/>
                  <a:pt x="8384" y="6548"/>
                </a:cubicBezTo>
              </a:path>
              <a:path w="1713" h="1365">
                <a:moveTo>
                  <a:pt x="8533" y="5432"/>
                </a:moveTo>
                <a:cubicBezTo>
                  <a:pt x="8584" y="5424"/>
                  <a:pt x="8631" y="5413"/>
                  <a:pt x="8682" y="5407"/>
                </a:cubicBezTo>
                <a:cubicBezTo>
                  <a:pt x="8682" y="5383"/>
                  <a:pt x="8682" y="5375"/>
                  <a:pt x="8706" y="5383"/>
                </a:cubicBezTo>
              </a:path>
              <a:path w="1713" h="1365">
                <a:moveTo>
                  <a:pt x="8508" y="5259"/>
                </a:moveTo>
                <a:cubicBezTo>
                  <a:pt x="8508" y="5292"/>
                  <a:pt x="8508" y="5308"/>
                  <a:pt x="8508" y="5333"/>
                </a:cubicBezTo>
              </a:path>
              <a:path w="1713" h="1365">
                <a:moveTo>
                  <a:pt x="8508" y="6300"/>
                </a:moveTo>
                <a:cubicBezTo>
                  <a:pt x="8534" y="6263"/>
                  <a:pt x="8597" y="6276"/>
                  <a:pt x="8657" y="6276"/>
                </a:cubicBezTo>
                <a:cubicBezTo>
                  <a:pt x="8665" y="6276"/>
                  <a:pt x="8674" y="6276"/>
                  <a:pt x="8682" y="6276"/>
                </a:cubicBezTo>
              </a:path>
              <a:path w="1713" h="1365">
                <a:moveTo>
                  <a:pt x="8880" y="6176"/>
                </a:moveTo>
                <a:cubicBezTo>
                  <a:pt x="8908" y="6176"/>
                  <a:pt x="8919" y="6174"/>
                  <a:pt x="8930" y="6152"/>
                </a:cubicBezTo>
                <a:cubicBezTo>
                  <a:pt x="8947" y="6290"/>
                  <a:pt x="8921" y="6326"/>
                  <a:pt x="8880" y="6449"/>
                </a:cubicBezTo>
                <a:cubicBezTo>
                  <a:pt x="8930" y="6435"/>
                  <a:pt x="9069" y="6388"/>
                  <a:pt x="9103" y="6350"/>
                </a:cubicBezTo>
                <a:cubicBezTo>
                  <a:pt x="9111" y="6333"/>
                  <a:pt x="9120" y="6317"/>
                  <a:pt x="9128" y="6300"/>
                </a:cubicBezTo>
              </a:path>
              <a:path w="1713" h="1365">
                <a:moveTo>
                  <a:pt x="8806" y="5283"/>
                </a:moveTo>
                <a:cubicBezTo>
                  <a:pt x="8835" y="5195"/>
                  <a:pt x="8880" y="5364"/>
                  <a:pt x="8880" y="5383"/>
                </a:cubicBezTo>
                <a:cubicBezTo>
                  <a:pt x="8877" y="5487"/>
                  <a:pt x="8826" y="5566"/>
                  <a:pt x="8781" y="5655"/>
                </a:cubicBezTo>
                <a:cubicBezTo>
                  <a:pt x="8857" y="5620"/>
                  <a:pt x="8921" y="5556"/>
                  <a:pt x="9004" y="5556"/>
                </a:cubicBezTo>
              </a:path>
              <a:path w="1713" h="1365">
                <a:moveTo>
                  <a:pt x="9327" y="5779"/>
                </a:moveTo>
                <a:cubicBezTo>
                  <a:pt x="9374" y="5779"/>
                  <a:pt x="9377" y="5775"/>
                  <a:pt x="9426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4960" y="3259080"/>
            <a:ext cx="54000" cy="295200"/>
          </a:xfrm>
          <a:custGeom>
            <a:avLst/>
            <a:gdLst/>
            <a:ahLst/>
            <a:rect l="l" t="t" r="r" b="b"/>
            <a:pathLst>
              <a:path w="149" h="819">
                <a:moveTo>
                  <a:pt x="11261" y="9054"/>
                </a:moveTo>
                <a:cubicBezTo>
                  <a:pt x="11232" y="9113"/>
                  <a:pt x="11324" y="9465"/>
                  <a:pt x="11336" y="9550"/>
                </a:cubicBezTo>
                <a:cubicBezTo>
                  <a:pt x="11352" y="9666"/>
                  <a:pt x="11385" y="9964"/>
                  <a:pt x="11385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2360" y="1955880"/>
            <a:ext cx="2722680" cy="1884240"/>
          </a:xfrm>
          <a:custGeom>
            <a:avLst/>
            <a:gdLst/>
            <a:ahLst/>
            <a:rect l="l" t="t" r="r" b="b"/>
            <a:pathLst>
              <a:path w="7566" h="5235">
                <a:moveTo>
                  <a:pt x="9351" y="5953"/>
                </a:moveTo>
                <a:cubicBezTo>
                  <a:pt x="9409" y="5934"/>
                  <a:pt x="9416" y="5925"/>
                  <a:pt x="9451" y="5928"/>
                </a:cubicBezTo>
              </a:path>
              <a:path w="7566" h="5235">
                <a:moveTo>
                  <a:pt x="9451" y="5928"/>
                </a:moveTo>
                <a:lnTo>
                  <a:pt x="9451" y="5928"/>
                </a:lnTo>
              </a:path>
              <a:path w="7566" h="5235">
                <a:moveTo>
                  <a:pt x="10046" y="5879"/>
                </a:moveTo>
                <a:lnTo>
                  <a:pt x="10046" y="5879"/>
                </a:lnTo>
              </a:path>
              <a:path w="7566" h="5235">
                <a:moveTo>
                  <a:pt x="10021" y="5432"/>
                </a:moveTo>
                <a:lnTo>
                  <a:pt x="10021" y="5432"/>
                </a:lnTo>
                <a:lnTo>
                  <a:pt x="10021" y="5432"/>
                </a:lnTo>
              </a:path>
              <a:path w="7566" h="5235">
                <a:moveTo>
                  <a:pt x="10021" y="5432"/>
                </a:moveTo>
                <a:lnTo>
                  <a:pt x="10021" y="5432"/>
                </a:lnTo>
              </a:path>
              <a:path w="7566" h="5235">
                <a:moveTo>
                  <a:pt x="10046" y="5705"/>
                </a:moveTo>
                <a:cubicBezTo>
                  <a:pt x="10046" y="5688"/>
                  <a:pt x="10046" y="5672"/>
                  <a:pt x="10046" y="5655"/>
                </a:cubicBezTo>
              </a:path>
              <a:path w="7566" h="5235">
                <a:moveTo>
                  <a:pt x="10765" y="5904"/>
                </a:moveTo>
                <a:lnTo>
                  <a:pt x="10765" y="5904"/>
                </a:lnTo>
              </a:path>
              <a:path w="7566" h="5235">
                <a:moveTo>
                  <a:pt x="3200" y="10666"/>
                </a:moveTo>
                <a:lnTo>
                  <a:pt x="3200" y="106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3280" y="1928880"/>
            <a:ext cx="233640" cy="36648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9649" y="5457"/>
                </a:moveTo>
                <a:cubicBezTo>
                  <a:pt x="9671" y="5412"/>
                  <a:pt x="9720" y="5391"/>
                  <a:pt x="9773" y="5358"/>
                </a:cubicBezTo>
                <a:cubicBezTo>
                  <a:pt x="9787" y="5480"/>
                  <a:pt x="9791" y="5476"/>
                  <a:pt x="9773" y="5581"/>
                </a:cubicBezTo>
                <a:cubicBezTo>
                  <a:pt x="9791" y="5554"/>
                  <a:pt x="9919" y="5512"/>
                  <a:pt x="9922" y="5606"/>
                </a:cubicBezTo>
                <a:cubicBezTo>
                  <a:pt x="9926" y="5739"/>
                  <a:pt x="9872" y="5771"/>
                  <a:pt x="9773" y="5804"/>
                </a:cubicBezTo>
              </a:path>
              <a:path w="646" h="1018">
                <a:moveTo>
                  <a:pt x="9723" y="5978"/>
                </a:moveTo>
                <a:cubicBezTo>
                  <a:pt x="9814" y="5955"/>
                  <a:pt x="9905" y="5894"/>
                  <a:pt x="9996" y="5879"/>
                </a:cubicBezTo>
                <a:cubicBezTo>
                  <a:pt x="10021" y="5879"/>
                  <a:pt x="10029" y="5879"/>
                  <a:pt x="10046" y="5879"/>
                </a:cubicBezTo>
              </a:path>
              <a:path w="646" h="1018">
                <a:moveTo>
                  <a:pt x="10120" y="5457"/>
                </a:moveTo>
                <a:cubicBezTo>
                  <a:pt x="10140" y="5416"/>
                  <a:pt x="10138" y="5400"/>
                  <a:pt x="10170" y="5407"/>
                </a:cubicBezTo>
                <a:cubicBezTo>
                  <a:pt x="10224" y="5425"/>
                  <a:pt x="10189" y="5482"/>
                  <a:pt x="10170" y="5531"/>
                </a:cubicBezTo>
                <a:cubicBezTo>
                  <a:pt x="10246" y="5531"/>
                  <a:pt x="10312" y="5496"/>
                  <a:pt x="10294" y="5606"/>
                </a:cubicBezTo>
                <a:cubicBezTo>
                  <a:pt x="10287" y="5647"/>
                  <a:pt x="10253" y="5668"/>
                  <a:pt x="10244" y="5705"/>
                </a:cubicBezTo>
              </a:path>
              <a:path w="646" h="1018">
                <a:moveTo>
                  <a:pt x="10145" y="6375"/>
                </a:moveTo>
                <a:cubicBezTo>
                  <a:pt x="10196" y="6375"/>
                  <a:pt x="10231" y="6391"/>
                  <a:pt x="1024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2160" y="1919160"/>
            <a:ext cx="3591000" cy="876600"/>
          </a:xfrm>
          <a:custGeom>
            <a:avLst/>
            <a:gdLst/>
            <a:ahLst/>
            <a:rect l="l" t="t" r="r" b="b"/>
            <a:pathLst>
              <a:path w="9972" h="2432">
                <a:moveTo>
                  <a:pt x="8508" y="5333"/>
                </a:moveTo>
                <a:lnTo>
                  <a:pt x="8508" y="5333"/>
                </a:lnTo>
              </a:path>
              <a:path w="9972" h="2432">
                <a:moveTo>
                  <a:pt x="8582" y="5655"/>
                </a:moveTo>
                <a:cubicBezTo>
                  <a:pt x="8590" y="5655"/>
                  <a:pt x="8599" y="5655"/>
                  <a:pt x="8607" y="5655"/>
                </a:cubicBezTo>
              </a:path>
              <a:path w="9972" h="2432">
                <a:moveTo>
                  <a:pt x="10170" y="6226"/>
                </a:moveTo>
                <a:cubicBezTo>
                  <a:pt x="10170" y="6234"/>
                  <a:pt x="10170" y="6243"/>
                  <a:pt x="10170" y="6251"/>
                </a:cubicBezTo>
              </a:path>
              <a:path w="9972" h="2432">
                <a:moveTo>
                  <a:pt x="10170" y="6251"/>
                </a:moveTo>
                <a:lnTo>
                  <a:pt x="10170" y="6251"/>
                </a:lnTo>
              </a:path>
              <a:path w="9972" h="2432">
                <a:moveTo>
                  <a:pt x="10244" y="6548"/>
                </a:moveTo>
                <a:lnTo>
                  <a:pt x="10244" y="6548"/>
                </a:lnTo>
              </a:path>
              <a:path w="9972" h="2432">
                <a:moveTo>
                  <a:pt x="18058" y="7441"/>
                </a:moveTo>
                <a:cubicBezTo>
                  <a:pt x="18051" y="7549"/>
                  <a:pt x="18039" y="7656"/>
                  <a:pt x="18033" y="7764"/>
                </a:cubicBezTo>
              </a:path>
              <a:path w="9972" h="2432">
                <a:moveTo>
                  <a:pt x="18033" y="7764"/>
                </a:moveTo>
                <a:lnTo>
                  <a:pt x="18033" y="7764"/>
                </a:lnTo>
              </a:path>
              <a:path w="9972" h="2432">
                <a:moveTo>
                  <a:pt x="18355" y="7392"/>
                </a:moveTo>
                <a:cubicBezTo>
                  <a:pt x="18429" y="7373"/>
                  <a:pt x="18436" y="7365"/>
                  <a:pt x="18479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10000" y="1982880"/>
            <a:ext cx="115920" cy="384120"/>
          </a:xfrm>
          <a:custGeom>
            <a:avLst/>
            <a:gdLst/>
            <a:ahLst/>
            <a:rect l="l" t="t" r="r" b="b"/>
            <a:pathLst>
              <a:path w="324" h="1067">
                <a:moveTo>
                  <a:pt x="9773" y="6176"/>
                </a:moveTo>
                <a:cubicBezTo>
                  <a:pt x="9773" y="6245"/>
                  <a:pt x="9751" y="6305"/>
                  <a:pt x="9748" y="6375"/>
                </a:cubicBezTo>
                <a:cubicBezTo>
                  <a:pt x="9746" y="6420"/>
                  <a:pt x="9744" y="6550"/>
                  <a:pt x="9798" y="6573"/>
                </a:cubicBezTo>
                <a:cubicBezTo>
                  <a:pt x="9904" y="6617"/>
                  <a:pt x="9993" y="6555"/>
                  <a:pt x="10046" y="6474"/>
                </a:cubicBezTo>
                <a:cubicBezTo>
                  <a:pt x="10075" y="6430"/>
                  <a:pt x="10080" y="6367"/>
                  <a:pt x="10046" y="6350"/>
                </a:cubicBezTo>
                <a:cubicBezTo>
                  <a:pt x="9948" y="6301"/>
                  <a:pt x="9947" y="6334"/>
                  <a:pt x="9897" y="6400"/>
                </a:cubicBezTo>
                <a:cubicBezTo>
                  <a:pt x="9861" y="6447"/>
                  <a:pt x="9895" y="6471"/>
                  <a:pt x="9922" y="6524"/>
                </a:cubicBezTo>
              </a:path>
              <a:path w="324" h="1067">
                <a:moveTo>
                  <a:pt x="9947" y="5556"/>
                </a:moveTo>
                <a:cubicBezTo>
                  <a:pt x="9990" y="5521"/>
                  <a:pt x="10016" y="5507"/>
                  <a:pt x="10071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41840" y="2081160"/>
            <a:ext cx="133200" cy="24912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0393" y="6276"/>
                </a:moveTo>
                <a:cubicBezTo>
                  <a:pt x="10415" y="6210"/>
                  <a:pt x="10414" y="6185"/>
                  <a:pt x="10468" y="6201"/>
                </a:cubicBezTo>
                <a:cubicBezTo>
                  <a:pt x="10501" y="6258"/>
                  <a:pt x="10503" y="6295"/>
                  <a:pt x="10443" y="6325"/>
                </a:cubicBezTo>
                <a:cubicBezTo>
                  <a:pt x="10488" y="6325"/>
                  <a:pt x="10571" y="6318"/>
                  <a:pt x="10592" y="6375"/>
                </a:cubicBezTo>
                <a:cubicBezTo>
                  <a:pt x="10630" y="6480"/>
                  <a:pt x="10456" y="6494"/>
                  <a:pt x="10443" y="6449"/>
                </a:cubicBezTo>
                <a:cubicBezTo>
                  <a:pt x="10443" y="6416"/>
                  <a:pt x="10443" y="6383"/>
                  <a:pt x="10443" y="6350"/>
                </a:cubicBezTo>
              </a:path>
              <a:path w="373" h="696">
                <a:moveTo>
                  <a:pt x="10567" y="5779"/>
                </a:moveTo>
                <a:cubicBezTo>
                  <a:pt x="10600" y="5779"/>
                  <a:pt x="10633" y="5779"/>
                  <a:pt x="10666" y="5779"/>
                </a:cubicBezTo>
              </a:path>
              <a:path w="373" h="696">
                <a:moveTo>
                  <a:pt x="10567" y="5978"/>
                </a:moveTo>
                <a:cubicBezTo>
                  <a:pt x="10655" y="5951"/>
                  <a:pt x="10675" y="5945"/>
                  <a:pt x="10765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3259080"/>
            <a:ext cx="277560" cy="473040"/>
          </a:xfrm>
          <a:custGeom>
            <a:avLst/>
            <a:gdLst/>
            <a:ahLst/>
            <a:rect l="l" t="t" r="r" b="b"/>
            <a:pathLst>
              <a:path w="770" h="1315">
                <a:moveTo>
                  <a:pt x="7590" y="9054"/>
                </a:moveTo>
                <a:cubicBezTo>
                  <a:pt x="7509" y="9068"/>
                  <a:pt x="7382" y="9075"/>
                  <a:pt x="7317" y="9128"/>
                </a:cubicBezTo>
                <a:cubicBezTo>
                  <a:pt x="7301" y="9141"/>
                  <a:pt x="7317" y="9329"/>
                  <a:pt x="7317" y="9351"/>
                </a:cubicBezTo>
                <a:cubicBezTo>
                  <a:pt x="7390" y="9351"/>
                  <a:pt x="7440" y="9310"/>
                  <a:pt x="7516" y="9302"/>
                </a:cubicBezTo>
                <a:cubicBezTo>
                  <a:pt x="7622" y="9302"/>
                  <a:pt x="7650" y="9289"/>
                  <a:pt x="7689" y="9351"/>
                </a:cubicBezTo>
                <a:cubicBezTo>
                  <a:pt x="7690" y="9533"/>
                  <a:pt x="7550" y="9547"/>
                  <a:pt x="7367" y="9575"/>
                </a:cubicBezTo>
                <a:cubicBezTo>
                  <a:pt x="7350" y="9575"/>
                  <a:pt x="7334" y="9575"/>
                  <a:pt x="7317" y="9575"/>
                </a:cubicBezTo>
              </a:path>
              <a:path w="770" h="1315">
                <a:moveTo>
                  <a:pt x="7069" y="9748"/>
                </a:moveTo>
                <a:cubicBezTo>
                  <a:pt x="7245" y="9748"/>
                  <a:pt x="7414" y="9710"/>
                  <a:pt x="7590" y="9699"/>
                </a:cubicBezTo>
                <a:cubicBezTo>
                  <a:pt x="7671" y="9694"/>
                  <a:pt x="7756" y="9699"/>
                  <a:pt x="7838" y="9699"/>
                </a:cubicBezTo>
              </a:path>
              <a:path w="770" h="1315">
                <a:moveTo>
                  <a:pt x="7491" y="9996"/>
                </a:moveTo>
                <a:cubicBezTo>
                  <a:pt x="7463" y="10092"/>
                  <a:pt x="7430" y="10120"/>
                  <a:pt x="7367" y="10195"/>
                </a:cubicBezTo>
                <a:cubicBezTo>
                  <a:pt x="7510" y="10181"/>
                  <a:pt x="7647" y="10151"/>
                  <a:pt x="7789" y="10120"/>
                </a:cubicBezTo>
              </a:path>
              <a:path w="770" h="1315">
                <a:moveTo>
                  <a:pt x="7689" y="9872"/>
                </a:moveTo>
                <a:cubicBezTo>
                  <a:pt x="7665" y="9986"/>
                  <a:pt x="7689" y="10159"/>
                  <a:pt x="7689" y="10294"/>
                </a:cubicBezTo>
                <a:cubicBezTo>
                  <a:pt x="7689" y="10319"/>
                  <a:pt x="7689" y="10343"/>
                  <a:pt x="768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67120" y="1785960"/>
            <a:ext cx="428760" cy="598320"/>
          </a:xfrm>
          <a:custGeom>
            <a:avLst/>
            <a:gdLst/>
            <a:ahLst/>
            <a:rect l="l" t="t" r="r" b="b"/>
            <a:pathLst>
              <a:path w="1192" h="1663">
                <a:moveTo>
                  <a:pt x="11311" y="6102"/>
                </a:moveTo>
                <a:cubicBezTo>
                  <a:pt x="11322" y="6017"/>
                  <a:pt x="11328" y="5980"/>
                  <a:pt x="11385" y="5928"/>
                </a:cubicBezTo>
                <a:cubicBezTo>
                  <a:pt x="11506" y="5819"/>
                  <a:pt x="11574" y="6002"/>
                  <a:pt x="11559" y="6102"/>
                </a:cubicBezTo>
                <a:cubicBezTo>
                  <a:pt x="11541" y="6223"/>
                  <a:pt x="11459" y="6332"/>
                  <a:pt x="11435" y="6449"/>
                </a:cubicBezTo>
                <a:cubicBezTo>
                  <a:pt x="11435" y="6389"/>
                  <a:pt x="11410" y="6319"/>
                  <a:pt x="11460" y="6276"/>
                </a:cubicBezTo>
                <a:cubicBezTo>
                  <a:pt x="11483" y="6256"/>
                  <a:pt x="11616" y="6353"/>
                  <a:pt x="11658" y="6350"/>
                </a:cubicBezTo>
                <a:cubicBezTo>
                  <a:pt x="11732" y="6331"/>
                  <a:pt x="11739" y="6323"/>
                  <a:pt x="11782" y="6325"/>
                </a:cubicBezTo>
              </a:path>
              <a:path w="1192" h="1663">
                <a:moveTo>
                  <a:pt x="11112" y="6524"/>
                </a:moveTo>
                <a:cubicBezTo>
                  <a:pt x="11301" y="6491"/>
                  <a:pt x="11493" y="6424"/>
                  <a:pt x="11683" y="6400"/>
                </a:cubicBezTo>
                <a:cubicBezTo>
                  <a:pt x="11758" y="6390"/>
                  <a:pt x="11852" y="6400"/>
                  <a:pt x="11931" y="6400"/>
                </a:cubicBezTo>
                <a:cubicBezTo>
                  <a:pt x="11855" y="6324"/>
                  <a:pt x="11864" y="6255"/>
                  <a:pt x="11832" y="6127"/>
                </a:cubicBezTo>
                <a:cubicBezTo>
                  <a:pt x="11779" y="5910"/>
                  <a:pt x="11722" y="5625"/>
                  <a:pt x="11609" y="5432"/>
                </a:cubicBezTo>
                <a:cubicBezTo>
                  <a:pt x="11550" y="5331"/>
                  <a:pt x="11532" y="5238"/>
                  <a:pt x="11485" y="5135"/>
                </a:cubicBezTo>
                <a:cubicBezTo>
                  <a:pt x="11465" y="5092"/>
                  <a:pt x="11394" y="5006"/>
                  <a:pt x="11385" y="4986"/>
                </a:cubicBezTo>
                <a:cubicBezTo>
                  <a:pt x="11385" y="4978"/>
                  <a:pt x="11385" y="4969"/>
                  <a:pt x="11385" y="4961"/>
                </a:cubicBezTo>
                <a:cubicBezTo>
                  <a:pt x="11270" y="4982"/>
                  <a:pt x="11196" y="5040"/>
                  <a:pt x="11088" y="5085"/>
                </a:cubicBezTo>
                <a:cubicBezTo>
                  <a:pt x="10987" y="5127"/>
                  <a:pt x="10872" y="5171"/>
                  <a:pt x="10765" y="5184"/>
                </a:cubicBezTo>
                <a:cubicBezTo>
                  <a:pt x="10757" y="5184"/>
                  <a:pt x="10748" y="5184"/>
                  <a:pt x="10740" y="5184"/>
                </a:cubicBezTo>
                <a:cubicBezTo>
                  <a:pt x="10765" y="5285"/>
                  <a:pt x="10831" y="5349"/>
                  <a:pt x="10889" y="5457"/>
                </a:cubicBezTo>
                <a:cubicBezTo>
                  <a:pt x="11013" y="5686"/>
                  <a:pt x="11046" y="5937"/>
                  <a:pt x="11137" y="6176"/>
                </a:cubicBezTo>
                <a:cubicBezTo>
                  <a:pt x="11169" y="6260"/>
                  <a:pt x="11229" y="6317"/>
                  <a:pt x="11261" y="6400"/>
                </a:cubicBezTo>
                <a:cubicBezTo>
                  <a:pt x="11296" y="6490"/>
                  <a:pt x="11283" y="6469"/>
                  <a:pt x="11311" y="6548"/>
                </a:cubicBezTo>
                <a:cubicBezTo>
                  <a:pt x="11324" y="6586"/>
                  <a:pt x="11325" y="6580"/>
                  <a:pt x="11361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1009800"/>
            <a:ext cx="4786200" cy="5527440"/>
          </a:xfrm>
          <a:custGeom>
            <a:avLst/>
            <a:gdLst/>
            <a:ahLst/>
            <a:rect l="l" t="t" r="r" b="b"/>
            <a:pathLst>
              <a:path w="13296" h="15355">
                <a:moveTo>
                  <a:pt x="12824" y="2803"/>
                </a:moveTo>
                <a:cubicBezTo>
                  <a:pt x="12746" y="2954"/>
                  <a:pt x="12617" y="3103"/>
                  <a:pt x="12576" y="3274"/>
                </a:cubicBezTo>
                <a:cubicBezTo>
                  <a:pt x="12512" y="3541"/>
                  <a:pt x="12553" y="3630"/>
                  <a:pt x="12700" y="3845"/>
                </a:cubicBezTo>
                <a:cubicBezTo>
                  <a:pt x="12842" y="4052"/>
                  <a:pt x="13014" y="4179"/>
                  <a:pt x="13122" y="4415"/>
                </a:cubicBezTo>
                <a:cubicBezTo>
                  <a:pt x="13262" y="4721"/>
                  <a:pt x="13338" y="5081"/>
                  <a:pt x="13419" y="5407"/>
                </a:cubicBezTo>
                <a:cubicBezTo>
                  <a:pt x="13495" y="5711"/>
                  <a:pt x="13602" y="5978"/>
                  <a:pt x="13692" y="6276"/>
                </a:cubicBezTo>
                <a:cubicBezTo>
                  <a:pt x="13803" y="6643"/>
                  <a:pt x="13811" y="6939"/>
                  <a:pt x="13767" y="7317"/>
                </a:cubicBezTo>
                <a:cubicBezTo>
                  <a:pt x="13724" y="7689"/>
                  <a:pt x="13670" y="8031"/>
                  <a:pt x="13692" y="8409"/>
                </a:cubicBezTo>
                <a:cubicBezTo>
                  <a:pt x="13711" y="8735"/>
                  <a:pt x="13842" y="8947"/>
                  <a:pt x="13915" y="9252"/>
                </a:cubicBezTo>
                <a:cubicBezTo>
                  <a:pt x="13996" y="9589"/>
                  <a:pt x="14008" y="9905"/>
                  <a:pt x="13915" y="10244"/>
                </a:cubicBezTo>
                <a:cubicBezTo>
                  <a:pt x="13752" y="10842"/>
                  <a:pt x="13711" y="11283"/>
                  <a:pt x="13717" y="11906"/>
                </a:cubicBezTo>
                <a:cubicBezTo>
                  <a:pt x="13721" y="12285"/>
                  <a:pt x="13608" y="12676"/>
                  <a:pt x="13618" y="13047"/>
                </a:cubicBezTo>
                <a:cubicBezTo>
                  <a:pt x="13630" y="13495"/>
                  <a:pt x="13819" y="13875"/>
                  <a:pt x="13965" y="14288"/>
                </a:cubicBezTo>
                <a:cubicBezTo>
                  <a:pt x="14143" y="14790"/>
                  <a:pt x="14092" y="15295"/>
                  <a:pt x="14213" y="15801"/>
                </a:cubicBezTo>
                <a:cubicBezTo>
                  <a:pt x="14287" y="16112"/>
                  <a:pt x="14405" y="16402"/>
                  <a:pt x="14461" y="16718"/>
                </a:cubicBezTo>
                <a:cubicBezTo>
                  <a:pt x="14509" y="16990"/>
                  <a:pt x="14503" y="17264"/>
                  <a:pt x="14536" y="17537"/>
                </a:cubicBezTo>
                <a:cubicBezTo>
                  <a:pt x="14558" y="17719"/>
                  <a:pt x="14620" y="17891"/>
                  <a:pt x="14660" y="18058"/>
                </a:cubicBezTo>
                <a:cubicBezTo>
                  <a:pt x="14669" y="18097"/>
                  <a:pt x="14675" y="18124"/>
                  <a:pt x="14684" y="18157"/>
                </a:cubicBezTo>
              </a:path>
              <a:path w="13296" h="15355">
                <a:moveTo>
                  <a:pt x="9351" y="10542"/>
                </a:moveTo>
                <a:cubicBezTo>
                  <a:pt x="9616" y="10506"/>
                  <a:pt x="9876" y="10438"/>
                  <a:pt x="10145" y="10418"/>
                </a:cubicBezTo>
                <a:cubicBezTo>
                  <a:pt x="10186" y="10418"/>
                  <a:pt x="10228" y="10418"/>
                  <a:pt x="10269" y="10418"/>
                </a:cubicBezTo>
              </a:path>
              <a:path w="13296" h="15355">
                <a:moveTo>
                  <a:pt x="10021" y="10592"/>
                </a:moveTo>
                <a:cubicBezTo>
                  <a:pt x="10021" y="10689"/>
                  <a:pt x="10029" y="10822"/>
                  <a:pt x="10046" y="10914"/>
                </a:cubicBezTo>
                <a:cubicBezTo>
                  <a:pt x="10066" y="10954"/>
                  <a:pt x="10075" y="10961"/>
                  <a:pt x="10071" y="10988"/>
                </a:cubicBezTo>
              </a:path>
              <a:path w="13296" h="15355">
                <a:moveTo>
                  <a:pt x="10542" y="9823"/>
                </a:moveTo>
                <a:cubicBezTo>
                  <a:pt x="10619" y="9808"/>
                  <a:pt x="10664" y="9798"/>
                  <a:pt x="10740" y="9798"/>
                </a:cubicBezTo>
              </a:path>
              <a:path w="13296" h="15355">
                <a:moveTo>
                  <a:pt x="5184" y="13419"/>
                </a:moveTo>
                <a:cubicBezTo>
                  <a:pt x="5038" y="13478"/>
                  <a:pt x="5309" y="13324"/>
                  <a:pt x="5333" y="13320"/>
                </a:cubicBezTo>
                <a:cubicBezTo>
                  <a:pt x="5341" y="13328"/>
                  <a:pt x="5350" y="13337"/>
                  <a:pt x="5358" y="13345"/>
                </a:cubicBezTo>
                <a:cubicBezTo>
                  <a:pt x="5435" y="13527"/>
                  <a:pt x="5402" y="13578"/>
                  <a:pt x="5234" y="13692"/>
                </a:cubicBezTo>
                <a:cubicBezTo>
                  <a:pt x="5217" y="13700"/>
                  <a:pt x="5201" y="13709"/>
                  <a:pt x="5184" y="13717"/>
                </a:cubicBezTo>
                <a:cubicBezTo>
                  <a:pt x="5267" y="13675"/>
                  <a:pt x="5304" y="13700"/>
                  <a:pt x="5407" y="13717"/>
                </a:cubicBezTo>
                <a:cubicBezTo>
                  <a:pt x="5408" y="13913"/>
                  <a:pt x="5294" y="13935"/>
                  <a:pt x="5110" y="13990"/>
                </a:cubicBezTo>
              </a:path>
              <a:path w="13296" h="15355">
                <a:moveTo>
                  <a:pt x="9252" y="14188"/>
                </a:moveTo>
                <a:cubicBezTo>
                  <a:pt x="9142" y="14262"/>
                  <a:pt x="8917" y="14374"/>
                  <a:pt x="9103" y="14511"/>
                </a:cubicBezTo>
                <a:cubicBezTo>
                  <a:pt x="9242" y="14580"/>
                  <a:pt x="9288" y="14595"/>
                  <a:pt x="9302" y="14709"/>
                </a:cubicBezTo>
                <a:cubicBezTo>
                  <a:pt x="9206" y="14805"/>
                  <a:pt x="9178" y="14837"/>
                  <a:pt x="9079" y="14833"/>
                </a:cubicBezTo>
                <a:cubicBezTo>
                  <a:pt x="9078" y="14632"/>
                  <a:pt x="9191" y="14500"/>
                  <a:pt x="9277" y="14312"/>
                </a:cubicBezTo>
                <a:cubicBezTo>
                  <a:pt x="9277" y="14284"/>
                  <a:pt x="9274" y="14279"/>
                  <a:pt x="9252" y="14312"/>
                </a:cubicBezTo>
              </a:path>
              <a:path w="13296" h="15355">
                <a:moveTo>
                  <a:pt x="9451" y="14858"/>
                </a:moveTo>
                <a:cubicBezTo>
                  <a:pt x="9516" y="14642"/>
                  <a:pt x="9503" y="14430"/>
                  <a:pt x="9426" y="14213"/>
                </a:cubicBezTo>
                <a:cubicBezTo>
                  <a:pt x="9388" y="14157"/>
                  <a:pt x="9371" y="14154"/>
                  <a:pt x="9376" y="14114"/>
                </a:cubicBezTo>
                <a:cubicBezTo>
                  <a:pt x="9601" y="14097"/>
                  <a:pt x="9819" y="14067"/>
                  <a:pt x="10046" y="14064"/>
                </a:cubicBezTo>
                <a:cubicBezTo>
                  <a:pt x="10220" y="14062"/>
                  <a:pt x="10498" y="14025"/>
                  <a:pt x="10542" y="14114"/>
                </a:cubicBezTo>
              </a:path>
              <a:path w="13296" h="15355">
                <a:moveTo>
                  <a:pt x="9674" y="14288"/>
                </a:moveTo>
                <a:cubicBezTo>
                  <a:pt x="9674" y="14333"/>
                  <a:pt x="9621" y="14707"/>
                  <a:pt x="9624" y="14709"/>
                </a:cubicBezTo>
                <a:cubicBezTo>
                  <a:pt x="9649" y="14701"/>
                  <a:pt x="9674" y="14692"/>
                  <a:pt x="9699" y="14684"/>
                </a:cubicBezTo>
              </a:path>
              <a:path w="13296" h="15355">
                <a:moveTo>
                  <a:pt x="10096" y="14238"/>
                </a:moveTo>
                <a:cubicBezTo>
                  <a:pt x="10051" y="14418"/>
                  <a:pt x="9987" y="14520"/>
                  <a:pt x="9996" y="14709"/>
                </a:cubicBezTo>
                <a:cubicBezTo>
                  <a:pt x="10103" y="14716"/>
                  <a:pt x="10421" y="14666"/>
                  <a:pt x="10368" y="14461"/>
                </a:cubicBezTo>
                <a:cubicBezTo>
                  <a:pt x="10341" y="14358"/>
                  <a:pt x="10176" y="14324"/>
                  <a:pt x="10096" y="14288"/>
                </a:cubicBezTo>
              </a:path>
              <a:path w="13296" h="15355">
                <a:moveTo>
                  <a:pt x="10046" y="13395"/>
                </a:moveTo>
                <a:cubicBezTo>
                  <a:pt x="10067" y="13518"/>
                  <a:pt x="10069" y="13642"/>
                  <a:pt x="10096" y="13767"/>
                </a:cubicBezTo>
                <a:cubicBezTo>
                  <a:pt x="10109" y="13824"/>
                  <a:pt x="10118" y="13871"/>
                  <a:pt x="10145" y="13915"/>
                </a:cubicBezTo>
              </a:path>
              <a:path w="13296" h="15355">
                <a:moveTo>
                  <a:pt x="9376" y="15056"/>
                </a:moveTo>
                <a:cubicBezTo>
                  <a:pt x="9488" y="15045"/>
                  <a:pt x="9562" y="15046"/>
                  <a:pt x="9674" y="15056"/>
                </a:cubicBezTo>
              </a:path>
              <a:path w="13296" h="15355">
                <a:moveTo>
                  <a:pt x="10319" y="14833"/>
                </a:moveTo>
                <a:cubicBezTo>
                  <a:pt x="10188" y="14845"/>
                  <a:pt x="10100" y="14850"/>
                  <a:pt x="10046" y="14957"/>
                </a:cubicBezTo>
                <a:cubicBezTo>
                  <a:pt x="9985" y="15079"/>
                  <a:pt x="10233" y="15082"/>
                  <a:pt x="10170" y="15156"/>
                </a:cubicBezTo>
                <a:cubicBezTo>
                  <a:pt x="10103" y="15178"/>
                  <a:pt x="10085" y="15182"/>
                  <a:pt x="10046" y="15205"/>
                </a:cubicBezTo>
                <a:cubicBezTo>
                  <a:pt x="10046" y="15062"/>
                  <a:pt x="10191" y="15002"/>
                  <a:pt x="10244" y="14858"/>
                </a:cubicBezTo>
                <a:cubicBezTo>
                  <a:pt x="10220" y="14858"/>
                  <a:pt x="10211" y="14858"/>
                  <a:pt x="10195" y="14858"/>
                </a:cubicBezTo>
              </a:path>
              <a:path w="13296" h="15355">
                <a:moveTo>
                  <a:pt x="9302" y="15627"/>
                </a:moveTo>
                <a:cubicBezTo>
                  <a:pt x="9557" y="15529"/>
                  <a:pt x="9846" y="15464"/>
                  <a:pt x="10120" y="15429"/>
                </a:cubicBezTo>
                <a:cubicBezTo>
                  <a:pt x="10211" y="15429"/>
                  <a:pt x="10219" y="15429"/>
                  <a:pt x="10269" y="15429"/>
                </a:cubicBezTo>
              </a:path>
              <a:path w="13296" h="15355">
                <a:moveTo>
                  <a:pt x="9996" y="15726"/>
                </a:moveTo>
                <a:cubicBezTo>
                  <a:pt x="10054" y="15697"/>
                  <a:pt x="10109" y="15674"/>
                  <a:pt x="10170" y="15652"/>
                </a:cubicBezTo>
                <a:cubicBezTo>
                  <a:pt x="10210" y="15771"/>
                  <a:pt x="10080" y="15861"/>
                  <a:pt x="9996" y="15949"/>
                </a:cubicBezTo>
                <a:cubicBezTo>
                  <a:pt x="9973" y="15972"/>
                  <a:pt x="9965" y="15976"/>
                  <a:pt x="9971" y="15999"/>
                </a:cubicBezTo>
                <a:cubicBezTo>
                  <a:pt x="10109" y="15991"/>
                  <a:pt x="10216" y="15961"/>
                  <a:pt x="10344" y="15925"/>
                </a:cubicBezTo>
              </a:path>
              <a:path w="13296" h="15355">
                <a:moveTo>
                  <a:pt x="10691" y="14387"/>
                </a:moveTo>
                <a:cubicBezTo>
                  <a:pt x="10800" y="14377"/>
                  <a:pt x="10882" y="14317"/>
                  <a:pt x="10914" y="14412"/>
                </a:cubicBezTo>
              </a:path>
              <a:path w="13296" h="15355">
                <a:moveTo>
                  <a:pt x="10691" y="14610"/>
                </a:moveTo>
                <a:cubicBezTo>
                  <a:pt x="10861" y="14565"/>
                  <a:pt x="10924" y="14557"/>
                  <a:pt x="11013" y="14412"/>
                </a:cubicBezTo>
              </a:path>
              <a:path w="13296" h="15355">
                <a:moveTo>
                  <a:pt x="11013" y="14412"/>
                </a:moveTo>
                <a:lnTo>
                  <a:pt x="11013" y="14412"/>
                </a:lnTo>
              </a:path>
              <a:path w="13296" h="15355">
                <a:moveTo>
                  <a:pt x="11137" y="13692"/>
                </a:moveTo>
                <a:cubicBezTo>
                  <a:pt x="11198" y="14008"/>
                  <a:pt x="11281" y="14312"/>
                  <a:pt x="11311" y="14635"/>
                </a:cubicBezTo>
                <a:cubicBezTo>
                  <a:pt x="11311" y="14693"/>
                  <a:pt x="11311" y="14701"/>
                  <a:pt x="11311" y="14734"/>
                </a:cubicBezTo>
              </a:path>
              <a:path w="13296" h="15355">
                <a:moveTo>
                  <a:pt x="11410" y="13494"/>
                </a:moveTo>
                <a:cubicBezTo>
                  <a:pt x="11579" y="13474"/>
                  <a:pt x="11663" y="13493"/>
                  <a:pt x="11559" y="13692"/>
                </a:cubicBezTo>
                <a:cubicBezTo>
                  <a:pt x="11499" y="13773"/>
                  <a:pt x="11494" y="13796"/>
                  <a:pt x="11435" y="13816"/>
                </a:cubicBezTo>
                <a:cubicBezTo>
                  <a:pt x="11501" y="13816"/>
                  <a:pt x="11631" y="13774"/>
                  <a:pt x="11683" y="13791"/>
                </a:cubicBezTo>
                <a:cubicBezTo>
                  <a:pt x="11691" y="13799"/>
                  <a:pt x="11700" y="13808"/>
                  <a:pt x="11708" y="13816"/>
                </a:cubicBezTo>
              </a:path>
              <a:path w="13296" h="15355">
                <a:moveTo>
                  <a:pt x="11534" y="14089"/>
                </a:moveTo>
                <a:cubicBezTo>
                  <a:pt x="11663" y="14051"/>
                  <a:pt x="11795" y="13945"/>
                  <a:pt x="11857" y="14089"/>
                </a:cubicBezTo>
              </a:path>
              <a:path w="13296" h="15355">
                <a:moveTo>
                  <a:pt x="11857" y="14089"/>
                </a:moveTo>
                <a:lnTo>
                  <a:pt x="11857" y="14089"/>
                </a:lnTo>
              </a:path>
              <a:path w="13296" h="15355">
                <a:moveTo>
                  <a:pt x="11881" y="14263"/>
                </a:moveTo>
                <a:cubicBezTo>
                  <a:pt x="11739" y="14263"/>
                  <a:pt x="11694" y="14272"/>
                  <a:pt x="11584" y="14362"/>
                </a:cubicBezTo>
                <a:cubicBezTo>
                  <a:pt x="11576" y="14370"/>
                  <a:pt x="11567" y="14379"/>
                  <a:pt x="11559" y="14387"/>
                </a:cubicBezTo>
                <a:cubicBezTo>
                  <a:pt x="11628" y="14466"/>
                  <a:pt x="11780" y="14491"/>
                  <a:pt x="11832" y="14585"/>
                </a:cubicBezTo>
                <a:cubicBezTo>
                  <a:pt x="11832" y="14602"/>
                  <a:pt x="11832" y="14618"/>
                  <a:pt x="11832" y="14635"/>
                </a:cubicBezTo>
                <a:cubicBezTo>
                  <a:pt x="11748" y="14667"/>
                  <a:pt x="11706" y="14694"/>
                  <a:pt x="11683" y="14585"/>
                </a:cubicBezTo>
                <a:cubicBezTo>
                  <a:pt x="11661" y="14482"/>
                  <a:pt x="11775" y="14401"/>
                  <a:pt x="11807" y="14312"/>
                </a:cubicBezTo>
                <a:cubicBezTo>
                  <a:pt x="11807" y="14304"/>
                  <a:pt x="11807" y="14296"/>
                  <a:pt x="11807" y="14288"/>
                </a:cubicBezTo>
              </a:path>
              <a:path w="13296" h="15355">
                <a:moveTo>
                  <a:pt x="11807" y="13643"/>
                </a:moveTo>
                <a:cubicBezTo>
                  <a:pt x="11857" y="13643"/>
                  <a:pt x="11906" y="13643"/>
                  <a:pt x="11956" y="13643"/>
                </a:cubicBezTo>
              </a:path>
              <a:path w="13296" h="15355">
                <a:moveTo>
                  <a:pt x="11906" y="13519"/>
                </a:moveTo>
                <a:lnTo>
                  <a:pt x="11906" y="13519"/>
                </a:lnTo>
                <a:lnTo>
                  <a:pt x="11906" y="13519"/>
                </a:lnTo>
              </a:path>
              <a:path w="13296" h="15355">
                <a:moveTo>
                  <a:pt x="11906" y="13519"/>
                </a:moveTo>
                <a:lnTo>
                  <a:pt x="11906" y="13519"/>
                </a:lnTo>
              </a:path>
              <a:path w="13296" h="15355">
                <a:moveTo>
                  <a:pt x="11931" y="13742"/>
                </a:moveTo>
                <a:lnTo>
                  <a:pt x="11931" y="13742"/>
                </a:lnTo>
              </a:path>
              <a:path w="13296" h="15355">
                <a:moveTo>
                  <a:pt x="11807" y="14387"/>
                </a:moveTo>
                <a:cubicBezTo>
                  <a:pt x="11857" y="14387"/>
                  <a:pt x="11906" y="14387"/>
                  <a:pt x="11956" y="14387"/>
                </a:cubicBezTo>
              </a:path>
              <a:path w="13296" h="15355">
                <a:moveTo>
                  <a:pt x="12154" y="13519"/>
                </a:moveTo>
                <a:cubicBezTo>
                  <a:pt x="12204" y="13494"/>
                  <a:pt x="12221" y="13486"/>
                  <a:pt x="12254" y="13469"/>
                </a:cubicBezTo>
                <a:cubicBezTo>
                  <a:pt x="12254" y="13603"/>
                  <a:pt x="12223" y="13637"/>
                  <a:pt x="12154" y="13742"/>
                </a:cubicBezTo>
                <a:cubicBezTo>
                  <a:pt x="12146" y="13758"/>
                  <a:pt x="12137" y="13775"/>
                  <a:pt x="12129" y="13791"/>
                </a:cubicBezTo>
                <a:cubicBezTo>
                  <a:pt x="12176" y="13791"/>
                  <a:pt x="12209" y="13771"/>
                  <a:pt x="12254" y="13767"/>
                </a:cubicBezTo>
                <a:cubicBezTo>
                  <a:pt x="12262" y="13767"/>
                  <a:pt x="12270" y="13767"/>
                  <a:pt x="12278" y="13767"/>
                </a:cubicBezTo>
              </a:path>
              <a:path w="13296" h="15355">
                <a:moveTo>
                  <a:pt x="12502" y="14039"/>
                </a:moveTo>
                <a:cubicBezTo>
                  <a:pt x="12549" y="14039"/>
                  <a:pt x="12588" y="14024"/>
                  <a:pt x="12601" y="14064"/>
                </a:cubicBezTo>
              </a:path>
              <a:path w="13296" h="15355">
                <a:moveTo>
                  <a:pt x="12502" y="14114"/>
                </a:moveTo>
                <a:cubicBezTo>
                  <a:pt x="12543" y="14114"/>
                  <a:pt x="12585" y="14114"/>
                  <a:pt x="12626" y="14114"/>
                </a:cubicBezTo>
              </a:path>
              <a:path w="13296" h="15355">
                <a:moveTo>
                  <a:pt x="13320" y="13494"/>
                </a:moveTo>
                <a:cubicBezTo>
                  <a:pt x="13320" y="13426"/>
                  <a:pt x="13341" y="13575"/>
                  <a:pt x="13345" y="13643"/>
                </a:cubicBezTo>
                <a:cubicBezTo>
                  <a:pt x="13345" y="13667"/>
                  <a:pt x="13345" y="13676"/>
                  <a:pt x="13345" y="13692"/>
                </a:cubicBezTo>
              </a:path>
              <a:path w="13296" h="15355">
                <a:moveTo>
                  <a:pt x="13196" y="13891"/>
                </a:moveTo>
                <a:cubicBezTo>
                  <a:pt x="13322" y="13891"/>
                  <a:pt x="13443" y="13871"/>
                  <a:pt x="13568" y="13866"/>
                </a:cubicBezTo>
                <a:cubicBezTo>
                  <a:pt x="13576" y="13866"/>
                  <a:pt x="13585" y="13866"/>
                  <a:pt x="13593" y="13866"/>
                </a:cubicBezTo>
              </a:path>
              <a:path w="13296" h="15355">
                <a:moveTo>
                  <a:pt x="12080" y="14337"/>
                </a:moveTo>
                <a:cubicBezTo>
                  <a:pt x="12149" y="14337"/>
                  <a:pt x="12192" y="14331"/>
                  <a:pt x="12254" y="14312"/>
                </a:cubicBezTo>
                <a:cubicBezTo>
                  <a:pt x="12231" y="14433"/>
                  <a:pt x="12170" y="14482"/>
                  <a:pt x="12129" y="14585"/>
                </a:cubicBezTo>
                <a:cubicBezTo>
                  <a:pt x="12203" y="14585"/>
                  <a:pt x="12259" y="14581"/>
                  <a:pt x="12328" y="14560"/>
                </a:cubicBezTo>
              </a:path>
              <a:path w="13296" h="15355">
                <a:moveTo>
                  <a:pt x="13370" y="14089"/>
                </a:moveTo>
                <a:cubicBezTo>
                  <a:pt x="13410" y="14102"/>
                  <a:pt x="13395" y="14107"/>
                  <a:pt x="13395" y="14163"/>
                </a:cubicBezTo>
                <a:cubicBezTo>
                  <a:pt x="13448" y="14163"/>
                  <a:pt x="13469" y="14157"/>
                  <a:pt x="13519" y="14139"/>
                </a:cubicBezTo>
              </a:path>
              <a:path w="13296" h="15355">
                <a:moveTo>
                  <a:pt x="13543" y="14039"/>
                </a:moveTo>
                <a:cubicBezTo>
                  <a:pt x="13543" y="14127"/>
                  <a:pt x="13543" y="14228"/>
                  <a:pt x="13568" y="14312"/>
                </a:cubicBezTo>
                <a:cubicBezTo>
                  <a:pt x="13576" y="14329"/>
                  <a:pt x="13585" y="14345"/>
                  <a:pt x="13593" y="14362"/>
                </a:cubicBezTo>
              </a:path>
              <a:path w="13296" h="15355">
                <a:moveTo>
                  <a:pt x="12874" y="13593"/>
                </a:moveTo>
                <a:cubicBezTo>
                  <a:pt x="12841" y="13604"/>
                  <a:pt x="12834" y="13647"/>
                  <a:pt x="12849" y="13692"/>
                </a:cubicBezTo>
                <a:cubicBezTo>
                  <a:pt x="12872" y="13759"/>
                  <a:pt x="12880" y="13823"/>
                  <a:pt x="12898" y="13891"/>
                </a:cubicBezTo>
                <a:cubicBezTo>
                  <a:pt x="12917" y="13963"/>
                  <a:pt x="12943" y="14040"/>
                  <a:pt x="12948" y="14114"/>
                </a:cubicBezTo>
                <a:cubicBezTo>
                  <a:pt x="12958" y="14270"/>
                  <a:pt x="12926" y="14445"/>
                  <a:pt x="12973" y="14585"/>
                </a:cubicBezTo>
                <a:cubicBezTo>
                  <a:pt x="12973" y="14593"/>
                  <a:pt x="12973" y="14602"/>
                  <a:pt x="12973" y="14610"/>
                </a:cubicBezTo>
              </a:path>
              <a:path w="13296" h="15355">
                <a:moveTo>
                  <a:pt x="12551" y="14833"/>
                </a:moveTo>
                <a:cubicBezTo>
                  <a:pt x="12641" y="14841"/>
                  <a:pt x="12704" y="14855"/>
                  <a:pt x="12799" y="14858"/>
                </a:cubicBezTo>
                <a:cubicBezTo>
                  <a:pt x="12955" y="14863"/>
                  <a:pt x="13118" y="14870"/>
                  <a:pt x="13271" y="14833"/>
                </a:cubicBezTo>
                <a:cubicBezTo>
                  <a:pt x="13363" y="14811"/>
                  <a:pt x="13411" y="14782"/>
                  <a:pt x="13494" y="14734"/>
                </a:cubicBezTo>
                <a:cubicBezTo>
                  <a:pt x="13550" y="14702"/>
                  <a:pt x="13635" y="14663"/>
                  <a:pt x="13667" y="14610"/>
                </a:cubicBezTo>
                <a:cubicBezTo>
                  <a:pt x="13713" y="14533"/>
                  <a:pt x="13745" y="14422"/>
                  <a:pt x="13767" y="14337"/>
                </a:cubicBezTo>
                <a:cubicBezTo>
                  <a:pt x="13788" y="14258"/>
                  <a:pt x="13811" y="14125"/>
                  <a:pt x="13791" y="14039"/>
                </a:cubicBezTo>
                <a:cubicBezTo>
                  <a:pt x="13787" y="14021"/>
                  <a:pt x="13752" y="13903"/>
                  <a:pt x="13742" y="13891"/>
                </a:cubicBezTo>
                <a:cubicBezTo>
                  <a:pt x="13705" y="13848"/>
                  <a:pt x="13636" y="13788"/>
                  <a:pt x="13618" y="13742"/>
                </a:cubicBezTo>
                <a:cubicBezTo>
                  <a:pt x="13585" y="13658"/>
                  <a:pt x="13577" y="13636"/>
                  <a:pt x="13519" y="13568"/>
                </a:cubicBezTo>
                <a:cubicBezTo>
                  <a:pt x="13469" y="13509"/>
                  <a:pt x="13426" y="13451"/>
                  <a:pt x="13370" y="13395"/>
                </a:cubicBezTo>
                <a:cubicBezTo>
                  <a:pt x="13336" y="13361"/>
                  <a:pt x="13314" y="13332"/>
                  <a:pt x="13271" y="13320"/>
                </a:cubicBezTo>
                <a:cubicBezTo>
                  <a:pt x="13213" y="13304"/>
                  <a:pt x="13132" y="13279"/>
                  <a:pt x="13072" y="13271"/>
                </a:cubicBezTo>
                <a:cubicBezTo>
                  <a:pt x="13025" y="13265"/>
                  <a:pt x="12937" y="13276"/>
                  <a:pt x="12898" y="13295"/>
                </a:cubicBezTo>
                <a:cubicBezTo>
                  <a:pt x="12845" y="13320"/>
                  <a:pt x="12762" y="13371"/>
                  <a:pt x="12725" y="13419"/>
                </a:cubicBezTo>
                <a:cubicBezTo>
                  <a:pt x="12676" y="13483"/>
                  <a:pt x="12594" y="13562"/>
                  <a:pt x="12576" y="13643"/>
                </a:cubicBezTo>
                <a:cubicBezTo>
                  <a:pt x="12567" y="13684"/>
                  <a:pt x="12566" y="13727"/>
                  <a:pt x="12551" y="13767"/>
                </a:cubicBezTo>
                <a:cubicBezTo>
                  <a:pt x="12529" y="13823"/>
                  <a:pt x="12509" y="13905"/>
                  <a:pt x="12502" y="13965"/>
                </a:cubicBezTo>
                <a:cubicBezTo>
                  <a:pt x="12490" y="14067"/>
                  <a:pt x="12450" y="14113"/>
                  <a:pt x="12427" y="14213"/>
                </a:cubicBezTo>
                <a:cubicBezTo>
                  <a:pt x="12387" y="14389"/>
                  <a:pt x="12424" y="14639"/>
                  <a:pt x="12452" y="14808"/>
                </a:cubicBezTo>
                <a:cubicBezTo>
                  <a:pt x="12463" y="14872"/>
                  <a:pt x="12474" y="14922"/>
                  <a:pt x="12502" y="14982"/>
                </a:cubicBezTo>
                <a:cubicBezTo>
                  <a:pt x="12525" y="15032"/>
                  <a:pt x="12614" y="15067"/>
                  <a:pt x="12675" y="15081"/>
                </a:cubicBezTo>
                <a:cubicBezTo>
                  <a:pt x="12741" y="15096"/>
                  <a:pt x="12800" y="15089"/>
                  <a:pt x="12824" y="15081"/>
                </a:cubicBezTo>
              </a:path>
              <a:path w="13296" h="15355">
                <a:moveTo>
                  <a:pt x="14461" y="7640"/>
                </a:moveTo>
                <a:cubicBezTo>
                  <a:pt x="14502" y="7626"/>
                  <a:pt x="14501" y="7562"/>
                  <a:pt x="14436" y="7541"/>
                </a:cubicBezTo>
                <a:cubicBezTo>
                  <a:pt x="14263" y="7484"/>
                  <a:pt x="14171" y="7618"/>
                  <a:pt x="14114" y="7739"/>
                </a:cubicBezTo>
                <a:cubicBezTo>
                  <a:pt x="14211" y="7792"/>
                  <a:pt x="14342" y="7834"/>
                  <a:pt x="14436" y="7714"/>
                </a:cubicBezTo>
                <a:cubicBezTo>
                  <a:pt x="14457" y="7687"/>
                  <a:pt x="14426" y="7638"/>
                  <a:pt x="14436" y="7714"/>
                </a:cubicBezTo>
                <a:cubicBezTo>
                  <a:pt x="14450" y="7825"/>
                  <a:pt x="14357" y="7958"/>
                  <a:pt x="14436" y="8037"/>
                </a:cubicBezTo>
                <a:cubicBezTo>
                  <a:pt x="14444" y="8037"/>
                  <a:pt x="14453" y="8037"/>
                  <a:pt x="14461" y="8037"/>
                </a:cubicBezTo>
              </a:path>
              <a:path w="13296" h="15355">
                <a:moveTo>
                  <a:pt x="14288" y="8434"/>
                </a:moveTo>
                <a:cubicBezTo>
                  <a:pt x="14249" y="8550"/>
                  <a:pt x="14182" y="8650"/>
                  <a:pt x="14163" y="8781"/>
                </a:cubicBezTo>
                <a:cubicBezTo>
                  <a:pt x="14144" y="8914"/>
                  <a:pt x="14231" y="8911"/>
                  <a:pt x="14337" y="8880"/>
                </a:cubicBezTo>
                <a:cubicBezTo>
                  <a:pt x="14413" y="8858"/>
                  <a:pt x="14519" y="8817"/>
                  <a:pt x="14536" y="8731"/>
                </a:cubicBezTo>
                <a:cubicBezTo>
                  <a:pt x="14536" y="8723"/>
                  <a:pt x="14536" y="8714"/>
                  <a:pt x="14536" y="8706"/>
                </a:cubicBezTo>
                <a:cubicBezTo>
                  <a:pt x="14455" y="8706"/>
                  <a:pt x="14419" y="8724"/>
                  <a:pt x="14387" y="8806"/>
                </a:cubicBezTo>
                <a:cubicBezTo>
                  <a:pt x="14387" y="8814"/>
                  <a:pt x="14387" y="8822"/>
                  <a:pt x="14387" y="8830"/>
                </a:cubicBezTo>
              </a:path>
              <a:path w="13296" h="15355">
                <a:moveTo>
                  <a:pt x="15081" y="7565"/>
                </a:moveTo>
                <a:cubicBezTo>
                  <a:pt x="15081" y="7532"/>
                  <a:pt x="15081" y="7516"/>
                  <a:pt x="15081" y="7491"/>
                </a:cubicBezTo>
                <a:cubicBezTo>
                  <a:pt x="15012" y="7491"/>
                  <a:pt x="14982" y="7479"/>
                  <a:pt x="14932" y="7541"/>
                </a:cubicBezTo>
                <a:cubicBezTo>
                  <a:pt x="14896" y="7585"/>
                  <a:pt x="14890" y="7614"/>
                  <a:pt x="14883" y="7665"/>
                </a:cubicBezTo>
                <a:cubicBezTo>
                  <a:pt x="14912" y="7682"/>
                  <a:pt x="15019" y="7717"/>
                  <a:pt x="15056" y="7689"/>
                </a:cubicBezTo>
                <a:cubicBezTo>
                  <a:pt x="15086" y="7666"/>
                  <a:pt x="15114" y="7575"/>
                  <a:pt x="15131" y="7541"/>
                </a:cubicBezTo>
                <a:cubicBezTo>
                  <a:pt x="15106" y="7654"/>
                  <a:pt x="15089" y="7772"/>
                  <a:pt x="15081" y="7888"/>
                </a:cubicBezTo>
                <a:cubicBezTo>
                  <a:pt x="15081" y="7913"/>
                  <a:pt x="15081" y="7921"/>
                  <a:pt x="15081" y="7938"/>
                </a:cubicBezTo>
              </a:path>
              <a:path w="13296" h="15355">
                <a:moveTo>
                  <a:pt x="15354" y="7813"/>
                </a:moveTo>
                <a:cubicBezTo>
                  <a:pt x="15319" y="7857"/>
                  <a:pt x="15307" y="7919"/>
                  <a:pt x="15280" y="7938"/>
                </a:cubicBezTo>
              </a:path>
              <a:path w="13296" h="15355">
                <a:moveTo>
                  <a:pt x="15577" y="7516"/>
                </a:moveTo>
                <a:cubicBezTo>
                  <a:pt x="15630" y="7585"/>
                  <a:pt x="15595" y="7744"/>
                  <a:pt x="15602" y="7838"/>
                </a:cubicBezTo>
                <a:cubicBezTo>
                  <a:pt x="15602" y="7846"/>
                  <a:pt x="15602" y="7855"/>
                  <a:pt x="15602" y="7863"/>
                </a:cubicBezTo>
              </a:path>
              <a:path w="13296" h="15355">
                <a:moveTo>
                  <a:pt x="16024" y="7516"/>
                </a:moveTo>
                <a:cubicBezTo>
                  <a:pt x="15967" y="7523"/>
                  <a:pt x="15829" y="7535"/>
                  <a:pt x="15825" y="7615"/>
                </a:cubicBezTo>
                <a:cubicBezTo>
                  <a:pt x="15820" y="7714"/>
                  <a:pt x="15948" y="7755"/>
                  <a:pt x="15949" y="7838"/>
                </a:cubicBezTo>
                <a:cubicBezTo>
                  <a:pt x="15941" y="7846"/>
                  <a:pt x="15933" y="7855"/>
                  <a:pt x="15925" y="7863"/>
                </a:cubicBezTo>
                <a:cubicBezTo>
                  <a:pt x="15801" y="7817"/>
                  <a:pt x="15909" y="7740"/>
                  <a:pt x="15974" y="7615"/>
                </a:cubicBezTo>
                <a:cubicBezTo>
                  <a:pt x="15996" y="7571"/>
                  <a:pt x="16009" y="7560"/>
                  <a:pt x="15974" y="7541"/>
                </a:cubicBezTo>
              </a:path>
              <a:path w="13296" h="15355">
                <a:moveTo>
                  <a:pt x="16173" y="7888"/>
                </a:moveTo>
                <a:cubicBezTo>
                  <a:pt x="16149" y="7936"/>
                  <a:pt x="16141" y="7950"/>
                  <a:pt x="16148" y="7987"/>
                </a:cubicBezTo>
              </a:path>
              <a:path w="13296" h="15355">
                <a:moveTo>
                  <a:pt x="16421" y="7491"/>
                </a:moveTo>
                <a:cubicBezTo>
                  <a:pt x="16515" y="7491"/>
                  <a:pt x="16587" y="7585"/>
                  <a:pt x="16570" y="7689"/>
                </a:cubicBezTo>
                <a:cubicBezTo>
                  <a:pt x="16553" y="7794"/>
                  <a:pt x="16404" y="7860"/>
                  <a:pt x="16371" y="7764"/>
                </a:cubicBezTo>
                <a:cubicBezTo>
                  <a:pt x="16305" y="7764"/>
                  <a:pt x="16461" y="7813"/>
                  <a:pt x="16470" y="7813"/>
                </a:cubicBezTo>
                <a:cubicBezTo>
                  <a:pt x="16548" y="7788"/>
                  <a:pt x="16576" y="7778"/>
                  <a:pt x="16619" y="7739"/>
                </a:cubicBezTo>
              </a:path>
              <a:path w="13296" h="15355">
                <a:moveTo>
                  <a:pt x="16694" y="7541"/>
                </a:moveTo>
                <a:cubicBezTo>
                  <a:pt x="16708" y="7499"/>
                  <a:pt x="16763" y="7500"/>
                  <a:pt x="16818" y="7491"/>
                </a:cubicBezTo>
                <a:cubicBezTo>
                  <a:pt x="16818" y="7590"/>
                  <a:pt x="16818" y="7690"/>
                  <a:pt x="16818" y="7789"/>
                </a:cubicBezTo>
              </a:path>
              <a:path w="13296" h="15355">
                <a:moveTo>
                  <a:pt x="16818" y="7789"/>
                </a:moveTo>
                <a:lnTo>
                  <a:pt x="16818" y="7789"/>
                </a:lnTo>
              </a:path>
              <a:path w="13296" h="15355">
                <a:moveTo>
                  <a:pt x="16991" y="7813"/>
                </a:moveTo>
                <a:cubicBezTo>
                  <a:pt x="17016" y="7863"/>
                  <a:pt x="17024" y="7880"/>
                  <a:pt x="16991" y="7913"/>
                </a:cubicBezTo>
              </a:path>
              <a:path w="13296" h="15355">
                <a:moveTo>
                  <a:pt x="17165" y="7491"/>
                </a:moveTo>
                <a:cubicBezTo>
                  <a:pt x="17213" y="7491"/>
                  <a:pt x="17214" y="7488"/>
                  <a:pt x="17264" y="7466"/>
                </a:cubicBezTo>
                <a:cubicBezTo>
                  <a:pt x="17264" y="7573"/>
                  <a:pt x="17253" y="7584"/>
                  <a:pt x="17165" y="7640"/>
                </a:cubicBezTo>
                <a:cubicBezTo>
                  <a:pt x="17259" y="7659"/>
                  <a:pt x="17292" y="7715"/>
                  <a:pt x="17214" y="7789"/>
                </a:cubicBezTo>
                <a:cubicBezTo>
                  <a:pt x="17096" y="7900"/>
                  <a:pt x="17107" y="7835"/>
                  <a:pt x="17115" y="7739"/>
                </a:cubicBezTo>
              </a:path>
              <a:path w="13296" h="15355">
                <a:moveTo>
                  <a:pt x="17462" y="7466"/>
                </a:moveTo>
                <a:cubicBezTo>
                  <a:pt x="17483" y="7556"/>
                  <a:pt x="17401" y="7705"/>
                  <a:pt x="17487" y="7739"/>
                </a:cubicBezTo>
                <a:cubicBezTo>
                  <a:pt x="17565" y="7770"/>
                  <a:pt x="17609" y="7728"/>
                  <a:pt x="17661" y="7689"/>
                </a:cubicBezTo>
                <a:cubicBezTo>
                  <a:pt x="17661" y="7681"/>
                  <a:pt x="17661" y="7673"/>
                  <a:pt x="17661" y="7665"/>
                </a:cubicBezTo>
                <a:cubicBezTo>
                  <a:pt x="17620" y="7660"/>
                  <a:pt x="17500" y="7671"/>
                  <a:pt x="17537" y="7764"/>
                </a:cubicBezTo>
                <a:cubicBezTo>
                  <a:pt x="17545" y="7772"/>
                  <a:pt x="17554" y="7781"/>
                  <a:pt x="17562" y="7789"/>
                </a:cubicBezTo>
              </a:path>
              <a:path w="13296" h="15355">
                <a:moveTo>
                  <a:pt x="17760" y="7739"/>
                </a:moveTo>
                <a:cubicBezTo>
                  <a:pt x="17781" y="7821"/>
                  <a:pt x="17789" y="7837"/>
                  <a:pt x="17785" y="7888"/>
                </a:cubicBezTo>
              </a:path>
              <a:path w="13296" h="15355">
                <a:moveTo>
                  <a:pt x="17785" y="7888"/>
                </a:moveTo>
                <a:lnTo>
                  <a:pt x="17785" y="7888"/>
                </a:lnTo>
              </a:path>
              <a:path w="13296" h="15355">
                <a:moveTo>
                  <a:pt x="17959" y="7491"/>
                </a:moveTo>
                <a:cubicBezTo>
                  <a:pt x="17935" y="7571"/>
                  <a:pt x="17907" y="7628"/>
                  <a:pt x="18008" y="7640"/>
                </a:cubicBezTo>
                <a:cubicBezTo>
                  <a:pt x="18065" y="7640"/>
                  <a:pt x="18086" y="7635"/>
                  <a:pt x="18107" y="7590"/>
                </a:cubicBezTo>
              </a:path>
              <a:path w="13296" h="15355">
                <a:moveTo>
                  <a:pt x="18256" y="7491"/>
                </a:moveTo>
                <a:cubicBezTo>
                  <a:pt x="18300" y="7557"/>
                  <a:pt x="18339" y="7596"/>
                  <a:pt x="18405" y="7640"/>
                </a:cubicBezTo>
                <a:cubicBezTo>
                  <a:pt x="18375" y="7727"/>
                  <a:pt x="18312" y="7725"/>
                  <a:pt x="18231" y="7689"/>
                </a:cubicBezTo>
              </a:path>
              <a:path w="13296" h="15355">
                <a:moveTo>
                  <a:pt x="14982" y="8434"/>
                </a:moveTo>
                <a:cubicBezTo>
                  <a:pt x="14964" y="8522"/>
                  <a:pt x="14923" y="8614"/>
                  <a:pt x="14908" y="8706"/>
                </a:cubicBezTo>
                <a:cubicBezTo>
                  <a:pt x="14908" y="8723"/>
                  <a:pt x="14908" y="8739"/>
                  <a:pt x="14908" y="8756"/>
                </a:cubicBezTo>
                <a:cubicBezTo>
                  <a:pt x="14989" y="8797"/>
                  <a:pt x="15083" y="8779"/>
                  <a:pt x="15156" y="8706"/>
                </a:cubicBezTo>
                <a:cubicBezTo>
                  <a:pt x="15201" y="8661"/>
                  <a:pt x="15200" y="8662"/>
                  <a:pt x="15180" y="8632"/>
                </a:cubicBezTo>
                <a:cubicBezTo>
                  <a:pt x="15146" y="8673"/>
                  <a:pt x="15115" y="8715"/>
                  <a:pt x="15081" y="8756"/>
                </a:cubicBezTo>
              </a:path>
              <a:path w="13296" h="15355">
                <a:moveTo>
                  <a:pt x="15280" y="8682"/>
                </a:moveTo>
                <a:cubicBezTo>
                  <a:pt x="15298" y="8732"/>
                  <a:pt x="15304" y="8753"/>
                  <a:pt x="15304" y="8806"/>
                </a:cubicBezTo>
              </a:path>
              <a:path w="13296" h="15355">
                <a:moveTo>
                  <a:pt x="15875" y="8632"/>
                </a:moveTo>
                <a:lnTo>
                  <a:pt x="15875" y="8632"/>
                </a:lnTo>
              </a:path>
              <a:path w="13296" h="15355">
                <a:moveTo>
                  <a:pt x="15949" y="8657"/>
                </a:moveTo>
                <a:cubicBezTo>
                  <a:pt x="15979" y="8731"/>
                  <a:pt x="15998" y="8733"/>
                  <a:pt x="15974" y="8781"/>
                </a:cubicBezTo>
              </a:path>
              <a:path w="13296" h="15355">
                <a:moveTo>
                  <a:pt x="16123" y="8409"/>
                </a:moveTo>
                <a:cubicBezTo>
                  <a:pt x="16123" y="8498"/>
                  <a:pt x="16134" y="8572"/>
                  <a:pt x="16148" y="8657"/>
                </a:cubicBezTo>
              </a:path>
              <a:path w="13296" h="15355">
                <a:moveTo>
                  <a:pt x="16346" y="8384"/>
                </a:moveTo>
                <a:cubicBezTo>
                  <a:pt x="16247" y="8455"/>
                  <a:pt x="16268" y="8500"/>
                  <a:pt x="16371" y="8582"/>
                </a:cubicBezTo>
                <a:cubicBezTo>
                  <a:pt x="16388" y="8590"/>
                  <a:pt x="16404" y="8599"/>
                  <a:pt x="16421" y="8607"/>
                </a:cubicBezTo>
                <a:cubicBezTo>
                  <a:pt x="16369" y="8668"/>
                  <a:pt x="16357" y="8672"/>
                  <a:pt x="16272" y="8682"/>
                </a:cubicBezTo>
                <a:cubicBezTo>
                  <a:pt x="16304" y="8580"/>
                  <a:pt x="16361" y="8496"/>
                  <a:pt x="16396" y="8409"/>
                </a:cubicBezTo>
              </a:path>
              <a:path w="13296" h="15355">
                <a:moveTo>
                  <a:pt x="16570" y="8706"/>
                </a:moveTo>
                <a:cubicBezTo>
                  <a:pt x="16570" y="8723"/>
                  <a:pt x="16570" y="8739"/>
                  <a:pt x="16570" y="8756"/>
                </a:cubicBezTo>
              </a:path>
              <a:path w="13296" h="15355">
                <a:moveTo>
                  <a:pt x="16743" y="8434"/>
                </a:moveTo>
                <a:cubicBezTo>
                  <a:pt x="16743" y="8401"/>
                  <a:pt x="16751" y="8392"/>
                  <a:pt x="16793" y="8409"/>
                </a:cubicBezTo>
                <a:cubicBezTo>
                  <a:pt x="16851" y="8554"/>
                  <a:pt x="16764" y="8590"/>
                  <a:pt x="16619" y="8657"/>
                </a:cubicBezTo>
                <a:cubicBezTo>
                  <a:pt x="16639" y="8538"/>
                  <a:pt x="16650" y="8558"/>
                  <a:pt x="16768" y="8558"/>
                </a:cubicBezTo>
                <a:cubicBezTo>
                  <a:pt x="16810" y="8558"/>
                  <a:pt x="16832" y="8593"/>
                  <a:pt x="16867" y="8607"/>
                </a:cubicBezTo>
              </a:path>
              <a:path w="13296" h="15355">
                <a:moveTo>
                  <a:pt x="16892" y="8409"/>
                </a:moveTo>
                <a:cubicBezTo>
                  <a:pt x="16932" y="8422"/>
                  <a:pt x="16917" y="8427"/>
                  <a:pt x="16917" y="8483"/>
                </a:cubicBezTo>
                <a:cubicBezTo>
                  <a:pt x="16996" y="8483"/>
                  <a:pt x="17025" y="8480"/>
                  <a:pt x="17066" y="8434"/>
                </a:cubicBezTo>
              </a:path>
              <a:path w="13296" h="15355">
                <a:moveTo>
                  <a:pt x="17066" y="8434"/>
                </a:moveTo>
                <a:lnTo>
                  <a:pt x="17066" y="8434"/>
                </a:lnTo>
              </a:path>
              <a:path w="13296" h="15355">
                <a:moveTo>
                  <a:pt x="17041" y="8334"/>
                </a:moveTo>
                <a:cubicBezTo>
                  <a:pt x="17062" y="8453"/>
                  <a:pt x="17066" y="8560"/>
                  <a:pt x="17066" y="8682"/>
                </a:cubicBezTo>
              </a:path>
              <a:path w="13296" h="15355">
                <a:moveTo>
                  <a:pt x="17190" y="8657"/>
                </a:moveTo>
                <a:cubicBezTo>
                  <a:pt x="17190" y="8718"/>
                  <a:pt x="17154" y="8789"/>
                  <a:pt x="17214" y="8706"/>
                </a:cubicBezTo>
              </a:path>
              <a:path w="13296" h="15355">
                <a:moveTo>
                  <a:pt x="17338" y="8434"/>
                </a:moveTo>
                <a:cubicBezTo>
                  <a:pt x="17326" y="8394"/>
                  <a:pt x="17356" y="8398"/>
                  <a:pt x="17413" y="8384"/>
                </a:cubicBezTo>
                <a:cubicBezTo>
                  <a:pt x="17400" y="8446"/>
                  <a:pt x="17382" y="8459"/>
                  <a:pt x="17338" y="8508"/>
                </a:cubicBezTo>
                <a:cubicBezTo>
                  <a:pt x="17341" y="8507"/>
                  <a:pt x="17506" y="8494"/>
                  <a:pt x="17462" y="8558"/>
                </a:cubicBezTo>
                <a:cubicBezTo>
                  <a:pt x="17412" y="8630"/>
                  <a:pt x="17327" y="8663"/>
                  <a:pt x="17314" y="8582"/>
                </a:cubicBezTo>
              </a:path>
              <a:path w="13296" h="15355">
                <a:moveTo>
                  <a:pt x="17735" y="8359"/>
                </a:moveTo>
                <a:cubicBezTo>
                  <a:pt x="17735" y="8317"/>
                  <a:pt x="17669" y="8408"/>
                  <a:pt x="17661" y="8434"/>
                </a:cubicBezTo>
                <a:cubicBezTo>
                  <a:pt x="17653" y="8460"/>
                  <a:pt x="17661" y="8549"/>
                  <a:pt x="17661" y="8582"/>
                </a:cubicBezTo>
                <a:cubicBezTo>
                  <a:pt x="17748" y="8565"/>
                  <a:pt x="17786" y="8535"/>
                  <a:pt x="17835" y="8458"/>
                </a:cubicBezTo>
                <a:cubicBezTo>
                  <a:pt x="17884" y="8383"/>
                  <a:pt x="17829" y="8388"/>
                  <a:pt x="17785" y="8359"/>
                </a:cubicBezTo>
                <a:cubicBezTo>
                  <a:pt x="17762" y="8336"/>
                  <a:pt x="17758" y="8328"/>
                  <a:pt x="17735" y="8334"/>
                </a:cubicBezTo>
              </a:path>
              <a:path w="13296" h="15355">
                <a:moveTo>
                  <a:pt x="16148" y="7913"/>
                </a:moveTo>
                <a:cubicBezTo>
                  <a:pt x="16173" y="7913"/>
                  <a:pt x="16197" y="7913"/>
                  <a:pt x="16222" y="7913"/>
                </a:cubicBezTo>
                <a:cubicBezTo>
                  <a:pt x="16217" y="7876"/>
                  <a:pt x="16202" y="7841"/>
                  <a:pt x="16197" y="7813"/>
                </a:cubicBezTo>
                <a:cubicBezTo>
                  <a:pt x="16190" y="7774"/>
                  <a:pt x="16188" y="7748"/>
                  <a:pt x="16173" y="7714"/>
                </a:cubicBezTo>
                <a:cubicBezTo>
                  <a:pt x="16160" y="7685"/>
                  <a:pt x="16150" y="7615"/>
                  <a:pt x="16123" y="7590"/>
                </a:cubicBezTo>
                <a:cubicBezTo>
                  <a:pt x="16082" y="7552"/>
                  <a:pt x="16086" y="7557"/>
                  <a:pt x="16049" y="7516"/>
                </a:cubicBezTo>
                <a:cubicBezTo>
                  <a:pt x="16030" y="7494"/>
                  <a:pt x="15979" y="7450"/>
                  <a:pt x="15949" y="7417"/>
                </a:cubicBezTo>
                <a:cubicBezTo>
                  <a:pt x="15925" y="7390"/>
                  <a:pt x="15853" y="7367"/>
                  <a:pt x="15801" y="7342"/>
                </a:cubicBezTo>
                <a:cubicBezTo>
                  <a:pt x="15750" y="7318"/>
                  <a:pt x="15659" y="7283"/>
                  <a:pt x="15602" y="7293"/>
                </a:cubicBezTo>
                <a:cubicBezTo>
                  <a:pt x="15548" y="7302"/>
                  <a:pt x="15432" y="7339"/>
                  <a:pt x="15404" y="7392"/>
                </a:cubicBezTo>
                <a:cubicBezTo>
                  <a:pt x="15378" y="7442"/>
                  <a:pt x="15379" y="7532"/>
                  <a:pt x="15379" y="7590"/>
                </a:cubicBezTo>
                <a:cubicBezTo>
                  <a:pt x="15379" y="7666"/>
                  <a:pt x="15393" y="7720"/>
                  <a:pt x="15404" y="7789"/>
                </a:cubicBezTo>
                <a:cubicBezTo>
                  <a:pt x="15413" y="7844"/>
                  <a:pt x="15439" y="7891"/>
                  <a:pt x="15478" y="7938"/>
                </a:cubicBezTo>
                <a:cubicBezTo>
                  <a:pt x="15528" y="7997"/>
                  <a:pt x="15561" y="8033"/>
                  <a:pt x="15602" y="8086"/>
                </a:cubicBezTo>
                <a:cubicBezTo>
                  <a:pt x="15613" y="8101"/>
                  <a:pt x="15655" y="8130"/>
                  <a:pt x="15677" y="8161"/>
                </a:cubicBezTo>
                <a:cubicBezTo>
                  <a:pt x="15711" y="8210"/>
                  <a:pt x="15711" y="8238"/>
                  <a:pt x="15751" y="8285"/>
                </a:cubicBezTo>
                <a:cubicBezTo>
                  <a:pt x="15778" y="8316"/>
                  <a:pt x="15791" y="8319"/>
                  <a:pt x="15801" y="8359"/>
                </a:cubicBezTo>
                <a:cubicBezTo>
                  <a:pt x="15814" y="8416"/>
                  <a:pt x="15838" y="8406"/>
                  <a:pt x="15850" y="8458"/>
                </a:cubicBezTo>
                <a:cubicBezTo>
                  <a:pt x="15860" y="8504"/>
                  <a:pt x="15856" y="8516"/>
                  <a:pt x="15875" y="8558"/>
                </a:cubicBezTo>
                <a:cubicBezTo>
                  <a:pt x="15904" y="8623"/>
                  <a:pt x="15925" y="8663"/>
                  <a:pt x="15949" y="8731"/>
                </a:cubicBezTo>
                <a:cubicBezTo>
                  <a:pt x="15969" y="8790"/>
                  <a:pt x="15996" y="8849"/>
                  <a:pt x="16024" y="8880"/>
                </a:cubicBezTo>
                <a:cubicBezTo>
                  <a:pt x="16038" y="8896"/>
                  <a:pt x="16084" y="8943"/>
                  <a:pt x="16123" y="8954"/>
                </a:cubicBezTo>
                <a:cubicBezTo>
                  <a:pt x="16183" y="8971"/>
                  <a:pt x="16257" y="8977"/>
                  <a:pt x="16321" y="8979"/>
                </a:cubicBezTo>
                <a:cubicBezTo>
                  <a:pt x="16398" y="8982"/>
                  <a:pt x="16451" y="8965"/>
                  <a:pt x="16520" y="8954"/>
                </a:cubicBezTo>
                <a:cubicBezTo>
                  <a:pt x="16591" y="8943"/>
                  <a:pt x="16608" y="8897"/>
                  <a:pt x="16644" y="8830"/>
                </a:cubicBezTo>
                <a:cubicBezTo>
                  <a:pt x="16663" y="8795"/>
                  <a:pt x="16688" y="8725"/>
                  <a:pt x="16669" y="8682"/>
                </a:cubicBezTo>
                <a:cubicBezTo>
                  <a:pt x="16649" y="8635"/>
                  <a:pt x="16602" y="8549"/>
                  <a:pt x="16570" y="8508"/>
                </a:cubicBezTo>
                <a:cubicBezTo>
                  <a:pt x="16540" y="8469"/>
                  <a:pt x="16496" y="8416"/>
                  <a:pt x="16470" y="8384"/>
                </a:cubicBezTo>
                <a:cubicBezTo>
                  <a:pt x="16430" y="8335"/>
                  <a:pt x="16395" y="8297"/>
                  <a:pt x="16371" y="8235"/>
                </a:cubicBezTo>
                <a:cubicBezTo>
                  <a:pt x="16356" y="8196"/>
                  <a:pt x="16339" y="8157"/>
                  <a:pt x="16321" y="8136"/>
                </a:cubicBezTo>
                <a:cubicBezTo>
                  <a:pt x="16294" y="8104"/>
                  <a:pt x="16226" y="8026"/>
                  <a:pt x="16222" y="8012"/>
                </a:cubicBezTo>
                <a:cubicBezTo>
                  <a:pt x="16214" y="7980"/>
                  <a:pt x="16202" y="7917"/>
                  <a:pt x="16197" y="7888"/>
                </a:cubicBezTo>
                <a:cubicBezTo>
                  <a:pt x="16188" y="7833"/>
                  <a:pt x="16198" y="7825"/>
                  <a:pt x="16173" y="7764"/>
                </a:cubicBezTo>
                <a:cubicBezTo>
                  <a:pt x="16148" y="7764"/>
                  <a:pt x="16140" y="7764"/>
                  <a:pt x="16148" y="7739"/>
                </a:cubicBezTo>
              </a:path>
              <a:path w="13296" h="15355">
                <a:moveTo>
                  <a:pt x="16694" y="2877"/>
                </a:moveTo>
                <a:cubicBezTo>
                  <a:pt x="16590" y="3036"/>
                  <a:pt x="16492" y="3278"/>
                  <a:pt x="16818" y="3175"/>
                </a:cubicBezTo>
                <a:cubicBezTo>
                  <a:pt x="17159" y="3067"/>
                  <a:pt x="16793" y="2934"/>
                  <a:pt x="16669" y="2902"/>
                </a:cubicBezTo>
              </a:path>
              <a:path w="13296" h="15355">
                <a:moveTo>
                  <a:pt x="16669" y="2902"/>
                </a:moveTo>
                <a:lnTo>
                  <a:pt x="16669" y="2902"/>
                </a:lnTo>
              </a:path>
              <a:path w="13296" h="15355">
                <a:moveTo>
                  <a:pt x="16272" y="6821"/>
                </a:moveTo>
                <a:cubicBezTo>
                  <a:pt x="16272" y="6744"/>
                  <a:pt x="16232" y="6918"/>
                  <a:pt x="16222" y="6995"/>
                </a:cubicBezTo>
                <a:cubicBezTo>
                  <a:pt x="16222" y="7020"/>
                  <a:pt x="16222" y="7044"/>
                  <a:pt x="16222" y="7069"/>
                </a:cubicBezTo>
              </a:path>
              <a:path w="13296" h="15355">
                <a:moveTo>
                  <a:pt x="16594" y="6697"/>
                </a:moveTo>
                <a:cubicBezTo>
                  <a:pt x="16535" y="6707"/>
                  <a:pt x="16479" y="6728"/>
                  <a:pt x="16421" y="6747"/>
                </a:cubicBezTo>
                <a:cubicBezTo>
                  <a:pt x="16421" y="6887"/>
                  <a:pt x="16532" y="6866"/>
                  <a:pt x="16619" y="6945"/>
                </a:cubicBezTo>
                <a:cubicBezTo>
                  <a:pt x="16627" y="6962"/>
                  <a:pt x="16636" y="6978"/>
                  <a:pt x="16644" y="6995"/>
                </a:cubicBezTo>
                <a:cubicBezTo>
                  <a:pt x="16619" y="7007"/>
                  <a:pt x="16359" y="7120"/>
                  <a:pt x="16446" y="6970"/>
                </a:cubicBezTo>
                <a:cubicBezTo>
                  <a:pt x="16509" y="6862"/>
                  <a:pt x="16602" y="6877"/>
                  <a:pt x="16619" y="6747"/>
                </a:cubicBezTo>
              </a:path>
              <a:path w="13296" h="15355">
                <a:moveTo>
                  <a:pt x="17835" y="6722"/>
                </a:moveTo>
                <a:cubicBezTo>
                  <a:pt x="17819" y="6804"/>
                  <a:pt x="17800" y="6889"/>
                  <a:pt x="17785" y="6970"/>
                </a:cubicBezTo>
                <a:cubicBezTo>
                  <a:pt x="17785" y="6978"/>
                  <a:pt x="17785" y="6987"/>
                  <a:pt x="17785" y="6995"/>
                </a:cubicBezTo>
              </a:path>
              <a:path w="13296" h="15355">
                <a:moveTo>
                  <a:pt x="18157" y="6697"/>
                </a:moveTo>
                <a:cubicBezTo>
                  <a:pt x="18062" y="6697"/>
                  <a:pt x="18047" y="6715"/>
                  <a:pt x="17983" y="6747"/>
                </a:cubicBezTo>
                <a:cubicBezTo>
                  <a:pt x="18091" y="6821"/>
                  <a:pt x="18261" y="6856"/>
                  <a:pt x="18132" y="6945"/>
                </a:cubicBezTo>
                <a:cubicBezTo>
                  <a:pt x="18042" y="6999"/>
                  <a:pt x="18041" y="7024"/>
                  <a:pt x="17983" y="7020"/>
                </a:cubicBezTo>
                <a:cubicBezTo>
                  <a:pt x="18049" y="6917"/>
                  <a:pt x="18151" y="6819"/>
                  <a:pt x="18207" y="6722"/>
                </a:cubicBezTo>
              </a:path>
              <a:path w="13296" h="15355">
                <a:moveTo>
                  <a:pt x="17760" y="6300"/>
                </a:moveTo>
                <a:cubicBezTo>
                  <a:pt x="17793" y="6350"/>
                  <a:pt x="17798" y="6338"/>
                  <a:pt x="17810" y="6375"/>
                </a:cubicBezTo>
              </a:path>
              <a:path w="13296" h="15355">
                <a:moveTo>
                  <a:pt x="17810" y="6226"/>
                </a:moveTo>
                <a:cubicBezTo>
                  <a:pt x="17810" y="6287"/>
                  <a:pt x="17778" y="6325"/>
                  <a:pt x="17760" y="6375"/>
                </a:cubicBezTo>
                <a:cubicBezTo>
                  <a:pt x="17760" y="6383"/>
                  <a:pt x="17760" y="6392"/>
                  <a:pt x="17760" y="6400"/>
                </a:cubicBezTo>
              </a:path>
              <a:path w="13296" h="15355">
                <a:moveTo>
                  <a:pt x="17760" y="6400"/>
                </a:moveTo>
                <a:lnTo>
                  <a:pt x="17760" y="6400"/>
                </a:lnTo>
              </a:path>
              <a:path w="13296" h="15355">
                <a:moveTo>
                  <a:pt x="14957" y="7094"/>
                </a:moveTo>
                <a:cubicBezTo>
                  <a:pt x="14932" y="7094"/>
                  <a:pt x="14924" y="7094"/>
                  <a:pt x="14932" y="7069"/>
                </a:cubicBezTo>
              </a:path>
              <a:path w="13296" h="15355">
                <a:moveTo>
                  <a:pt x="15751" y="7045"/>
                </a:moveTo>
                <a:cubicBezTo>
                  <a:pt x="15751" y="7037"/>
                  <a:pt x="15751" y="7028"/>
                  <a:pt x="15751" y="7020"/>
                </a:cubicBezTo>
              </a:path>
              <a:path w="13296" h="15355">
                <a:moveTo>
                  <a:pt x="15776" y="7020"/>
                </a:moveTo>
                <a:lnTo>
                  <a:pt x="15776" y="7020"/>
                </a:lnTo>
              </a:path>
              <a:path w="13296" h="15355">
                <a:moveTo>
                  <a:pt x="15081" y="8235"/>
                </a:moveTo>
                <a:lnTo>
                  <a:pt x="15081" y="8235"/>
                </a:lnTo>
                <a:lnTo>
                  <a:pt x="15081" y="8235"/>
                </a:lnTo>
                <a:lnTo>
                  <a:pt x="15081" y="8235"/>
                </a:lnTo>
              </a:path>
              <a:path w="13296" h="15355">
                <a:moveTo>
                  <a:pt x="15503" y="8161"/>
                </a:moveTo>
                <a:cubicBezTo>
                  <a:pt x="15503" y="8153"/>
                  <a:pt x="15503" y="8144"/>
                  <a:pt x="15503" y="8136"/>
                </a:cubicBezTo>
              </a:path>
              <a:path w="13296" h="15355">
                <a:moveTo>
                  <a:pt x="16098" y="8186"/>
                </a:moveTo>
                <a:cubicBezTo>
                  <a:pt x="16090" y="8186"/>
                  <a:pt x="16081" y="8186"/>
                  <a:pt x="16073" y="8186"/>
                </a:cubicBezTo>
              </a:path>
              <a:path w="13296" h="15355">
                <a:moveTo>
                  <a:pt x="14932" y="10418"/>
                </a:moveTo>
                <a:lnTo>
                  <a:pt x="14932" y="10418"/>
                </a:lnTo>
              </a:path>
              <a:path w="13296" h="15355">
                <a:moveTo>
                  <a:pt x="14932" y="10046"/>
                </a:moveTo>
                <a:cubicBezTo>
                  <a:pt x="14835" y="10188"/>
                  <a:pt x="14725" y="10345"/>
                  <a:pt x="14684" y="10517"/>
                </a:cubicBezTo>
                <a:cubicBezTo>
                  <a:pt x="14663" y="10603"/>
                  <a:pt x="14755" y="10463"/>
                  <a:pt x="14808" y="10393"/>
                </a:cubicBezTo>
              </a:path>
              <a:path w="13296" h="15355">
                <a:moveTo>
                  <a:pt x="15205" y="10071"/>
                </a:moveTo>
                <a:cubicBezTo>
                  <a:pt x="15213" y="10071"/>
                  <a:pt x="15222" y="10071"/>
                  <a:pt x="15230" y="10071"/>
                </a:cubicBezTo>
              </a:path>
              <a:path w="13296" h="15355">
                <a:moveTo>
                  <a:pt x="15255" y="10368"/>
                </a:moveTo>
                <a:lnTo>
                  <a:pt x="15255" y="10368"/>
                </a:lnTo>
                <a:lnTo>
                  <a:pt x="15255" y="10368"/>
                </a:lnTo>
              </a:path>
              <a:path w="13296" h="15355">
                <a:moveTo>
                  <a:pt x="15255" y="10368"/>
                </a:moveTo>
                <a:lnTo>
                  <a:pt x="15255" y="103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59760" y="919080"/>
            <a:ext cx="687240" cy="1100160"/>
          </a:xfrm>
          <a:custGeom>
            <a:avLst/>
            <a:gdLst/>
            <a:ahLst/>
            <a:rect l="l" t="t" r="r" b="b"/>
            <a:pathLst>
              <a:path w="1911" h="3052">
                <a:moveTo>
                  <a:pt x="20166" y="2902"/>
                </a:moveTo>
                <a:cubicBezTo>
                  <a:pt x="20174" y="2927"/>
                  <a:pt x="20183" y="2952"/>
                  <a:pt x="20191" y="2977"/>
                </a:cubicBezTo>
                <a:cubicBezTo>
                  <a:pt x="20241" y="2877"/>
                  <a:pt x="20257" y="2844"/>
                  <a:pt x="20290" y="2778"/>
                </a:cubicBezTo>
                <a:cubicBezTo>
                  <a:pt x="20383" y="2858"/>
                  <a:pt x="20385" y="3006"/>
                  <a:pt x="20464" y="3076"/>
                </a:cubicBezTo>
                <a:cubicBezTo>
                  <a:pt x="20552" y="3076"/>
                  <a:pt x="20611" y="3040"/>
                  <a:pt x="20662" y="2952"/>
                </a:cubicBezTo>
              </a:path>
              <a:path w="1911" h="3052">
                <a:moveTo>
                  <a:pt x="20737" y="2853"/>
                </a:moveTo>
                <a:cubicBezTo>
                  <a:pt x="20641" y="2874"/>
                  <a:pt x="20414" y="2915"/>
                  <a:pt x="20489" y="3026"/>
                </a:cubicBezTo>
                <a:cubicBezTo>
                  <a:pt x="20671" y="2955"/>
                  <a:pt x="20620" y="2929"/>
                  <a:pt x="20712" y="2977"/>
                </a:cubicBezTo>
                <a:cubicBezTo>
                  <a:pt x="20994" y="3123"/>
                  <a:pt x="21001" y="2763"/>
                  <a:pt x="20960" y="2604"/>
                </a:cubicBezTo>
                <a:cubicBezTo>
                  <a:pt x="20952" y="2588"/>
                  <a:pt x="20943" y="2571"/>
                  <a:pt x="20935" y="2555"/>
                </a:cubicBezTo>
                <a:cubicBezTo>
                  <a:pt x="20935" y="2718"/>
                  <a:pt x="20981" y="2871"/>
                  <a:pt x="21034" y="3026"/>
                </a:cubicBezTo>
                <a:cubicBezTo>
                  <a:pt x="21070" y="3097"/>
                  <a:pt x="21073" y="3091"/>
                  <a:pt x="21034" y="2952"/>
                </a:cubicBezTo>
              </a:path>
              <a:path w="1911" h="3052">
                <a:moveTo>
                  <a:pt x="20786" y="2679"/>
                </a:moveTo>
                <a:cubicBezTo>
                  <a:pt x="20941" y="2693"/>
                  <a:pt x="21112" y="2700"/>
                  <a:pt x="21258" y="2729"/>
                </a:cubicBezTo>
                <a:cubicBezTo>
                  <a:pt x="21222" y="2799"/>
                  <a:pt x="21174" y="2872"/>
                  <a:pt x="21134" y="2952"/>
                </a:cubicBezTo>
                <a:cubicBezTo>
                  <a:pt x="21223" y="2983"/>
                  <a:pt x="21639" y="3056"/>
                  <a:pt x="21555" y="2803"/>
                </a:cubicBezTo>
                <a:cubicBezTo>
                  <a:pt x="21459" y="2707"/>
                  <a:pt x="21431" y="2675"/>
                  <a:pt x="21332" y="2679"/>
                </a:cubicBezTo>
              </a:path>
              <a:path w="1911" h="3052">
                <a:moveTo>
                  <a:pt x="21654" y="2853"/>
                </a:moveTo>
                <a:cubicBezTo>
                  <a:pt x="21673" y="2910"/>
                  <a:pt x="21682" y="2917"/>
                  <a:pt x="21679" y="2952"/>
                </a:cubicBezTo>
                <a:cubicBezTo>
                  <a:pt x="21771" y="2805"/>
                  <a:pt x="21832" y="2648"/>
                  <a:pt x="22027" y="2604"/>
                </a:cubicBezTo>
                <a:cubicBezTo>
                  <a:pt x="22086" y="2634"/>
                  <a:pt x="22096" y="2652"/>
                  <a:pt x="22027" y="2704"/>
                </a:cubicBezTo>
              </a:path>
              <a:path w="1911" h="3052">
                <a:moveTo>
                  <a:pt x="20563" y="5234"/>
                </a:moveTo>
                <a:cubicBezTo>
                  <a:pt x="20501" y="5326"/>
                  <a:pt x="20501" y="5445"/>
                  <a:pt x="20489" y="5556"/>
                </a:cubicBezTo>
                <a:cubicBezTo>
                  <a:pt x="20489" y="5573"/>
                  <a:pt x="20489" y="5589"/>
                  <a:pt x="20489" y="5606"/>
                </a:cubicBezTo>
              </a:path>
              <a:path w="1911" h="3052">
                <a:moveTo>
                  <a:pt x="20712" y="5234"/>
                </a:moveTo>
                <a:cubicBezTo>
                  <a:pt x="20663" y="5299"/>
                  <a:pt x="20686" y="5309"/>
                  <a:pt x="20762" y="5358"/>
                </a:cubicBezTo>
                <a:cubicBezTo>
                  <a:pt x="20842" y="5409"/>
                  <a:pt x="20867" y="5497"/>
                  <a:pt x="20737" y="5531"/>
                </a:cubicBezTo>
                <a:cubicBezTo>
                  <a:pt x="20645" y="5531"/>
                  <a:pt x="20614" y="5538"/>
                  <a:pt x="20613" y="5457"/>
                </a:cubicBezTo>
              </a:path>
              <a:path w="1911" h="3052">
                <a:moveTo>
                  <a:pt x="20737" y="5184"/>
                </a:moveTo>
                <a:cubicBezTo>
                  <a:pt x="20739" y="5183"/>
                  <a:pt x="21031" y="5107"/>
                  <a:pt x="21034" y="5110"/>
                </a:cubicBezTo>
                <a:cubicBezTo>
                  <a:pt x="21034" y="5126"/>
                  <a:pt x="21034" y="5143"/>
                  <a:pt x="21034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5080" y="465120"/>
            <a:ext cx="1706760" cy="142920"/>
          </a:xfrm>
          <a:custGeom>
            <a:avLst/>
            <a:gdLst/>
            <a:ahLst/>
            <a:rect l="l" t="t" r="r" b="b"/>
            <a:pathLst>
              <a:path w="4738" h="398">
                <a:moveTo>
                  <a:pt x="15404" y="1389"/>
                </a:moveTo>
                <a:lnTo>
                  <a:pt x="15404" y="1389"/>
                </a:lnTo>
              </a:path>
              <a:path w="4738" h="398">
                <a:moveTo>
                  <a:pt x="17264" y="1463"/>
                </a:moveTo>
                <a:lnTo>
                  <a:pt x="17264" y="1463"/>
                </a:lnTo>
              </a:path>
              <a:path w="4738" h="398">
                <a:moveTo>
                  <a:pt x="19794" y="1687"/>
                </a:moveTo>
                <a:lnTo>
                  <a:pt x="19794" y="1687"/>
                </a:lnTo>
              </a:path>
              <a:path w="4738" h="398">
                <a:moveTo>
                  <a:pt x="20042" y="1364"/>
                </a:moveTo>
                <a:lnTo>
                  <a:pt x="20042" y="1364"/>
                </a:lnTo>
                <a:lnTo>
                  <a:pt x="20042" y="1364"/>
                </a:lnTo>
              </a:path>
              <a:path w="4738" h="398">
                <a:moveTo>
                  <a:pt x="20042" y="1364"/>
                </a:moveTo>
                <a:lnTo>
                  <a:pt x="20042" y="1364"/>
                </a:lnTo>
              </a:path>
              <a:path w="4738" h="398">
                <a:moveTo>
                  <a:pt x="20141" y="1290"/>
                </a:moveTo>
                <a:lnTo>
                  <a:pt x="20141" y="12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57880" y="419040"/>
            <a:ext cx="2268360" cy="250920"/>
          </a:xfrm>
          <a:custGeom>
            <a:avLst/>
            <a:gdLst/>
            <a:ahLst/>
            <a:rect l="l" t="t" r="r" b="b"/>
            <a:pathLst>
              <a:path w="6301" h="695">
                <a:moveTo>
                  <a:pt x="15106" y="1290"/>
                </a:moveTo>
                <a:cubicBezTo>
                  <a:pt x="15147" y="1290"/>
                  <a:pt x="15180" y="1348"/>
                  <a:pt x="15205" y="1315"/>
                </a:cubicBezTo>
                <a:cubicBezTo>
                  <a:pt x="15205" y="1307"/>
                  <a:pt x="15205" y="1298"/>
                  <a:pt x="15205" y="1290"/>
                </a:cubicBezTo>
                <a:cubicBezTo>
                  <a:pt x="15126" y="1250"/>
                  <a:pt x="15100" y="1175"/>
                  <a:pt x="14982" y="1315"/>
                </a:cubicBezTo>
                <a:cubicBezTo>
                  <a:pt x="14729" y="1616"/>
                  <a:pt x="14953" y="1646"/>
                  <a:pt x="15205" y="1637"/>
                </a:cubicBezTo>
              </a:path>
              <a:path w="6301" h="695">
                <a:moveTo>
                  <a:pt x="15577" y="1389"/>
                </a:moveTo>
                <a:cubicBezTo>
                  <a:pt x="15450" y="1442"/>
                  <a:pt x="15457" y="1438"/>
                  <a:pt x="15404" y="1563"/>
                </a:cubicBezTo>
                <a:cubicBezTo>
                  <a:pt x="15467" y="1611"/>
                  <a:pt x="15586" y="1595"/>
                  <a:pt x="15627" y="1513"/>
                </a:cubicBezTo>
                <a:cubicBezTo>
                  <a:pt x="15687" y="1394"/>
                  <a:pt x="15469" y="1404"/>
                  <a:pt x="15404" y="1389"/>
                </a:cubicBezTo>
              </a:path>
              <a:path w="6301" h="695">
                <a:moveTo>
                  <a:pt x="15751" y="1488"/>
                </a:moveTo>
                <a:cubicBezTo>
                  <a:pt x="15773" y="1532"/>
                  <a:pt x="15776" y="1544"/>
                  <a:pt x="15801" y="1563"/>
                </a:cubicBezTo>
                <a:cubicBezTo>
                  <a:pt x="15794" y="1527"/>
                  <a:pt x="15739" y="1417"/>
                  <a:pt x="15801" y="1389"/>
                </a:cubicBezTo>
                <a:cubicBezTo>
                  <a:pt x="15898" y="1346"/>
                  <a:pt x="16080" y="1498"/>
                  <a:pt x="16123" y="1563"/>
                </a:cubicBezTo>
                <a:cubicBezTo>
                  <a:pt x="16123" y="1571"/>
                  <a:pt x="16123" y="1580"/>
                  <a:pt x="16123" y="1588"/>
                </a:cubicBezTo>
                <a:cubicBezTo>
                  <a:pt x="16025" y="1489"/>
                  <a:pt x="15995" y="1435"/>
                  <a:pt x="16197" y="1439"/>
                </a:cubicBezTo>
                <a:cubicBezTo>
                  <a:pt x="16316" y="1442"/>
                  <a:pt x="16441" y="1521"/>
                  <a:pt x="16371" y="1637"/>
                </a:cubicBezTo>
              </a:path>
              <a:path w="6301" h="695">
                <a:moveTo>
                  <a:pt x="16545" y="1588"/>
                </a:moveTo>
                <a:cubicBezTo>
                  <a:pt x="16615" y="1633"/>
                  <a:pt x="16549" y="1492"/>
                  <a:pt x="16570" y="1439"/>
                </a:cubicBezTo>
                <a:cubicBezTo>
                  <a:pt x="16608" y="1345"/>
                  <a:pt x="16826" y="1594"/>
                  <a:pt x="16842" y="1612"/>
                </a:cubicBezTo>
                <a:cubicBezTo>
                  <a:pt x="16786" y="1500"/>
                  <a:pt x="16775" y="1514"/>
                  <a:pt x="16842" y="1414"/>
                </a:cubicBezTo>
                <a:cubicBezTo>
                  <a:pt x="16971" y="1439"/>
                  <a:pt x="17022" y="1481"/>
                  <a:pt x="17066" y="1612"/>
                </a:cubicBezTo>
                <a:cubicBezTo>
                  <a:pt x="17066" y="1620"/>
                  <a:pt x="17066" y="1629"/>
                  <a:pt x="17066" y="1637"/>
                </a:cubicBezTo>
              </a:path>
              <a:path w="6301" h="695">
                <a:moveTo>
                  <a:pt x="17314" y="1414"/>
                </a:moveTo>
                <a:cubicBezTo>
                  <a:pt x="17242" y="1527"/>
                  <a:pt x="17214" y="1537"/>
                  <a:pt x="17239" y="1662"/>
                </a:cubicBezTo>
                <a:cubicBezTo>
                  <a:pt x="17269" y="1658"/>
                  <a:pt x="17647" y="1575"/>
                  <a:pt x="17487" y="1488"/>
                </a:cubicBezTo>
                <a:cubicBezTo>
                  <a:pt x="17372" y="1465"/>
                  <a:pt x="17340" y="1456"/>
                  <a:pt x="17264" y="1463"/>
                </a:cubicBezTo>
              </a:path>
              <a:path w="6301" h="695">
                <a:moveTo>
                  <a:pt x="17661" y="1588"/>
                </a:moveTo>
                <a:cubicBezTo>
                  <a:pt x="17661" y="1629"/>
                  <a:pt x="17661" y="1653"/>
                  <a:pt x="17661" y="1612"/>
                </a:cubicBezTo>
                <a:cubicBezTo>
                  <a:pt x="17674" y="1517"/>
                  <a:pt x="17694" y="1322"/>
                  <a:pt x="17859" y="1439"/>
                </a:cubicBezTo>
                <a:cubicBezTo>
                  <a:pt x="17980" y="1525"/>
                  <a:pt x="17952" y="1618"/>
                  <a:pt x="17909" y="1712"/>
                </a:cubicBezTo>
              </a:path>
              <a:path w="6301" h="695">
                <a:moveTo>
                  <a:pt x="18430" y="1414"/>
                </a:moveTo>
                <a:cubicBezTo>
                  <a:pt x="18496" y="1498"/>
                  <a:pt x="18534" y="1563"/>
                  <a:pt x="18579" y="1662"/>
                </a:cubicBezTo>
                <a:cubicBezTo>
                  <a:pt x="18523" y="1588"/>
                  <a:pt x="18529" y="1506"/>
                  <a:pt x="18554" y="1414"/>
                </a:cubicBezTo>
                <a:cubicBezTo>
                  <a:pt x="18614" y="1194"/>
                  <a:pt x="18853" y="1550"/>
                  <a:pt x="18876" y="1612"/>
                </a:cubicBezTo>
                <a:cubicBezTo>
                  <a:pt x="18876" y="1678"/>
                  <a:pt x="18876" y="1695"/>
                  <a:pt x="18876" y="1736"/>
                </a:cubicBezTo>
              </a:path>
              <a:path w="6301" h="695">
                <a:moveTo>
                  <a:pt x="19000" y="1389"/>
                </a:moveTo>
                <a:cubicBezTo>
                  <a:pt x="18980" y="1487"/>
                  <a:pt x="18938" y="1697"/>
                  <a:pt x="19124" y="1687"/>
                </a:cubicBezTo>
                <a:cubicBezTo>
                  <a:pt x="19267" y="1679"/>
                  <a:pt x="19270" y="1597"/>
                  <a:pt x="19298" y="1488"/>
                </a:cubicBezTo>
                <a:cubicBezTo>
                  <a:pt x="19322" y="1608"/>
                  <a:pt x="19452" y="1782"/>
                  <a:pt x="19546" y="1563"/>
                </a:cubicBezTo>
                <a:cubicBezTo>
                  <a:pt x="19546" y="1485"/>
                  <a:pt x="19562" y="1467"/>
                  <a:pt x="19521" y="1439"/>
                </a:cubicBezTo>
              </a:path>
              <a:path w="6301" h="695">
                <a:moveTo>
                  <a:pt x="18182" y="1463"/>
                </a:moveTo>
                <a:cubicBezTo>
                  <a:pt x="18200" y="1499"/>
                  <a:pt x="18200" y="1611"/>
                  <a:pt x="18231" y="1637"/>
                </a:cubicBezTo>
                <a:cubicBezTo>
                  <a:pt x="18239" y="1637"/>
                  <a:pt x="18248" y="1637"/>
                  <a:pt x="18256" y="1637"/>
                </a:cubicBezTo>
                <a:cubicBezTo>
                  <a:pt x="18256" y="1592"/>
                  <a:pt x="18232" y="1488"/>
                  <a:pt x="18281" y="1463"/>
                </a:cubicBezTo>
                <a:cubicBezTo>
                  <a:pt x="18333" y="1437"/>
                  <a:pt x="18444" y="1424"/>
                  <a:pt x="18504" y="1439"/>
                </a:cubicBezTo>
                <a:cubicBezTo>
                  <a:pt x="18626" y="1470"/>
                  <a:pt x="18597" y="1554"/>
                  <a:pt x="18628" y="1637"/>
                </a:cubicBezTo>
                <a:cubicBezTo>
                  <a:pt x="18651" y="1660"/>
                  <a:pt x="18659" y="1664"/>
                  <a:pt x="18653" y="1687"/>
                </a:cubicBezTo>
              </a:path>
              <a:path w="6301" h="695">
                <a:moveTo>
                  <a:pt x="19397" y="1191"/>
                </a:moveTo>
                <a:cubicBezTo>
                  <a:pt x="19496" y="1190"/>
                  <a:pt x="19493" y="1370"/>
                  <a:pt x="19496" y="1488"/>
                </a:cubicBezTo>
                <a:cubicBezTo>
                  <a:pt x="19498" y="1581"/>
                  <a:pt x="19507" y="1627"/>
                  <a:pt x="19521" y="1712"/>
                </a:cubicBezTo>
              </a:path>
              <a:path w="6301" h="695">
                <a:moveTo>
                  <a:pt x="19645" y="1215"/>
                </a:moveTo>
                <a:cubicBezTo>
                  <a:pt x="19701" y="1341"/>
                  <a:pt x="19720" y="1500"/>
                  <a:pt x="19769" y="1637"/>
                </a:cubicBezTo>
                <a:cubicBezTo>
                  <a:pt x="19777" y="1654"/>
                  <a:pt x="19786" y="1670"/>
                  <a:pt x="19794" y="1687"/>
                </a:cubicBezTo>
              </a:path>
              <a:path w="6301" h="695">
                <a:moveTo>
                  <a:pt x="19695" y="1463"/>
                </a:moveTo>
                <a:cubicBezTo>
                  <a:pt x="19784" y="1463"/>
                  <a:pt x="19859" y="1483"/>
                  <a:pt x="19943" y="1488"/>
                </a:cubicBezTo>
                <a:cubicBezTo>
                  <a:pt x="19993" y="1488"/>
                  <a:pt x="20009" y="1488"/>
                  <a:pt x="20042" y="1488"/>
                </a:cubicBezTo>
              </a:path>
              <a:path w="6301" h="695">
                <a:moveTo>
                  <a:pt x="20166" y="1588"/>
                </a:moveTo>
                <a:cubicBezTo>
                  <a:pt x="20166" y="1671"/>
                  <a:pt x="20168" y="1734"/>
                  <a:pt x="20191" y="1811"/>
                </a:cubicBezTo>
              </a:path>
              <a:path w="6301" h="695">
                <a:moveTo>
                  <a:pt x="20340" y="1488"/>
                </a:moveTo>
                <a:cubicBezTo>
                  <a:pt x="20369" y="1611"/>
                  <a:pt x="20401" y="1735"/>
                  <a:pt x="20414" y="1860"/>
                </a:cubicBezTo>
                <a:cubicBezTo>
                  <a:pt x="20374" y="1720"/>
                  <a:pt x="20282" y="1597"/>
                  <a:pt x="20315" y="1439"/>
                </a:cubicBezTo>
                <a:cubicBezTo>
                  <a:pt x="20332" y="1414"/>
                  <a:pt x="20348" y="1389"/>
                  <a:pt x="20365" y="1364"/>
                </a:cubicBezTo>
                <a:cubicBezTo>
                  <a:pt x="20501" y="1392"/>
                  <a:pt x="20743" y="1511"/>
                  <a:pt x="20513" y="1662"/>
                </a:cubicBezTo>
                <a:cubicBezTo>
                  <a:pt x="20387" y="1745"/>
                  <a:pt x="20322" y="1641"/>
                  <a:pt x="20265" y="1563"/>
                </a:cubicBezTo>
              </a:path>
              <a:path w="6301" h="695">
                <a:moveTo>
                  <a:pt x="20638" y="1240"/>
                </a:moveTo>
                <a:cubicBezTo>
                  <a:pt x="20690" y="1397"/>
                  <a:pt x="20712" y="1521"/>
                  <a:pt x="20712" y="1687"/>
                </a:cubicBezTo>
              </a:path>
              <a:path w="6301" h="695">
                <a:moveTo>
                  <a:pt x="20762" y="1439"/>
                </a:moveTo>
                <a:cubicBezTo>
                  <a:pt x="20785" y="1436"/>
                  <a:pt x="20942" y="1432"/>
                  <a:pt x="20960" y="1414"/>
                </a:cubicBezTo>
                <a:cubicBezTo>
                  <a:pt x="20960" y="1379"/>
                  <a:pt x="20965" y="1361"/>
                  <a:pt x="20985" y="1339"/>
                </a:cubicBezTo>
                <a:cubicBezTo>
                  <a:pt x="20923" y="1360"/>
                  <a:pt x="20728" y="1471"/>
                  <a:pt x="20811" y="1588"/>
                </a:cubicBezTo>
                <a:cubicBezTo>
                  <a:pt x="20886" y="1694"/>
                  <a:pt x="21312" y="1623"/>
                  <a:pt x="21183" y="1612"/>
                </a:cubicBezTo>
                <a:cubicBezTo>
                  <a:pt x="21150" y="1612"/>
                  <a:pt x="21117" y="1612"/>
                  <a:pt x="21084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125880"/>
            <a:ext cx="2367000" cy="482400"/>
          </a:xfrm>
          <a:custGeom>
            <a:avLst/>
            <a:gdLst/>
            <a:ahLst/>
            <a:rect l="l" t="t" r="r" b="b"/>
            <a:pathLst>
              <a:path w="6574" h="1340">
                <a:moveTo>
                  <a:pt x="8731" y="9748"/>
                </a:moveTo>
                <a:lnTo>
                  <a:pt x="8731" y="9748"/>
                </a:lnTo>
              </a:path>
              <a:path w="6574" h="1340">
                <a:moveTo>
                  <a:pt x="9227" y="10021"/>
                </a:moveTo>
                <a:lnTo>
                  <a:pt x="9227" y="10021"/>
                </a:lnTo>
              </a:path>
              <a:path w="6574" h="1340">
                <a:moveTo>
                  <a:pt x="11757" y="8682"/>
                </a:moveTo>
                <a:cubicBezTo>
                  <a:pt x="11828" y="8814"/>
                  <a:pt x="11868" y="8928"/>
                  <a:pt x="11881" y="9079"/>
                </a:cubicBezTo>
              </a:path>
              <a:path w="6574" h="1340">
                <a:moveTo>
                  <a:pt x="12179" y="9153"/>
                </a:moveTo>
                <a:lnTo>
                  <a:pt x="12179" y="9153"/>
                </a:lnTo>
              </a:path>
              <a:path w="6574" h="1340">
                <a:moveTo>
                  <a:pt x="15304" y="8806"/>
                </a:moveTo>
                <a:lnTo>
                  <a:pt x="15304" y="88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71880" y="3116160"/>
            <a:ext cx="714240" cy="642960"/>
          </a:xfrm>
          <a:custGeom>
            <a:avLst/>
            <a:gdLst/>
            <a:ahLst/>
            <a:rect l="l" t="t" r="r" b="b"/>
            <a:pathLst>
              <a:path w="1985" h="1787">
                <a:moveTo>
                  <a:pt x="8533" y="9624"/>
                </a:moveTo>
                <a:cubicBezTo>
                  <a:pt x="8588" y="9624"/>
                  <a:pt x="8666" y="9602"/>
                  <a:pt x="8682" y="9649"/>
                </a:cubicBezTo>
              </a:path>
              <a:path w="1985" h="1787">
                <a:moveTo>
                  <a:pt x="8533" y="9773"/>
                </a:moveTo>
                <a:cubicBezTo>
                  <a:pt x="8605" y="9755"/>
                  <a:pt x="8656" y="9748"/>
                  <a:pt x="8731" y="9748"/>
                </a:cubicBezTo>
              </a:path>
              <a:path w="1985" h="1787">
                <a:moveTo>
                  <a:pt x="10071" y="9426"/>
                </a:moveTo>
                <a:cubicBezTo>
                  <a:pt x="9996" y="9445"/>
                  <a:pt x="9910" y="9463"/>
                  <a:pt x="9823" y="9475"/>
                </a:cubicBezTo>
                <a:cubicBezTo>
                  <a:pt x="9768" y="9483"/>
                  <a:pt x="9777" y="9592"/>
                  <a:pt x="9773" y="9649"/>
                </a:cubicBezTo>
                <a:cubicBezTo>
                  <a:pt x="9773" y="9657"/>
                  <a:pt x="9773" y="9666"/>
                  <a:pt x="9773" y="9674"/>
                </a:cubicBezTo>
                <a:cubicBezTo>
                  <a:pt x="9850" y="9674"/>
                  <a:pt x="9985" y="9617"/>
                  <a:pt x="10046" y="9674"/>
                </a:cubicBezTo>
                <a:cubicBezTo>
                  <a:pt x="10186" y="9804"/>
                  <a:pt x="9977" y="9860"/>
                  <a:pt x="9897" y="9872"/>
                </a:cubicBezTo>
                <a:cubicBezTo>
                  <a:pt x="9852" y="9872"/>
                  <a:pt x="9839" y="9876"/>
                  <a:pt x="9823" y="9847"/>
                </a:cubicBezTo>
              </a:path>
              <a:path w="1985" h="1787">
                <a:moveTo>
                  <a:pt x="9649" y="9922"/>
                </a:moveTo>
                <a:cubicBezTo>
                  <a:pt x="9630" y="9790"/>
                  <a:pt x="9550" y="9659"/>
                  <a:pt x="9550" y="9525"/>
                </a:cubicBezTo>
                <a:cubicBezTo>
                  <a:pt x="9550" y="9486"/>
                  <a:pt x="9582" y="9354"/>
                  <a:pt x="9624" y="9351"/>
                </a:cubicBezTo>
                <a:cubicBezTo>
                  <a:pt x="9812" y="9337"/>
                  <a:pt x="10004" y="9321"/>
                  <a:pt x="10195" y="9302"/>
                </a:cubicBezTo>
                <a:cubicBezTo>
                  <a:pt x="10316" y="9290"/>
                  <a:pt x="10403" y="9277"/>
                  <a:pt x="10517" y="9277"/>
                </a:cubicBezTo>
              </a:path>
              <a:path w="1985" h="1787">
                <a:moveTo>
                  <a:pt x="9029" y="9550"/>
                </a:moveTo>
                <a:cubicBezTo>
                  <a:pt x="9010" y="9616"/>
                  <a:pt x="8968" y="9680"/>
                  <a:pt x="8954" y="9748"/>
                </a:cubicBezTo>
                <a:cubicBezTo>
                  <a:pt x="9045" y="9740"/>
                  <a:pt x="9151" y="9736"/>
                  <a:pt x="9227" y="9699"/>
                </a:cubicBezTo>
              </a:path>
              <a:path w="1985" h="1787">
                <a:moveTo>
                  <a:pt x="9153" y="9451"/>
                </a:moveTo>
                <a:cubicBezTo>
                  <a:pt x="9187" y="9617"/>
                  <a:pt x="9221" y="9777"/>
                  <a:pt x="9227" y="9947"/>
                </a:cubicBezTo>
                <a:cubicBezTo>
                  <a:pt x="9227" y="9988"/>
                  <a:pt x="9227" y="9996"/>
                  <a:pt x="9227" y="10021"/>
                </a:cubicBezTo>
              </a:path>
              <a:path w="1985" h="1787">
                <a:moveTo>
                  <a:pt x="9872" y="8682"/>
                </a:moveTo>
                <a:cubicBezTo>
                  <a:pt x="9872" y="8599"/>
                  <a:pt x="9864" y="8798"/>
                  <a:pt x="9872" y="8880"/>
                </a:cubicBezTo>
                <a:cubicBezTo>
                  <a:pt x="9881" y="8970"/>
                  <a:pt x="9908" y="9043"/>
                  <a:pt x="9922" y="9128"/>
                </a:cubicBezTo>
              </a:path>
              <a:path w="1985" h="1787">
                <a:moveTo>
                  <a:pt x="9773" y="10120"/>
                </a:moveTo>
                <a:cubicBezTo>
                  <a:pt x="9773" y="10190"/>
                  <a:pt x="9756" y="10250"/>
                  <a:pt x="9748" y="10319"/>
                </a:cubicBezTo>
                <a:cubicBezTo>
                  <a:pt x="9845" y="10305"/>
                  <a:pt x="9927" y="10278"/>
                  <a:pt x="10021" y="10244"/>
                </a:cubicBezTo>
              </a:path>
              <a:path w="1985" h="1787">
                <a:moveTo>
                  <a:pt x="9947" y="10071"/>
                </a:moveTo>
                <a:cubicBezTo>
                  <a:pt x="9947" y="10195"/>
                  <a:pt x="9947" y="10319"/>
                  <a:pt x="9947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4880" y="3286080"/>
            <a:ext cx="169920" cy="36720"/>
          </a:xfrm>
          <a:custGeom>
            <a:avLst/>
            <a:gdLst/>
            <a:ahLst/>
            <a:rect l="l" t="t" r="r" b="b"/>
            <a:pathLst>
              <a:path w="472" h="100">
                <a:moveTo>
                  <a:pt x="11708" y="9227"/>
                </a:moveTo>
                <a:cubicBezTo>
                  <a:pt x="11856" y="9193"/>
                  <a:pt x="12006" y="9158"/>
                  <a:pt x="12154" y="9128"/>
                </a:cubicBezTo>
                <a:cubicBezTo>
                  <a:pt x="12179" y="9128"/>
                  <a:pt x="12187" y="9128"/>
                  <a:pt x="12179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72080" y="3027240"/>
            <a:ext cx="142920" cy="11592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15478" y="8434"/>
                </a:moveTo>
                <a:cubicBezTo>
                  <a:pt x="15478" y="8525"/>
                  <a:pt x="15499" y="8614"/>
                  <a:pt x="15503" y="8706"/>
                </a:cubicBezTo>
                <a:cubicBezTo>
                  <a:pt x="15503" y="8739"/>
                  <a:pt x="15503" y="8739"/>
                  <a:pt x="15503" y="8682"/>
                </a:cubicBezTo>
              </a:path>
              <a:path w="398" h="323">
                <a:moveTo>
                  <a:pt x="15652" y="8409"/>
                </a:moveTo>
                <a:cubicBezTo>
                  <a:pt x="15737" y="8417"/>
                  <a:pt x="15834" y="8422"/>
                  <a:pt x="15776" y="8533"/>
                </a:cubicBezTo>
                <a:cubicBezTo>
                  <a:pt x="15732" y="8598"/>
                  <a:pt x="15726" y="8617"/>
                  <a:pt x="15677" y="8632"/>
                </a:cubicBezTo>
                <a:cubicBezTo>
                  <a:pt x="15765" y="8647"/>
                  <a:pt x="15792" y="8663"/>
                  <a:pt x="15875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41840" y="2955960"/>
            <a:ext cx="857160" cy="714240"/>
          </a:xfrm>
          <a:custGeom>
            <a:avLst/>
            <a:gdLst/>
            <a:ahLst/>
            <a:rect l="l" t="t" r="r" b="b"/>
            <a:pathLst>
              <a:path w="2382" h="1986">
                <a:moveTo>
                  <a:pt x="11683" y="9426"/>
                </a:moveTo>
                <a:cubicBezTo>
                  <a:pt x="11691" y="9443"/>
                  <a:pt x="11749" y="9583"/>
                  <a:pt x="11782" y="9575"/>
                </a:cubicBezTo>
                <a:cubicBezTo>
                  <a:pt x="11875" y="9528"/>
                  <a:pt x="11902" y="9515"/>
                  <a:pt x="11956" y="9475"/>
                </a:cubicBezTo>
              </a:path>
              <a:path w="2382" h="1986">
                <a:moveTo>
                  <a:pt x="11782" y="9327"/>
                </a:moveTo>
                <a:cubicBezTo>
                  <a:pt x="11801" y="9456"/>
                  <a:pt x="11827" y="9595"/>
                  <a:pt x="11857" y="9723"/>
                </a:cubicBezTo>
                <a:cubicBezTo>
                  <a:pt x="11878" y="9789"/>
                  <a:pt x="11886" y="9804"/>
                  <a:pt x="11881" y="9847"/>
                </a:cubicBezTo>
              </a:path>
              <a:path w="2382" h="1986">
                <a:moveTo>
                  <a:pt x="10864" y="10170"/>
                </a:moveTo>
                <a:cubicBezTo>
                  <a:pt x="11044" y="10190"/>
                  <a:pt x="11180" y="10189"/>
                  <a:pt x="11361" y="10170"/>
                </a:cubicBezTo>
                <a:cubicBezTo>
                  <a:pt x="11741" y="10130"/>
                  <a:pt x="12104" y="10092"/>
                  <a:pt x="12427" y="9872"/>
                </a:cubicBezTo>
                <a:cubicBezTo>
                  <a:pt x="12710" y="9679"/>
                  <a:pt x="12818" y="9415"/>
                  <a:pt x="12774" y="9079"/>
                </a:cubicBezTo>
                <a:cubicBezTo>
                  <a:pt x="12741" y="8826"/>
                  <a:pt x="12576" y="8534"/>
                  <a:pt x="12353" y="8409"/>
                </a:cubicBezTo>
                <a:cubicBezTo>
                  <a:pt x="12053" y="8241"/>
                  <a:pt x="11619" y="8181"/>
                  <a:pt x="11286" y="8235"/>
                </a:cubicBezTo>
                <a:cubicBezTo>
                  <a:pt x="10990" y="8283"/>
                  <a:pt x="10667" y="8437"/>
                  <a:pt x="10517" y="8706"/>
                </a:cubicBezTo>
                <a:cubicBezTo>
                  <a:pt x="10402" y="8911"/>
                  <a:pt x="10348" y="9319"/>
                  <a:pt x="10393" y="9550"/>
                </a:cubicBezTo>
                <a:cubicBezTo>
                  <a:pt x="10450" y="9847"/>
                  <a:pt x="10691" y="10007"/>
                  <a:pt x="10964" y="10071"/>
                </a:cubicBezTo>
                <a:cubicBezTo>
                  <a:pt x="10972" y="10071"/>
                  <a:pt x="10980" y="10071"/>
                  <a:pt x="10988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99040" y="3598920"/>
            <a:ext cx="27612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14412" y="9996"/>
                </a:moveTo>
                <a:cubicBezTo>
                  <a:pt x="14423" y="9996"/>
                  <a:pt x="14232" y="10053"/>
                  <a:pt x="14188" y="10120"/>
                </a:cubicBezTo>
                <a:cubicBezTo>
                  <a:pt x="14038" y="10347"/>
                  <a:pt x="14371" y="10289"/>
                  <a:pt x="14461" y="10244"/>
                </a:cubicBezTo>
                <a:cubicBezTo>
                  <a:pt x="14469" y="10236"/>
                  <a:pt x="14478" y="10228"/>
                  <a:pt x="14486" y="10220"/>
                </a:cubicBezTo>
                <a:cubicBezTo>
                  <a:pt x="14344" y="10349"/>
                  <a:pt x="14264" y="10421"/>
                  <a:pt x="14188" y="10592"/>
                </a:cubicBezTo>
                <a:cubicBezTo>
                  <a:pt x="14350" y="10683"/>
                  <a:pt x="14533" y="10652"/>
                  <a:pt x="14684" y="10492"/>
                </a:cubicBezTo>
                <a:cubicBezTo>
                  <a:pt x="14701" y="10459"/>
                  <a:pt x="14717" y="10426"/>
                  <a:pt x="14734" y="10393"/>
                </a:cubicBezTo>
              </a:path>
              <a:path w="770" h="671">
                <a:moveTo>
                  <a:pt x="14734" y="10195"/>
                </a:moveTo>
                <a:cubicBezTo>
                  <a:pt x="14799" y="10271"/>
                  <a:pt x="14861" y="10346"/>
                  <a:pt x="14932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12080" y="2741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977" y="7615"/>
                </a:moveTo>
                <a:lnTo>
                  <a:pt x="21977" y="761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16680" y="3813120"/>
            <a:ext cx="1277640" cy="527040"/>
          </a:xfrm>
          <a:custGeom>
            <a:avLst/>
            <a:gdLst/>
            <a:ahLst/>
            <a:rect l="l" t="t" r="r" b="b"/>
            <a:pathLst>
              <a:path w="3548" h="1464">
                <a:moveTo>
                  <a:pt x="14213" y="10864"/>
                </a:moveTo>
                <a:cubicBezTo>
                  <a:pt x="14483" y="10791"/>
                  <a:pt x="14756" y="10703"/>
                  <a:pt x="15032" y="10641"/>
                </a:cubicBezTo>
                <a:cubicBezTo>
                  <a:pt x="15142" y="10622"/>
                  <a:pt x="15164" y="10641"/>
                  <a:pt x="15205" y="10592"/>
                </a:cubicBezTo>
              </a:path>
              <a:path w="3548" h="1464">
                <a:moveTo>
                  <a:pt x="15329" y="11336"/>
                </a:moveTo>
                <a:cubicBezTo>
                  <a:pt x="15150" y="11245"/>
                  <a:pt x="15080" y="11344"/>
                  <a:pt x="15007" y="11534"/>
                </a:cubicBezTo>
                <a:cubicBezTo>
                  <a:pt x="14999" y="11575"/>
                  <a:pt x="14990" y="11617"/>
                  <a:pt x="14982" y="11658"/>
                </a:cubicBezTo>
                <a:cubicBezTo>
                  <a:pt x="15177" y="11704"/>
                  <a:pt x="15272" y="11656"/>
                  <a:pt x="15329" y="11435"/>
                </a:cubicBezTo>
                <a:cubicBezTo>
                  <a:pt x="15329" y="11418"/>
                  <a:pt x="15329" y="11402"/>
                  <a:pt x="15329" y="11385"/>
                </a:cubicBezTo>
                <a:cubicBezTo>
                  <a:pt x="15346" y="11533"/>
                  <a:pt x="15381" y="11587"/>
                  <a:pt x="15453" y="11708"/>
                </a:cubicBezTo>
              </a:path>
              <a:path w="3548" h="1464">
                <a:moveTo>
                  <a:pt x="14660" y="11956"/>
                </a:moveTo>
                <a:cubicBezTo>
                  <a:pt x="14916" y="12027"/>
                  <a:pt x="15115" y="12056"/>
                  <a:pt x="15379" y="11981"/>
                </a:cubicBezTo>
                <a:cubicBezTo>
                  <a:pt x="15611" y="11915"/>
                  <a:pt x="15968" y="11733"/>
                  <a:pt x="15949" y="11435"/>
                </a:cubicBezTo>
                <a:cubicBezTo>
                  <a:pt x="15930" y="11142"/>
                  <a:pt x="15511" y="11025"/>
                  <a:pt x="15280" y="11013"/>
                </a:cubicBezTo>
                <a:cubicBezTo>
                  <a:pt x="14912" y="10994"/>
                  <a:pt x="14669" y="11203"/>
                  <a:pt x="14585" y="11559"/>
                </a:cubicBezTo>
                <a:cubicBezTo>
                  <a:pt x="14488" y="11967"/>
                  <a:pt x="14756" y="11940"/>
                  <a:pt x="15032" y="12005"/>
                </a:cubicBezTo>
              </a:path>
              <a:path w="3548" h="1464">
                <a:moveTo>
                  <a:pt x="16495" y="10765"/>
                </a:moveTo>
                <a:cubicBezTo>
                  <a:pt x="16660" y="10724"/>
                  <a:pt x="16826" y="10669"/>
                  <a:pt x="16991" y="10641"/>
                </a:cubicBezTo>
                <a:cubicBezTo>
                  <a:pt x="16967" y="10811"/>
                  <a:pt x="16891" y="10966"/>
                  <a:pt x="16867" y="11137"/>
                </a:cubicBezTo>
                <a:cubicBezTo>
                  <a:pt x="16867" y="11195"/>
                  <a:pt x="16850" y="11220"/>
                  <a:pt x="16892" y="11212"/>
                </a:cubicBezTo>
              </a:path>
              <a:path w="3548" h="1464">
                <a:moveTo>
                  <a:pt x="16446" y="11485"/>
                </a:moveTo>
                <a:cubicBezTo>
                  <a:pt x="16785" y="11436"/>
                  <a:pt x="17108" y="11376"/>
                  <a:pt x="17438" y="11286"/>
                </a:cubicBezTo>
              </a:path>
              <a:path w="3548" h="1464">
                <a:moveTo>
                  <a:pt x="17239" y="11460"/>
                </a:moveTo>
                <a:cubicBezTo>
                  <a:pt x="17088" y="11498"/>
                  <a:pt x="16996" y="11565"/>
                  <a:pt x="16867" y="11658"/>
                </a:cubicBezTo>
                <a:cubicBezTo>
                  <a:pt x="16949" y="11740"/>
                  <a:pt x="17273" y="11816"/>
                  <a:pt x="17264" y="11956"/>
                </a:cubicBezTo>
                <a:cubicBezTo>
                  <a:pt x="17179" y="12041"/>
                  <a:pt x="17139" y="12068"/>
                  <a:pt x="17041" y="12055"/>
                </a:cubicBezTo>
                <a:cubicBezTo>
                  <a:pt x="17053" y="11825"/>
                  <a:pt x="17206" y="11765"/>
                  <a:pt x="17289" y="11559"/>
                </a:cubicBezTo>
                <a:cubicBezTo>
                  <a:pt x="17264" y="11559"/>
                  <a:pt x="17256" y="11559"/>
                  <a:pt x="17239" y="11559"/>
                </a:cubicBezTo>
              </a:path>
              <a:path w="3548" h="1464">
                <a:moveTo>
                  <a:pt x="17735" y="11187"/>
                </a:moveTo>
                <a:cubicBezTo>
                  <a:pt x="17757" y="11349"/>
                  <a:pt x="17778" y="11502"/>
                  <a:pt x="17735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70800" y="3500280"/>
            <a:ext cx="223560" cy="179640"/>
          </a:xfrm>
          <a:custGeom>
            <a:avLst/>
            <a:gdLst/>
            <a:ahLst/>
            <a:rect l="l" t="t" r="r" b="b"/>
            <a:pathLst>
              <a:path w="621" h="498">
                <a:moveTo>
                  <a:pt x="18529" y="9823"/>
                </a:moveTo>
                <a:cubicBezTo>
                  <a:pt x="18529" y="9955"/>
                  <a:pt x="18529" y="10088"/>
                  <a:pt x="18529" y="10220"/>
                </a:cubicBezTo>
              </a:path>
              <a:path w="621" h="498">
                <a:moveTo>
                  <a:pt x="18777" y="9773"/>
                </a:moveTo>
                <a:cubicBezTo>
                  <a:pt x="18877" y="9736"/>
                  <a:pt x="19044" y="9678"/>
                  <a:pt x="19124" y="9798"/>
                </a:cubicBezTo>
                <a:cubicBezTo>
                  <a:pt x="19213" y="9931"/>
                  <a:pt x="19045" y="10090"/>
                  <a:pt x="18926" y="10120"/>
                </a:cubicBezTo>
                <a:cubicBezTo>
                  <a:pt x="18810" y="10150"/>
                  <a:pt x="18822" y="10106"/>
                  <a:pt x="18777" y="10046"/>
                </a:cubicBezTo>
                <a:cubicBezTo>
                  <a:pt x="18802" y="10013"/>
                  <a:pt x="18912" y="9947"/>
                  <a:pt x="18976" y="9971"/>
                </a:cubicBezTo>
                <a:cubicBezTo>
                  <a:pt x="19058" y="10002"/>
                  <a:pt x="19091" y="10087"/>
                  <a:pt x="19149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91240" y="2517840"/>
            <a:ext cx="598680" cy="581040"/>
          </a:xfrm>
          <a:custGeom>
            <a:avLst/>
            <a:gdLst/>
            <a:ahLst/>
            <a:rect l="l" t="t" r="r" b="b"/>
            <a:pathLst>
              <a:path w="1663" h="1613">
                <a:moveTo>
                  <a:pt x="21059" y="7491"/>
                </a:moveTo>
                <a:cubicBezTo>
                  <a:pt x="21059" y="7348"/>
                  <a:pt x="21104" y="7723"/>
                  <a:pt x="21134" y="7863"/>
                </a:cubicBezTo>
                <a:cubicBezTo>
                  <a:pt x="21170" y="8033"/>
                  <a:pt x="21199" y="8186"/>
                  <a:pt x="21208" y="8359"/>
                </a:cubicBezTo>
              </a:path>
              <a:path w="1663" h="1613">
                <a:moveTo>
                  <a:pt x="21506" y="7268"/>
                </a:moveTo>
                <a:cubicBezTo>
                  <a:pt x="21579" y="7253"/>
                  <a:pt x="21685" y="7189"/>
                  <a:pt x="21754" y="7193"/>
                </a:cubicBezTo>
                <a:cubicBezTo>
                  <a:pt x="21762" y="7201"/>
                  <a:pt x="21771" y="7210"/>
                  <a:pt x="21779" y="7218"/>
                </a:cubicBezTo>
                <a:cubicBezTo>
                  <a:pt x="21766" y="7310"/>
                  <a:pt x="21729" y="7398"/>
                  <a:pt x="21729" y="7491"/>
                </a:cubicBezTo>
              </a:path>
              <a:path w="1663" h="1613">
                <a:moveTo>
                  <a:pt x="21580" y="7714"/>
                </a:moveTo>
                <a:cubicBezTo>
                  <a:pt x="21708" y="7691"/>
                  <a:pt x="21821" y="7629"/>
                  <a:pt x="21952" y="7615"/>
                </a:cubicBezTo>
                <a:cubicBezTo>
                  <a:pt x="21960" y="7615"/>
                  <a:pt x="21969" y="7615"/>
                  <a:pt x="21977" y="7615"/>
                </a:cubicBezTo>
              </a:path>
              <a:path w="1663" h="1613">
                <a:moveTo>
                  <a:pt x="21605" y="7888"/>
                </a:moveTo>
                <a:cubicBezTo>
                  <a:pt x="21619" y="8010"/>
                  <a:pt x="21616" y="8087"/>
                  <a:pt x="21580" y="8210"/>
                </a:cubicBezTo>
              </a:path>
              <a:path w="1663" h="1613">
                <a:moveTo>
                  <a:pt x="21977" y="7789"/>
                </a:moveTo>
                <a:cubicBezTo>
                  <a:pt x="21878" y="7805"/>
                  <a:pt x="21864" y="7807"/>
                  <a:pt x="21803" y="7888"/>
                </a:cubicBezTo>
                <a:cubicBezTo>
                  <a:pt x="21803" y="7987"/>
                  <a:pt x="21836" y="7953"/>
                  <a:pt x="21903" y="8012"/>
                </a:cubicBezTo>
                <a:cubicBezTo>
                  <a:pt x="21974" y="8075"/>
                  <a:pt x="21972" y="8083"/>
                  <a:pt x="21952" y="8161"/>
                </a:cubicBezTo>
                <a:cubicBezTo>
                  <a:pt x="21866" y="8161"/>
                  <a:pt x="21837" y="8139"/>
                  <a:pt x="21853" y="8037"/>
                </a:cubicBezTo>
                <a:cubicBezTo>
                  <a:pt x="21867" y="7945"/>
                  <a:pt x="21945" y="7891"/>
                  <a:pt x="21977" y="7813"/>
                </a:cubicBezTo>
                <a:cubicBezTo>
                  <a:pt x="21977" y="7789"/>
                  <a:pt x="21977" y="7781"/>
                  <a:pt x="21952" y="7789"/>
                </a:cubicBezTo>
              </a:path>
              <a:path w="1663" h="1613">
                <a:moveTo>
                  <a:pt x="22299" y="7218"/>
                </a:moveTo>
                <a:cubicBezTo>
                  <a:pt x="22264" y="7174"/>
                  <a:pt x="22276" y="7158"/>
                  <a:pt x="22200" y="7119"/>
                </a:cubicBezTo>
                <a:cubicBezTo>
                  <a:pt x="22108" y="7072"/>
                  <a:pt x="22018" y="7049"/>
                  <a:pt x="21927" y="7020"/>
                </a:cubicBezTo>
                <a:cubicBezTo>
                  <a:pt x="21836" y="6991"/>
                  <a:pt x="21752" y="6995"/>
                  <a:pt x="21654" y="6995"/>
                </a:cubicBezTo>
                <a:cubicBezTo>
                  <a:pt x="21532" y="6995"/>
                  <a:pt x="21447" y="7002"/>
                  <a:pt x="21332" y="7045"/>
                </a:cubicBezTo>
                <a:cubicBezTo>
                  <a:pt x="21180" y="7102"/>
                  <a:pt x="21041" y="7195"/>
                  <a:pt x="20960" y="7342"/>
                </a:cubicBezTo>
                <a:cubicBezTo>
                  <a:pt x="20875" y="7496"/>
                  <a:pt x="20819" y="7691"/>
                  <a:pt x="20811" y="7863"/>
                </a:cubicBezTo>
                <a:cubicBezTo>
                  <a:pt x="20802" y="8066"/>
                  <a:pt x="20859" y="8317"/>
                  <a:pt x="21010" y="8458"/>
                </a:cubicBezTo>
                <a:cubicBezTo>
                  <a:pt x="21121" y="8562"/>
                  <a:pt x="21330" y="8629"/>
                  <a:pt x="21481" y="8607"/>
                </a:cubicBezTo>
                <a:cubicBezTo>
                  <a:pt x="21685" y="8577"/>
                  <a:pt x="21867" y="8496"/>
                  <a:pt x="22051" y="8409"/>
                </a:cubicBezTo>
                <a:cubicBezTo>
                  <a:pt x="22161" y="8357"/>
                  <a:pt x="22237" y="8318"/>
                  <a:pt x="22324" y="8235"/>
                </a:cubicBezTo>
                <a:cubicBezTo>
                  <a:pt x="22431" y="8133"/>
                  <a:pt x="22465" y="8006"/>
                  <a:pt x="22473" y="7863"/>
                </a:cubicBezTo>
                <a:cubicBezTo>
                  <a:pt x="22479" y="7742"/>
                  <a:pt x="22451" y="7578"/>
                  <a:pt x="22399" y="7466"/>
                </a:cubicBezTo>
                <a:cubicBezTo>
                  <a:pt x="22354" y="7371"/>
                  <a:pt x="22297" y="7336"/>
                  <a:pt x="22225" y="7268"/>
                </a:cubicBezTo>
                <a:cubicBezTo>
                  <a:pt x="22213" y="7257"/>
                  <a:pt x="22096" y="7142"/>
                  <a:pt x="22076" y="7144"/>
                </a:cubicBezTo>
                <a:cubicBezTo>
                  <a:pt x="22023" y="7144"/>
                  <a:pt x="21989" y="7157"/>
                  <a:pt x="21952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3857760"/>
            <a:ext cx="2633760" cy="285480"/>
          </a:xfrm>
          <a:custGeom>
            <a:avLst/>
            <a:gdLst/>
            <a:ahLst/>
            <a:rect l="l" t="t" r="r" b="b"/>
            <a:pathLst>
              <a:path w="7319" h="794">
                <a:moveTo>
                  <a:pt x="17611" y="11509"/>
                </a:moveTo>
                <a:cubicBezTo>
                  <a:pt x="17749" y="11454"/>
                  <a:pt x="17893" y="11400"/>
                  <a:pt x="18033" y="11361"/>
                </a:cubicBezTo>
              </a:path>
              <a:path w="7319" h="794">
                <a:moveTo>
                  <a:pt x="18926" y="10815"/>
                </a:moveTo>
                <a:lnTo>
                  <a:pt x="18926" y="10815"/>
                </a:lnTo>
              </a:path>
              <a:path w="7319" h="794">
                <a:moveTo>
                  <a:pt x="19372" y="10815"/>
                </a:moveTo>
                <a:lnTo>
                  <a:pt x="19372" y="10815"/>
                </a:lnTo>
              </a:path>
              <a:path w="7319" h="794">
                <a:moveTo>
                  <a:pt x="23713" y="11063"/>
                </a:moveTo>
                <a:cubicBezTo>
                  <a:pt x="23765" y="11063"/>
                  <a:pt x="23783" y="11062"/>
                  <a:pt x="23812" y="11038"/>
                </a:cubicBezTo>
              </a:path>
              <a:path w="7319" h="794">
                <a:moveTo>
                  <a:pt x="23812" y="11038"/>
                </a:moveTo>
                <a:lnTo>
                  <a:pt x="23812" y="11038"/>
                </a:lnTo>
              </a:path>
              <a:path w="7319" h="794">
                <a:moveTo>
                  <a:pt x="24929" y="10716"/>
                </a:moveTo>
                <a:lnTo>
                  <a:pt x="24929" y="107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1880" y="3571920"/>
            <a:ext cx="2527200" cy="992160"/>
          </a:xfrm>
          <a:custGeom>
            <a:avLst/>
            <a:gdLst/>
            <a:ahLst/>
            <a:rect l="l" t="t" r="r" b="b"/>
            <a:pathLst>
              <a:path w="7021" h="2754">
                <a:moveTo>
                  <a:pt x="18355" y="10616"/>
                </a:moveTo>
                <a:cubicBezTo>
                  <a:pt x="18472" y="10594"/>
                  <a:pt x="18585" y="10526"/>
                  <a:pt x="18703" y="10492"/>
                </a:cubicBezTo>
                <a:cubicBezTo>
                  <a:pt x="18716" y="10633"/>
                  <a:pt x="18648" y="10786"/>
                  <a:pt x="18504" y="10864"/>
                </a:cubicBezTo>
                <a:cubicBezTo>
                  <a:pt x="18504" y="10840"/>
                  <a:pt x="18504" y="10831"/>
                  <a:pt x="18504" y="10815"/>
                </a:cubicBezTo>
                <a:cubicBezTo>
                  <a:pt x="18619" y="10815"/>
                  <a:pt x="18893" y="10797"/>
                  <a:pt x="18802" y="11013"/>
                </a:cubicBezTo>
                <a:cubicBezTo>
                  <a:pt x="18727" y="11191"/>
                  <a:pt x="18522" y="11162"/>
                  <a:pt x="18380" y="11162"/>
                </a:cubicBezTo>
              </a:path>
              <a:path w="7021" h="2754">
                <a:moveTo>
                  <a:pt x="18281" y="11460"/>
                </a:moveTo>
                <a:cubicBezTo>
                  <a:pt x="18551" y="11361"/>
                  <a:pt x="18819" y="11300"/>
                  <a:pt x="19100" y="11237"/>
                </a:cubicBezTo>
              </a:path>
              <a:path w="7021" h="2754">
                <a:moveTo>
                  <a:pt x="18529" y="11534"/>
                </a:moveTo>
                <a:cubicBezTo>
                  <a:pt x="18566" y="11474"/>
                  <a:pt x="18608" y="11464"/>
                  <a:pt x="18678" y="11435"/>
                </a:cubicBezTo>
                <a:cubicBezTo>
                  <a:pt x="18813" y="11502"/>
                  <a:pt x="18661" y="11703"/>
                  <a:pt x="18604" y="11782"/>
                </a:cubicBezTo>
                <a:cubicBezTo>
                  <a:pt x="18556" y="11848"/>
                  <a:pt x="18417" y="12005"/>
                  <a:pt x="18380" y="12005"/>
                </a:cubicBezTo>
                <a:cubicBezTo>
                  <a:pt x="18536" y="11937"/>
                  <a:pt x="18684" y="11912"/>
                  <a:pt x="18852" y="11881"/>
                </a:cubicBezTo>
                <a:cubicBezTo>
                  <a:pt x="18930" y="11867"/>
                  <a:pt x="18960" y="11857"/>
                  <a:pt x="19025" y="11857"/>
                </a:cubicBezTo>
              </a:path>
              <a:path w="7021" h="2754">
                <a:moveTo>
                  <a:pt x="18976" y="11435"/>
                </a:moveTo>
                <a:cubicBezTo>
                  <a:pt x="19026" y="11461"/>
                  <a:pt x="19055" y="11534"/>
                  <a:pt x="19100" y="11584"/>
                </a:cubicBezTo>
                <a:cubicBezTo>
                  <a:pt x="19122" y="11606"/>
                  <a:pt x="19130" y="11611"/>
                  <a:pt x="19124" y="11633"/>
                </a:cubicBezTo>
              </a:path>
              <a:path w="7021" h="2754">
                <a:moveTo>
                  <a:pt x="19124" y="11410"/>
                </a:moveTo>
                <a:cubicBezTo>
                  <a:pt x="19112" y="11474"/>
                  <a:pt x="19069" y="11522"/>
                  <a:pt x="19050" y="11584"/>
                </a:cubicBezTo>
                <a:cubicBezTo>
                  <a:pt x="19050" y="11609"/>
                  <a:pt x="19050" y="11617"/>
                  <a:pt x="19050" y="11633"/>
                </a:cubicBezTo>
              </a:path>
              <a:path w="7021" h="2754">
                <a:moveTo>
                  <a:pt x="19273" y="11410"/>
                </a:moveTo>
                <a:cubicBezTo>
                  <a:pt x="19303" y="11460"/>
                  <a:pt x="19298" y="11497"/>
                  <a:pt x="19298" y="11559"/>
                </a:cubicBezTo>
                <a:cubicBezTo>
                  <a:pt x="19350" y="11559"/>
                  <a:pt x="19408" y="11577"/>
                  <a:pt x="19422" y="11534"/>
                </a:cubicBezTo>
              </a:path>
              <a:path w="7021" h="2754">
                <a:moveTo>
                  <a:pt x="19422" y="11336"/>
                </a:moveTo>
                <a:cubicBezTo>
                  <a:pt x="19380" y="11350"/>
                  <a:pt x="19389" y="11434"/>
                  <a:pt x="19397" y="11485"/>
                </a:cubicBezTo>
                <a:cubicBezTo>
                  <a:pt x="19409" y="11558"/>
                  <a:pt x="19430" y="11652"/>
                  <a:pt x="19472" y="11708"/>
                </a:cubicBezTo>
              </a:path>
              <a:path w="7021" h="2754">
                <a:moveTo>
                  <a:pt x="18901" y="10592"/>
                </a:moveTo>
                <a:cubicBezTo>
                  <a:pt x="18911" y="10640"/>
                  <a:pt x="18940" y="10673"/>
                  <a:pt x="18951" y="10716"/>
                </a:cubicBezTo>
              </a:path>
              <a:path w="7021" h="2754">
                <a:moveTo>
                  <a:pt x="18976" y="10567"/>
                </a:moveTo>
                <a:cubicBezTo>
                  <a:pt x="18963" y="10632"/>
                  <a:pt x="18897" y="10729"/>
                  <a:pt x="18901" y="10790"/>
                </a:cubicBezTo>
                <a:cubicBezTo>
                  <a:pt x="18909" y="10798"/>
                  <a:pt x="18918" y="10807"/>
                  <a:pt x="18926" y="10815"/>
                </a:cubicBezTo>
              </a:path>
              <a:path w="7021" h="2754">
                <a:moveTo>
                  <a:pt x="19323" y="12105"/>
                </a:moveTo>
                <a:cubicBezTo>
                  <a:pt x="19393" y="12105"/>
                  <a:pt x="19243" y="12073"/>
                  <a:pt x="19174" y="12080"/>
                </a:cubicBezTo>
                <a:cubicBezTo>
                  <a:pt x="19028" y="12094"/>
                  <a:pt x="18926" y="12159"/>
                  <a:pt x="18852" y="12278"/>
                </a:cubicBezTo>
                <a:cubicBezTo>
                  <a:pt x="18994" y="12380"/>
                  <a:pt x="19176" y="12376"/>
                  <a:pt x="19323" y="12477"/>
                </a:cubicBezTo>
                <a:cubicBezTo>
                  <a:pt x="19452" y="12566"/>
                  <a:pt x="19209" y="12683"/>
                  <a:pt x="19149" y="12675"/>
                </a:cubicBezTo>
                <a:cubicBezTo>
                  <a:pt x="19116" y="12659"/>
                  <a:pt x="19083" y="12642"/>
                  <a:pt x="19050" y="12626"/>
                </a:cubicBezTo>
                <a:cubicBezTo>
                  <a:pt x="19038" y="12411"/>
                  <a:pt x="19115" y="12352"/>
                  <a:pt x="19224" y="12179"/>
                </a:cubicBezTo>
                <a:cubicBezTo>
                  <a:pt x="19224" y="12154"/>
                  <a:pt x="19224" y="12146"/>
                  <a:pt x="19224" y="12129"/>
                </a:cubicBezTo>
              </a:path>
              <a:path w="7021" h="2754">
                <a:moveTo>
                  <a:pt x="19819" y="11112"/>
                </a:moveTo>
                <a:cubicBezTo>
                  <a:pt x="19833" y="11073"/>
                  <a:pt x="19938" y="11049"/>
                  <a:pt x="19993" y="11038"/>
                </a:cubicBezTo>
                <a:cubicBezTo>
                  <a:pt x="20009" y="11038"/>
                  <a:pt x="20026" y="11038"/>
                  <a:pt x="20042" y="11038"/>
                </a:cubicBezTo>
              </a:path>
              <a:path w="7021" h="2754">
                <a:moveTo>
                  <a:pt x="19794" y="11361"/>
                </a:moveTo>
                <a:cubicBezTo>
                  <a:pt x="19860" y="11361"/>
                  <a:pt x="19927" y="11361"/>
                  <a:pt x="19993" y="11361"/>
                </a:cubicBezTo>
              </a:path>
              <a:path w="7021" h="2754">
                <a:moveTo>
                  <a:pt x="20613" y="10443"/>
                </a:moveTo>
                <a:cubicBezTo>
                  <a:pt x="20621" y="10435"/>
                  <a:pt x="20630" y="10426"/>
                  <a:pt x="20638" y="10418"/>
                </a:cubicBezTo>
                <a:cubicBezTo>
                  <a:pt x="20688" y="10487"/>
                  <a:pt x="20690" y="10709"/>
                  <a:pt x="20687" y="10790"/>
                </a:cubicBezTo>
                <a:cubicBezTo>
                  <a:pt x="20665" y="10897"/>
                  <a:pt x="20657" y="10921"/>
                  <a:pt x="20662" y="10988"/>
                </a:cubicBezTo>
              </a:path>
              <a:path w="7021" h="2754">
                <a:moveTo>
                  <a:pt x="21431" y="10517"/>
                </a:moveTo>
                <a:cubicBezTo>
                  <a:pt x="21452" y="10469"/>
                  <a:pt x="21471" y="10379"/>
                  <a:pt x="21406" y="10344"/>
                </a:cubicBezTo>
                <a:cubicBezTo>
                  <a:pt x="21245" y="10257"/>
                  <a:pt x="21072" y="10399"/>
                  <a:pt x="20985" y="10517"/>
                </a:cubicBezTo>
                <a:cubicBezTo>
                  <a:pt x="20968" y="10550"/>
                  <a:pt x="20952" y="10583"/>
                  <a:pt x="20935" y="10616"/>
                </a:cubicBezTo>
                <a:cubicBezTo>
                  <a:pt x="21051" y="10711"/>
                  <a:pt x="21174" y="10720"/>
                  <a:pt x="21307" y="10592"/>
                </a:cubicBezTo>
                <a:cubicBezTo>
                  <a:pt x="21366" y="10536"/>
                  <a:pt x="21357" y="10509"/>
                  <a:pt x="21357" y="10443"/>
                </a:cubicBezTo>
                <a:cubicBezTo>
                  <a:pt x="21357" y="10600"/>
                  <a:pt x="21357" y="10757"/>
                  <a:pt x="21357" y="10914"/>
                </a:cubicBezTo>
              </a:path>
              <a:path w="7021" h="2754">
                <a:moveTo>
                  <a:pt x="20439" y="11112"/>
                </a:moveTo>
                <a:cubicBezTo>
                  <a:pt x="20620" y="11112"/>
                  <a:pt x="20805" y="11079"/>
                  <a:pt x="20985" y="11063"/>
                </a:cubicBezTo>
                <a:cubicBezTo>
                  <a:pt x="21176" y="11046"/>
                  <a:pt x="21370" y="11046"/>
                  <a:pt x="21555" y="11013"/>
                </a:cubicBezTo>
              </a:path>
              <a:path w="7021" h="2754">
                <a:moveTo>
                  <a:pt x="21084" y="11311"/>
                </a:moveTo>
                <a:cubicBezTo>
                  <a:pt x="20927" y="11282"/>
                  <a:pt x="20819" y="11339"/>
                  <a:pt x="20687" y="11435"/>
                </a:cubicBezTo>
                <a:cubicBezTo>
                  <a:pt x="20679" y="11443"/>
                  <a:pt x="20670" y="11452"/>
                  <a:pt x="20662" y="11460"/>
                </a:cubicBezTo>
                <a:cubicBezTo>
                  <a:pt x="20789" y="11561"/>
                  <a:pt x="20914" y="11622"/>
                  <a:pt x="21010" y="11757"/>
                </a:cubicBezTo>
                <a:cubicBezTo>
                  <a:pt x="20966" y="11779"/>
                  <a:pt x="20687" y="11913"/>
                  <a:pt x="20687" y="11807"/>
                </a:cubicBezTo>
                <a:cubicBezTo>
                  <a:pt x="20687" y="11666"/>
                  <a:pt x="20841" y="11548"/>
                  <a:pt x="20910" y="11435"/>
                </a:cubicBezTo>
                <a:cubicBezTo>
                  <a:pt x="20941" y="11384"/>
                  <a:pt x="20951" y="11374"/>
                  <a:pt x="20910" y="11361"/>
                </a:cubicBezTo>
              </a:path>
              <a:path w="7021" h="2754">
                <a:moveTo>
                  <a:pt x="22895" y="10815"/>
                </a:moveTo>
                <a:cubicBezTo>
                  <a:pt x="22873" y="10914"/>
                  <a:pt x="22895" y="11067"/>
                  <a:pt x="22895" y="11187"/>
                </a:cubicBezTo>
                <a:cubicBezTo>
                  <a:pt x="22895" y="11231"/>
                  <a:pt x="22928" y="11147"/>
                  <a:pt x="22969" y="11088"/>
                </a:cubicBezTo>
              </a:path>
              <a:path w="7021" h="2754">
                <a:moveTo>
                  <a:pt x="23341" y="10716"/>
                </a:moveTo>
                <a:cubicBezTo>
                  <a:pt x="23225" y="10696"/>
                  <a:pt x="23099" y="10704"/>
                  <a:pt x="23093" y="10864"/>
                </a:cubicBezTo>
                <a:cubicBezTo>
                  <a:pt x="23087" y="11021"/>
                  <a:pt x="23317" y="10839"/>
                  <a:pt x="23341" y="10815"/>
                </a:cubicBezTo>
                <a:cubicBezTo>
                  <a:pt x="23341" y="10807"/>
                  <a:pt x="23341" y="10798"/>
                  <a:pt x="23341" y="10790"/>
                </a:cubicBezTo>
                <a:cubicBezTo>
                  <a:pt x="23341" y="10891"/>
                  <a:pt x="23364" y="11019"/>
                  <a:pt x="23316" y="11112"/>
                </a:cubicBezTo>
                <a:cubicBezTo>
                  <a:pt x="23291" y="11137"/>
                  <a:pt x="23267" y="11162"/>
                  <a:pt x="23242" y="11187"/>
                </a:cubicBezTo>
              </a:path>
              <a:path w="7021" h="2754">
                <a:moveTo>
                  <a:pt x="22622" y="11435"/>
                </a:moveTo>
                <a:cubicBezTo>
                  <a:pt x="22622" y="11296"/>
                  <a:pt x="22616" y="11198"/>
                  <a:pt x="22572" y="11063"/>
                </a:cubicBezTo>
                <a:cubicBezTo>
                  <a:pt x="22554" y="11007"/>
                  <a:pt x="22419" y="10809"/>
                  <a:pt x="22473" y="10740"/>
                </a:cubicBezTo>
                <a:cubicBezTo>
                  <a:pt x="22510" y="10693"/>
                  <a:pt x="22705" y="10672"/>
                  <a:pt x="22746" y="10666"/>
                </a:cubicBezTo>
                <a:cubicBezTo>
                  <a:pt x="23077" y="10620"/>
                  <a:pt x="23406" y="10559"/>
                  <a:pt x="23738" y="10517"/>
                </a:cubicBezTo>
                <a:cubicBezTo>
                  <a:pt x="23746" y="10517"/>
                  <a:pt x="23755" y="10517"/>
                  <a:pt x="23763" y="10517"/>
                </a:cubicBezTo>
              </a:path>
              <a:path w="7021" h="2754">
                <a:moveTo>
                  <a:pt x="22200" y="10964"/>
                </a:moveTo>
                <a:cubicBezTo>
                  <a:pt x="22225" y="10888"/>
                  <a:pt x="22071" y="10969"/>
                  <a:pt x="22027" y="11013"/>
                </a:cubicBezTo>
                <a:cubicBezTo>
                  <a:pt x="22019" y="11030"/>
                  <a:pt x="22010" y="11046"/>
                  <a:pt x="22002" y="11063"/>
                </a:cubicBezTo>
                <a:cubicBezTo>
                  <a:pt x="22159" y="11145"/>
                  <a:pt x="22225" y="11175"/>
                  <a:pt x="22324" y="11311"/>
                </a:cubicBezTo>
                <a:cubicBezTo>
                  <a:pt x="22251" y="11358"/>
                  <a:pt x="21990" y="11466"/>
                  <a:pt x="22076" y="11261"/>
                </a:cubicBezTo>
                <a:cubicBezTo>
                  <a:pt x="22110" y="11179"/>
                  <a:pt x="22236" y="11095"/>
                  <a:pt x="22175" y="11013"/>
                </a:cubicBezTo>
              </a:path>
              <a:path w="7021" h="2754">
                <a:moveTo>
                  <a:pt x="23168" y="10170"/>
                </a:moveTo>
                <a:cubicBezTo>
                  <a:pt x="23196" y="10170"/>
                  <a:pt x="23161" y="10171"/>
                  <a:pt x="23217" y="10145"/>
                </a:cubicBezTo>
                <a:cubicBezTo>
                  <a:pt x="23300" y="10104"/>
                  <a:pt x="23316" y="10096"/>
                  <a:pt x="23366" y="10071"/>
                </a:cubicBezTo>
                <a:cubicBezTo>
                  <a:pt x="23442" y="10223"/>
                  <a:pt x="23485" y="10375"/>
                  <a:pt x="23267" y="10443"/>
                </a:cubicBezTo>
                <a:cubicBezTo>
                  <a:pt x="23180" y="10470"/>
                  <a:pt x="23122" y="10452"/>
                  <a:pt x="23093" y="10393"/>
                </a:cubicBezTo>
                <a:cubicBezTo>
                  <a:pt x="23186" y="10301"/>
                  <a:pt x="23274" y="10334"/>
                  <a:pt x="23391" y="10344"/>
                </a:cubicBezTo>
                <a:cubicBezTo>
                  <a:pt x="23430" y="10347"/>
                  <a:pt x="23457" y="10394"/>
                  <a:pt x="23465" y="10418"/>
                </a:cubicBezTo>
              </a:path>
              <a:path w="7021" h="2754">
                <a:moveTo>
                  <a:pt x="23019" y="11336"/>
                </a:moveTo>
                <a:cubicBezTo>
                  <a:pt x="23019" y="11404"/>
                  <a:pt x="23009" y="11674"/>
                  <a:pt x="23019" y="11658"/>
                </a:cubicBezTo>
                <a:cubicBezTo>
                  <a:pt x="23035" y="11633"/>
                  <a:pt x="23052" y="11609"/>
                  <a:pt x="23068" y="11584"/>
                </a:cubicBezTo>
              </a:path>
              <a:path w="7021" h="2754">
                <a:moveTo>
                  <a:pt x="23217" y="11311"/>
                </a:moveTo>
                <a:cubicBezTo>
                  <a:pt x="23217" y="11406"/>
                  <a:pt x="23163" y="11578"/>
                  <a:pt x="23217" y="11658"/>
                </a:cubicBezTo>
                <a:cubicBezTo>
                  <a:pt x="23280" y="11752"/>
                  <a:pt x="23479" y="11624"/>
                  <a:pt x="23515" y="11559"/>
                </a:cubicBezTo>
                <a:cubicBezTo>
                  <a:pt x="23515" y="11542"/>
                  <a:pt x="23515" y="11526"/>
                  <a:pt x="23515" y="11509"/>
                </a:cubicBezTo>
                <a:cubicBezTo>
                  <a:pt x="23429" y="11459"/>
                  <a:pt x="23394" y="11502"/>
                  <a:pt x="23341" y="11584"/>
                </a:cubicBezTo>
                <a:cubicBezTo>
                  <a:pt x="23321" y="11624"/>
                  <a:pt x="23302" y="11640"/>
                  <a:pt x="23341" y="11633"/>
                </a:cubicBezTo>
              </a:path>
              <a:path w="7021" h="2754">
                <a:moveTo>
                  <a:pt x="22671" y="11633"/>
                </a:moveTo>
                <a:cubicBezTo>
                  <a:pt x="22724" y="11627"/>
                  <a:pt x="22766" y="11609"/>
                  <a:pt x="22820" y="11609"/>
                </a:cubicBezTo>
              </a:path>
              <a:path w="7021" h="2754">
                <a:moveTo>
                  <a:pt x="22721" y="11881"/>
                </a:moveTo>
                <a:cubicBezTo>
                  <a:pt x="22886" y="11861"/>
                  <a:pt x="23053" y="11833"/>
                  <a:pt x="23217" y="11807"/>
                </a:cubicBezTo>
                <a:cubicBezTo>
                  <a:pt x="23316" y="11792"/>
                  <a:pt x="23416" y="11769"/>
                  <a:pt x="23515" y="11757"/>
                </a:cubicBezTo>
              </a:path>
              <a:path w="7021" h="2754">
                <a:moveTo>
                  <a:pt x="23267" y="12005"/>
                </a:moveTo>
                <a:cubicBezTo>
                  <a:pt x="23306" y="11998"/>
                  <a:pt x="23407" y="11934"/>
                  <a:pt x="23440" y="11956"/>
                </a:cubicBezTo>
                <a:cubicBezTo>
                  <a:pt x="23526" y="12015"/>
                  <a:pt x="23296" y="12126"/>
                  <a:pt x="23292" y="12129"/>
                </a:cubicBezTo>
                <a:cubicBezTo>
                  <a:pt x="23267" y="12129"/>
                  <a:pt x="23259" y="12129"/>
                  <a:pt x="23267" y="12154"/>
                </a:cubicBezTo>
                <a:cubicBezTo>
                  <a:pt x="23318" y="12116"/>
                  <a:pt x="23408" y="12108"/>
                  <a:pt x="23465" y="12179"/>
                </a:cubicBezTo>
                <a:cubicBezTo>
                  <a:pt x="23473" y="12196"/>
                  <a:pt x="23482" y="12212"/>
                  <a:pt x="23490" y="12229"/>
                </a:cubicBezTo>
                <a:cubicBezTo>
                  <a:pt x="23450" y="12252"/>
                  <a:pt x="23178" y="12414"/>
                  <a:pt x="23143" y="12328"/>
                </a:cubicBezTo>
                <a:cubicBezTo>
                  <a:pt x="23143" y="12295"/>
                  <a:pt x="23143" y="12262"/>
                  <a:pt x="23143" y="12229"/>
                </a:cubicBezTo>
              </a:path>
              <a:path w="7021" h="2754">
                <a:moveTo>
                  <a:pt x="23713" y="10889"/>
                </a:moveTo>
                <a:cubicBezTo>
                  <a:pt x="23776" y="10868"/>
                  <a:pt x="23819" y="10864"/>
                  <a:pt x="23887" y="10864"/>
                </a:cubicBezTo>
              </a:path>
              <a:path w="7021" h="2754">
                <a:moveTo>
                  <a:pt x="24011" y="10666"/>
                </a:moveTo>
                <a:cubicBezTo>
                  <a:pt x="24029" y="10630"/>
                  <a:pt x="24074" y="10585"/>
                  <a:pt x="24110" y="10567"/>
                </a:cubicBezTo>
                <a:cubicBezTo>
                  <a:pt x="24167" y="10539"/>
                  <a:pt x="24226" y="10518"/>
                  <a:pt x="24284" y="10492"/>
                </a:cubicBezTo>
                <a:cubicBezTo>
                  <a:pt x="24309" y="10665"/>
                  <a:pt x="24287" y="10724"/>
                  <a:pt x="24209" y="10889"/>
                </a:cubicBezTo>
                <a:cubicBezTo>
                  <a:pt x="24158" y="10997"/>
                  <a:pt x="24006" y="11239"/>
                  <a:pt x="24011" y="11361"/>
                </a:cubicBezTo>
                <a:cubicBezTo>
                  <a:pt x="24015" y="11460"/>
                  <a:pt x="24087" y="11122"/>
                  <a:pt x="24185" y="11137"/>
                </a:cubicBezTo>
                <a:cubicBezTo>
                  <a:pt x="24276" y="11151"/>
                  <a:pt x="24344" y="11189"/>
                  <a:pt x="24433" y="11137"/>
                </a:cubicBezTo>
                <a:cubicBezTo>
                  <a:pt x="24441" y="11129"/>
                  <a:pt x="24449" y="11120"/>
                  <a:pt x="24457" y="11112"/>
                </a:cubicBezTo>
              </a:path>
              <a:path w="7021" h="2754">
                <a:moveTo>
                  <a:pt x="24681" y="10220"/>
                </a:moveTo>
                <a:cubicBezTo>
                  <a:pt x="24742" y="10211"/>
                  <a:pt x="24847" y="10147"/>
                  <a:pt x="24829" y="10244"/>
                </a:cubicBezTo>
                <a:cubicBezTo>
                  <a:pt x="24816" y="10315"/>
                  <a:pt x="24810" y="10330"/>
                  <a:pt x="24755" y="10344"/>
                </a:cubicBezTo>
                <a:cubicBezTo>
                  <a:pt x="24824" y="10354"/>
                  <a:pt x="24962" y="10363"/>
                  <a:pt x="24978" y="10443"/>
                </a:cubicBezTo>
                <a:cubicBezTo>
                  <a:pt x="25006" y="10583"/>
                  <a:pt x="24830" y="10605"/>
                  <a:pt x="24730" y="10616"/>
                </a:cubicBezTo>
              </a:path>
              <a:path w="7021" h="2754">
                <a:moveTo>
                  <a:pt x="24482" y="10790"/>
                </a:moveTo>
                <a:cubicBezTo>
                  <a:pt x="24629" y="10755"/>
                  <a:pt x="24778" y="10732"/>
                  <a:pt x="24929" y="10716"/>
                </a:cubicBezTo>
              </a:path>
              <a:path w="7021" h="2754">
                <a:moveTo>
                  <a:pt x="24929" y="10840"/>
                </a:moveTo>
                <a:cubicBezTo>
                  <a:pt x="24844" y="10857"/>
                  <a:pt x="24774" y="10884"/>
                  <a:pt x="24705" y="10939"/>
                </a:cubicBezTo>
                <a:cubicBezTo>
                  <a:pt x="24737" y="11056"/>
                  <a:pt x="24918" y="11099"/>
                  <a:pt x="24904" y="11237"/>
                </a:cubicBezTo>
                <a:cubicBezTo>
                  <a:pt x="24856" y="11308"/>
                  <a:pt x="24843" y="11331"/>
                  <a:pt x="24780" y="11336"/>
                </a:cubicBezTo>
                <a:cubicBezTo>
                  <a:pt x="24724" y="11188"/>
                  <a:pt x="24802" y="11151"/>
                  <a:pt x="24854" y="11013"/>
                </a:cubicBezTo>
                <a:cubicBezTo>
                  <a:pt x="24854" y="10988"/>
                  <a:pt x="24854" y="10980"/>
                  <a:pt x="24829" y="10988"/>
                </a:cubicBezTo>
              </a:path>
              <a:path w="7021" h="2754">
                <a:moveTo>
                  <a:pt x="23614" y="11857"/>
                </a:moveTo>
                <a:cubicBezTo>
                  <a:pt x="23816" y="11883"/>
                  <a:pt x="23956" y="11860"/>
                  <a:pt x="24160" y="11832"/>
                </a:cubicBezTo>
                <a:cubicBezTo>
                  <a:pt x="24458" y="11791"/>
                  <a:pt x="24708" y="11676"/>
                  <a:pt x="24929" y="11460"/>
                </a:cubicBezTo>
                <a:cubicBezTo>
                  <a:pt x="25076" y="11317"/>
                  <a:pt x="25205" y="11106"/>
                  <a:pt x="25276" y="10914"/>
                </a:cubicBezTo>
                <a:cubicBezTo>
                  <a:pt x="25312" y="10817"/>
                  <a:pt x="25317" y="10670"/>
                  <a:pt x="25301" y="10567"/>
                </a:cubicBezTo>
                <a:cubicBezTo>
                  <a:pt x="25277" y="10416"/>
                  <a:pt x="25159" y="10205"/>
                  <a:pt x="25053" y="10096"/>
                </a:cubicBezTo>
                <a:cubicBezTo>
                  <a:pt x="24922" y="9960"/>
                  <a:pt x="24738" y="9934"/>
                  <a:pt x="24557" y="9922"/>
                </a:cubicBezTo>
                <a:cubicBezTo>
                  <a:pt x="24331" y="9907"/>
                  <a:pt x="24095" y="9957"/>
                  <a:pt x="23887" y="10046"/>
                </a:cubicBezTo>
                <a:cubicBezTo>
                  <a:pt x="23660" y="10143"/>
                  <a:pt x="23521" y="10264"/>
                  <a:pt x="23391" y="10468"/>
                </a:cubicBezTo>
                <a:cubicBezTo>
                  <a:pt x="23260" y="10673"/>
                  <a:pt x="23292" y="10777"/>
                  <a:pt x="23391" y="10988"/>
                </a:cubicBezTo>
                <a:cubicBezTo>
                  <a:pt x="23500" y="11218"/>
                  <a:pt x="23686" y="11488"/>
                  <a:pt x="23937" y="11584"/>
                </a:cubicBezTo>
                <a:cubicBezTo>
                  <a:pt x="23995" y="11592"/>
                  <a:pt x="24052" y="11601"/>
                  <a:pt x="24110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85000" y="376884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9124" y="10567"/>
                </a:moveTo>
                <a:cubicBezTo>
                  <a:pt x="19151" y="10607"/>
                  <a:pt x="19159" y="10690"/>
                  <a:pt x="19199" y="10691"/>
                </a:cubicBezTo>
                <a:cubicBezTo>
                  <a:pt x="19308" y="10691"/>
                  <a:pt x="19335" y="10696"/>
                  <a:pt x="19397" y="10666"/>
                </a:cubicBezTo>
              </a:path>
              <a:path w="274" h="373">
                <a:moveTo>
                  <a:pt x="19372" y="10468"/>
                </a:moveTo>
                <a:cubicBezTo>
                  <a:pt x="19361" y="10592"/>
                  <a:pt x="19365" y="10691"/>
                  <a:pt x="19372" y="10815"/>
                </a:cubicBezTo>
                <a:cubicBezTo>
                  <a:pt x="19372" y="10840"/>
                  <a:pt x="19372" y="10848"/>
                  <a:pt x="19372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27080" y="2303640"/>
            <a:ext cx="330120" cy="125280"/>
          </a:xfrm>
          <a:custGeom>
            <a:avLst/>
            <a:gdLst/>
            <a:ahLst/>
            <a:rect l="l" t="t" r="r" b="b"/>
            <a:pathLst>
              <a:path w="918" h="348">
                <a:moveTo>
                  <a:pt x="2952" y="6499"/>
                </a:moveTo>
                <a:cubicBezTo>
                  <a:pt x="3083" y="6499"/>
                  <a:pt x="3214" y="6561"/>
                  <a:pt x="3349" y="6573"/>
                </a:cubicBezTo>
                <a:cubicBezTo>
                  <a:pt x="3437" y="6581"/>
                  <a:pt x="3512" y="6598"/>
                  <a:pt x="3597" y="6598"/>
                </a:cubicBezTo>
                <a:cubicBezTo>
                  <a:pt x="3605" y="6598"/>
                  <a:pt x="3613" y="6598"/>
                  <a:pt x="3621" y="6598"/>
                </a:cubicBezTo>
              </a:path>
              <a:path w="918" h="348">
                <a:moveTo>
                  <a:pt x="3423" y="6400"/>
                </a:moveTo>
                <a:cubicBezTo>
                  <a:pt x="3534" y="6427"/>
                  <a:pt x="3637" y="6489"/>
                  <a:pt x="3746" y="6524"/>
                </a:cubicBezTo>
                <a:cubicBezTo>
                  <a:pt x="3808" y="6544"/>
                  <a:pt x="3479" y="6720"/>
                  <a:pt x="3423" y="6747"/>
                </a:cubicBezTo>
              </a:path>
              <a:path w="918" h="348">
                <a:moveTo>
                  <a:pt x="2853" y="6747"/>
                </a:moveTo>
                <a:cubicBezTo>
                  <a:pt x="3012" y="6731"/>
                  <a:pt x="3164" y="6691"/>
                  <a:pt x="3324" y="6672"/>
                </a:cubicBezTo>
                <a:cubicBezTo>
                  <a:pt x="3425" y="6660"/>
                  <a:pt x="3497" y="6648"/>
                  <a:pt x="3597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760" y="1320840"/>
            <a:ext cx="14436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992" y="3746"/>
                </a:moveTo>
                <a:cubicBezTo>
                  <a:pt x="951" y="3685"/>
                  <a:pt x="1091" y="3680"/>
                  <a:pt x="1166" y="3671"/>
                </a:cubicBezTo>
                <a:cubicBezTo>
                  <a:pt x="1229" y="3663"/>
                  <a:pt x="1193" y="3767"/>
                  <a:pt x="1191" y="3795"/>
                </a:cubicBezTo>
                <a:cubicBezTo>
                  <a:pt x="1183" y="3909"/>
                  <a:pt x="1122" y="3962"/>
                  <a:pt x="1017" y="4018"/>
                </a:cubicBezTo>
                <a:cubicBezTo>
                  <a:pt x="1009" y="4018"/>
                  <a:pt x="1000" y="4018"/>
                  <a:pt x="992" y="4018"/>
                </a:cubicBezTo>
                <a:cubicBezTo>
                  <a:pt x="1083" y="4003"/>
                  <a:pt x="1176" y="3961"/>
                  <a:pt x="1265" y="3944"/>
                </a:cubicBezTo>
                <a:cubicBezTo>
                  <a:pt x="1293" y="3939"/>
                  <a:pt x="1334" y="3944"/>
                  <a:pt x="1364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0240" y="130320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2208" y="3870"/>
                </a:moveTo>
                <a:cubicBezTo>
                  <a:pt x="2246" y="3830"/>
                  <a:pt x="2152" y="3767"/>
                  <a:pt x="2084" y="3770"/>
                </a:cubicBezTo>
                <a:cubicBezTo>
                  <a:pt x="1962" y="3775"/>
                  <a:pt x="1866" y="3902"/>
                  <a:pt x="1836" y="3994"/>
                </a:cubicBezTo>
                <a:cubicBezTo>
                  <a:pt x="2027" y="4029"/>
                  <a:pt x="2073" y="4029"/>
                  <a:pt x="2208" y="3894"/>
                </a:cubicBezTo>
              </a:path>
              <a:path w="497" h="398">
                <a:moveTo>
                  <a:pt x="2232" y="3621"/>
                </a:moveTo>
                <a:cubicBezTo>
                  <a:pt x="2205" y="3719"/>
                  <a:pt x="2241" y="3856"/>
                  <a:pt x="2257" y="3969"/>
                </a:cubicBezTo>
                <a:cubicBezTo>
                  <a:pt x="2257" y="4016"/>
                  <a:pt x="2275" y="4012"/>
                  <a:pt x="2332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7040" y="191124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1237" y="5308"/>
                </a:moveTo>
                <a:cubicBezTo>
                  <a:pt x="11237" y="5425"/>
                  <a:pt x="11325" y="5597"/>
                  <a:pt x="11385" y="5730"/>
                </a:cubicBezTo>
                <a:cubicBezTo>
                  <a:pt x="11393" y="5746"/>
                  <a:pt x="11402" y="5763"/>
                  <a:pt x="11410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2200" y="3000240"/>
            <a:ext cx="320760" cy="2509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1315" y="8434"/>
                </a:moveTo>
                <a:cubicBezTo>
                  <a:pt x="1339" y="8384"/>
                  <a:pt x="1347" y="8367"/>
                  <a:pt x="1389" y="8359"/>
                </a:cubicBezTo>
                <a:cubicBezTo>
                  <a:pt x="1287" y="8344"/>
                  <a:pt x="1222" y="8307"/>
                  <a:pt x="1116" y="8384"/>
                </a:cubicBezTo>
                <a:cubicBezTo>
                  <a:pt x="1017" y="8456"/>
                  <a:pt x="989" y="8524"/>
                  <a:pt x="967" y="8632"/>
                </a:cubicBezTo>
                <a:cubicBezTo>
                  <a:pt x="1063" y="8626"/>
                  <a:pt x="1253" y="8595"/>
                  <a:pt x="1265" y="8582"/>
                </a:cubicBezTo>
                <a:cubicBezTo>
                  <a:pt x="1090" y="8670"/>
                  <a:pt x="933" y="8765"/>
                  <a:pt x="893" y="8979"/>
                </a:cubicBezTo>
                <a:cubicBezTo>
                  <a:pt x="901" y="8996"/>
                  <a:pt x="910" y="9012"/>
                  <a:pt x="918" y="9029"/>
                </a:cubicBezTo>
                <a:cubicBezTo>
                  <a:pt x="1073" y="9020"/>
                  <a:pt x="1157" y="8986"/>
                  <a:pt x="1290" y="8930"/>
                </a:cubicBezTo>
              </a:path>
              <a:path w="894" h="696">
                <a:moveTo>
                  <a:pt x="1463" y="8607"/>
                </a:moveTo>
                <a:cubicBezTo>
                  <a:pt x="1551" y="8694"/>
                  <a:pt x="1645" y="8831"/>
                  <a:pt x="1736" y="8905"/>
                </a:cubicBezTo>
                <a:cubicBezTo>
                  <a:pt x="1744" y="8905"/>
                  <a:pt x="1753" y="8905"/>
                  <a:pt x="1761" y="8905"/>
                </a:cubicBezTo>
              </a:path>
              <a:path w="894" h="696">
                <a:moveTo>
                  <a:pt x="1786" y="8582"/>
                </a:moveTo>
                <a:cubicBezTo>
                  <a:pt x="1672" y="8689"/>
                  <a:pt x="1566" y="8817"/>
                  <a:pt x="1488" y="8954"/>
                </a:cubicBezTo>
                <a:cubicBezTo>
                  <a:pt x="1488" y="8962"/>
                  <a:pt x="1488" y="8971"/>
                  <a:pt x="1488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8320" y="3527280"/>
            <a:ext cx="500040" cy="268560"/>
          </a:xfrm>
          <a:custGeom>
            <a:avLst/>
            <a:gdLst/>
            <a:ahLst/>
            <a:rect l="l" t="t" r="r" b="b"/>
            <a:pathLst>
              <a:path w="1390" h="745">
                <a:moveTo>
                  <a:pt x="4911" y="9922"/>
                </a:moveTo>
                <a:cubicBezTo>
                  <a:pt x="5142" y="9869"/>
                  <a:pt x="5370" y="9816"/>
                  <a:pt x="5606" y="9798"/>
                </a:cubicBezTo>
              </a:path>
              <a:path w="1390" h="745">
                <a:moveTo>
                  <a:pt x="5606" y="9798"/>
                </a:moveTo>
                <a:lnTo>
                  <a:pt x="5606" y="9798"/>
                </a:lnTo>
              </a:path>
              <a:path w="1390" h="745">
                <a:moveTo>
                  <a:pt x="5383" y="10096"/>
                </a:moveTo>
                <a:cubicBezTo>
                  <a:pt x="5364" y="10246"/>
                  <a:pt x="5352" y="10393"/>
                  <a:pt x="5333" y="10542"/>
                </a:cubicBezTo>
              </a:path>
              <a:path w="1390" h="745">
                <a:moveTo>
                  <a:pt x="6300" y="9922"/>
                </a:moveTo>
                <a:lnTo>
                  <a:pt x="6300" y="99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200" y="3241800"/>
            <a:ext cx="2027160" cy="598320"/>
          </a:xfrm>
          <a:custGeom>
            <a:avLst/>
            <a:gdLst/>
            <a:ahLst/>
            <a:rect l="l" t="t" r="r" b="b"/>
            <a:pathLst>
              <a:path w="5631" h="1663">
                <a:moveTo>
                  <a:pt x="868" y="9103"/>
                </a:moveTo>
                <a:cubicBezTo>
                  <a:pt x="1041" y="9138"/>
                  <a:pt x="1234" y="9098"/>
                  <a:pt x="1414" y="9079"/>
                </a:cubicBezTo>
                <a:cubicBezTo>
                  <a:pt x="1520" y="9068"/>
                  <a:pt x="1712" y="9054"/>
                  <a:pt x="1786" y="9004"/>
                </a:cubicBezTo>
                <a:cubicBezTo>
                  <a:pt x="1745" y="9004"/>
                  <a:pt x="1703" y="9004"/>
                  <a:pt x="1662" y="9004"/>
                </a:cubicBezTo>
              </a:path>
              <a:path w="5631" h="1663">
                <a:moveTo>
                  <a:pt x="1836" y="9500"/>
                </a:moveTo>
                <a:cubicBezTo>
                  <a:pt x="1836" y="9443"/>
                  <a:pt x="1789" y="9404"/>
                  <a:pt x="1736" y="9376"/>
                </a:cubicBezTo>
                <a:cubicBezTo>
                  <a:pt x="1591" y="9300"/>
                  <a:pt x="1436" y="9427"/>
                  <a:pt x="1315" y="9500"/>
                </a:cubicBezTo>
                <a:cubicBezTo>
                  <a:pt x="1200" y="9576"/>
                  <a:pt x="1169" y="9573"/>
                  <a:pt x="1141" y="9649"/>
                </a:cubicBezTo>
                <a:cubicBezTo>
                  <a:pt x="1226" y="9777"/>
                  <a:pt x="1339" y="9660"/>
                  <a:pt x="1439" y="9575"/>
                </a:cubicBezTo>
                <a:cubicBezTo>
                  <a:pt x="1510" y="9514"/>
                  <a:pt x="1588" y="9426"/>
                  <a:pt x="1687" y="9426"/>
                </a:cubicBezTo>
                <a:cubicBezTo>
                  <a:pt x="1695" y="9426"/>
                  <a:pt x="1704" y="9426"/>
                  <a:pt x="1712" y="9426"/>
                </a:cubicBezTo>
                <a:cubicBezTo>
                  <a:pt x="1699" y="9532"/>
                  <a:pt x="1662" y="9615"/>
                  <a:pt x="1662" y="9723"/>
                </a:cubicBezTo>
                <a:cubicBezTo>
                  <a:pt x="1662" y="9748"/>
                  <a:pt x="1662" y="9756"/>
                  <a:pt x="1662" y="9723"/>
                </a:cubicBezTo>
              </a:path>
              <a:path w="5631" h="1663">
                <a:moveTo>
                  <a:pt x="868" y="9922"/>
                </a:moveTo>
                <a:cubicBezTo>
                  <a:pt x="1123" y="9996"/>
                  <a:pt x="1373" y="10016"/>
                  <a:pt x="1637" y="9947"/>
                </a:cubicBezTo>
                <a:cubicBezTo>
                  <a:pt x="1863" y="9888"/>
                  <a:pt x="2149" y="9754"/>
                  <a:pt x="2133" y="9475"/>
                </a:cubicBezTo>
                <a:cubicBezTo>
                  <a:pt x="2118" y="9222"/>
                  <a:pt x="1715" y="9206"/>
                  <a:pt x="1538" y="9227"/>
                </a:cubicBezTo>
                <a:cubicBezTo>
                  <a:pt x="1291" y="9256"/>
                  <a:pt x="1002" y="9468"/>
                  <a:pt x="819" y="9624"/>
                </a:cubicBezTo>
                <a:cubicBezTo>
                  <a:pt x="423" y="9962"/>
                  <a:pt x="865" y="9989"/>
                  <a:pt x="1141" y="9996"/>
                </a:cubicBezTo>
              </a:path>
              <a:path w="5631" h="1663">
                <a:moveTo>
                  <a:pt x="3051" y="9227"/>
                </a:moveTo>
                <a:cubicBezTo>
                  <a:pt x="2986" y="9196"/>
                  <a:pt x="3316" y="9081"/>
                  <a:pt x="3324" y="9079"/>
                </a:cubicBezTo>
                <a:cubicBezTo>
                  <a:pt x="3573" y="9018"/>
                  <a:pt x="3372" y="9264"/>
                  <a:pt x="3324" y="9327"/>
                </a:cubicBezTo>
                <a:cubicBezTo>
                  <a:pt x="3307" y="9343"/>
                  <a:pt x="3291" y="9360"/>
                  <a:pt x="3274" y="9376"/>
                </a:cubicBezTo>
                <a:cubicBezTo>
                  <a:pt x="3379" y="9355"/>
                  <a:pt x="3445" y="9360"/>
                  <a:pt x="3547" y="9426"/>
                </a:cubicBezTo>
                <a:cubicBezTo>
                  <a:pt x="3564" y="9442"/>
                  <a:pt x="3580" y="9459"/>
                  <a:pt x="3597" y="9475"/>
                </a:cubicBezTo>
                <a:cubicBezTo>
                  <a:pt x="3436" y="9602"/>
                  <a:pt x="3340" y="9659"/>
                  <a:pt x="3125" y="9674"/>
                </a:cubicBezTo>
                <a:cubicBezTo>
                  <a:pt x="3117" y="9674"/>
                  <a:pt x="3109" y="9674"/>
                  <a:pt x="3101" y="9674"/>
                </a:cubicBezTo>
              </a:path>
              <a:path w="5631" h="1663">
                <a:moveTo>
                  <a:pt x="2753" y="9872"/>
                </a:moveTo>
                <a:cubicBezTo>
                  <a:pt x="3035" y="9861"/>
                  <a:pt x="3317" y="9773"/>
                  <a:pt x="3597" y="9773"/>
                </a:cubicBezTo>
                <a:cubicBezTo>
                  <a:pt x="3605" y="9781"/>
                  <a:pt x="3613" y="9790"/>
                  <a:pt x="3621" y="9798"/>
                </a:cubicBezTo>
              </a:path>
              <a:path w="5631" h="1663">
                <a:moveTo>
                  <a:pt x="2853" y="10244"/>
                </a:moveTo>
                <a:cubicBezTo>
                  <a:pt x="2853" y="10310"/>
                  <a:pt x="2853" y="10377"/>
                  <a:pt x="2853" y="10443"/>
                </a:cubicBezTo>
                <a:cubicBezTo>
                  <a:pt x="3016" y="10455"/>
                  <a:pt x="3183" y="10395"/>
                  <a:pt x="3349" y="10344"/>
                </a:cubicBezTo>
              </a:path>
              <a:path w="5631" h="1663">
                <a:moveTo>
                  <a:pt x="3225" y="10195"/>
                </a:moveTo>
                <a:cubicBezTo>
                  <a:pt x="3225" y="10321"/>
                  <a:pt x="3205" y="10441"/>
                  <a:pt x="3200" y="10567"/>
                </a:cubicBezTo>
                <a:cubicBezTo>
                  <a:pt x="3200" y="10616"/>
                  <a:pt x="3200" y="10633"/>
                  <a:pt x="3200" y="10666"/>
                </a:cubicBezTo>
              </a:path>
              <a:path w="5631" h="1663">
                <a:moveTo>
                  <a:pt x="4291" y="9649"/>
                </a:moveTo>
                <a:cubicBezTo>
                  <a:pt x="4304" y="9782"/>
                  <a:pt x="4336" y="9910"/>
                  <a:pt x="4341" y="10046"/>
                </a:cubicBezTo>
                <a:cubicBezTo>
                  <a:pt x="4341" y="10063"/>
                  <a:pt x="4341" y="10079"/>
                  <a:pt x="4341" y="10096"/>
                </a:cubicBezTo>
              </a:path>
              <a:path w="5631" h="1663">
                <a:moveTo>
                  <a:pt x="4142" y="9922"/>
                </a:moveTo>
                <a:cubicBezTo>
                  <a:pt x="4318" y="9886"/>
                  <a:pt x="4482" y="9847"/>
                  <a:pt x="4663" y="9847"/>
                </a:cubicBezTo>
                <a:cubicBezTo>
                  <a:pt x="4671" y="9847"/>
                  <a:pt x="4680" y="9847"/>
                  <a:pt x="4688" y="9847"/>
                </a:cubicBezTo>
              </a:path>
              <a:path w="5631" h="1663">
                <a:moveTo>
                  <a:pt x="5209" y="9277"/>
                </a:moveTo>
                <a:cubicBezTo>
                  <a:pt x="5244" y="9225"/>
                  <a:pt x="5375" y="9215"/>
                  <a:pt x="5457" y="9203"/>
                </a:cubicBezTo>
                <a:cubicBezTo>
                  <a:pt x="5416" y="9446"/>
                  <a:pt x="5265" y="9518"/>
                  <a:pt x="5085" y="9674"/>
                </a:cubicBezTo>
                <a:cubicBezTo>
                  <a:pt x="5077" y="9682"/>
                  <a:pt x="5068" y="9691"/>
                  <a:pt x="5060" y="9699"/>
                </a:cubicBezTo>
                <a:cubicBezTo>
                  <a:pt x="5227" y="9673"/>
                  <a:pt x="5412" y="9576"/>
                  <a:pt x="5581" y="9575"/>
                </a:cubicBezTo>
                <a:cubicBezTo>
                  <a:pt x="5581" y="9583"/>
                  <a:pt x="5581" y="9591"/>
                  <a:pt x="5581" y="9599"/>
                </a:cubicBezTo>
              </a:path>
              <a:path w="5631" h="1663">
                <a:moveTo>
                  <a:pt x="5060" y="10096"/>
                </a:moveTo>
                <a:cubicBezTo>
                  <a:pt x="5060" y="10171"/>
                  <a:pt x="5019" y="10228"/>
                  <a:pt x="4986" y="10294"/>
                </a:cubicBezTo>
                <a:cubicBezTo>
                  <a:pt x="5126" y="10278"/>
                  <a:pt x="5298" y="10277"/>
                  <a:pt x="5432" y="10244"/>
                </a:cubicBezTo>
                <a:cubicBezTo>
                  <a:pt x="5440" y="10236"/>
                  <a:pt x="5449" y="10228"/>
                  <a:pt x="5457" y="10220"/>
                </a:cubicBezTo>
              </a:path>
              <a:path w="5631" h="1663">
                <a:moveTo>
                  <a:pt x="5879" y="9823"/>
                </a:moveTo>
                <a:cubicBezTo>
                  <a:pt x="6004" y="9823"/>
                  <a:pt x="6126" y="9803"/>
                  <a:pt x="6251" y="9798"/>
                </a:cubicBezTo>
                <a:cubicBezTo>
                  <a:pt x="6259" y="9798"/>
                  <a:pt x="6268" y="9798"/>
                  <a:pt x="6276" y="9798"/>
                </a:cubicBezTo>
              </a:path>
              <a:path w="5631" h="1663">
                <a:moveTo>
                  <a:pt x="5978" y="9947"/>
                </a:moveTo>
                <a:cubicBezTo>
                  <a:pt x="6090" y="9947"/>
                  <a:pt x="6192" y="9940"/>
                  <a:pt x="6300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52760" y="4803840"/>
            <a:ext cx="1187280" cy="384120"/>
          </a:xfrm>
          <a:custGeom>
            <a:avLst/>
            <a:gdLst/>
            <a:ahLst/>
            <a:rect l="l" t="t" r="r" b="b"/>
            <a:pathLst>
              <a:path w="3300" h="1068">
                <a:moveTo>
                  <a:pt x="4589" y="14288"/>
                </a:moveTo>
                <a:lnTo>
                  <a:pt x="4589" y="14288"/>
                </a:lnTo>
              </a:path>
              <a:path w="3300" h="1068">
                <a:moveTo>
                  <a:pt x="5184" y="13370"/>
                </a:moveTo>
                <a:cubicBezTo>
                  <a:pt x="5209" y="13370"/>
                  <a:pt x="5217" y="13370"/>
                  <a:pt x="5209" y="13345"/>
                </a:cubicBezTo>
              </a:path>
              <a:path w="3300" h="1068">
                <a:moveTo>
                  <a:pt x="5209" y="13370"/>
                </a:moveTo>
                <a:lnTo>
                  <a:pt x="5209" y="13370"/>
                </a:lnTo>
              </a:path>
              <a:path w="3300" h="1068">
                <a:moveTo>
                  <a:pt x="4812" y="14288"/>
                </a:moveTo>
                <a:cubicBezTo>
                  <a:pt x="5065" y="14196"/>
                  <a:pt x="5314" y="14129"/>
                  <a:pt x="5581" y="14089"/>
                </a:cubicBezTo>
                <a:cubicBezTo>
                  <a:pt x="5589" y="14089"/>
                  <a:pt x="5598" y="14089"/>
                  <a:pt x="5606" y="14089"/>
                </a:cubicBezTo>
              </a:path>
              <a:path w="3300" h="1068">
                <a:moveTo>
                  <a:pt x="6127" y="14312"/>
                </a:moveTo>
                <a:cubicBezTo>
                  <a:pt x="6296" y="14327"/>
                  <a:pt x="6344" y="14326"/>
                  <a:pt x="6499" y="14263"/>
                </a:cubicBezTo>
              </a:path>
              <a:path w="3300" h="1068">
                <a:moveTo>
                  <a:pt x="6499" y="14263"/>
                </a:moveTo>
                <a:lnTo>
                  <a:pt x="6499" y="14263"/>
                </a:lnTo>
              </a:path>
              <a:path w="3300" h="1068">
                <a:moveTo>
                  <a:pt x="7888" y="14412"/>
                </a:moveTo>
                <a:lnTo>
                  <a:pt x="7888" y="144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0120" y="4653000"/>
            <a:ext cx="473040" cy="482400"/>
          </a:xfrm>
          <a:custGeom>
            <a:avLst/>
            <a:gdLst/>
            <a:ahLst/>
            <a:rect l="l" t="t" r="r" b="b"/>
            <a:pathLst>
              <a:path w="1315" h="1341">
                <a:moveTo>
                  <a:pt x="1488" y="13171"/>
                </a:moveTo>
                <a:cubicBezTo>
                  <a:pt x="1427" y="13151"/>
                  <a:pt x="1480" y="13153"/>
                  <a:pt x="1488" y="13295"/>
                </a:cubicBezTo>
                <a:cubicBezTo>
                  <a:pt x="1500" y="13504"/>
                  <a:pt x="1493" y="13708"/>
                  <a:pt x="1513" y="13915"/>
                </a:cubicBezTo>
                <a:cubicBezTo>
                  <a:pt x="1518" y="13969"/>
                  <a:pt x="1544" y="13987"/>
                  <a:pt x="1513" y="13940"/>
                </a:cubicBezTo>
                <a:cubicBezTo>
                  <a:pt x="1457" y="13844"/>
                  <a:pt x="1385" y="13706"/>
                  <a:pt x="1463" y="13593"/>
                </a:cubicBezTo>
                <a:cubicBezTo>
                  <a:pt x="1518" y="13513"/>
                  <a:pt x="1706" y="13473"/>
                  <a:pt x="1761" y="13568"/>
                </a:cubicBezTo>
                <a:cubicBezTo>
                  <a:pt x="1852" y="13726"/>
                  <a:pt x="1759" y="13839"/>
                  <a:pt x="1637" y="13915"/>
                </a:cubicBezTo>
                <a:cubicBezTo>
                  <a:pt x="1590" y="13944"/>
                  <a:pt x="1541" y="13956"/>
                  <a:pt x="1488" y="13965"/>
                </a:cubicBezTo>
              </a:path>
              <a:path w="1315" h="1341">
                <a:moveTo>
                  <a:pt x="1141" y="14015"/>
                </a:moveTo>
                <a:cubicBezTo>
                  <a:pt x="1185" y="14121"/>
                  <a:pt x="1200" y="14157"/>
                  <a:pt x="1315" y="14213"/>
                </a:cubicBezTo>
                <a:cubicBezTo>
                  <a:pt x="1491" y="14299"/>
                  <a:pt x="1713" y="14280"/>
                  <a:pt x="1885" y="14188"/>
                </a:cubicBezTo>
                <a:cubicBezTo>
                  <a:pt x="2071" y="14088"/>
                  <a:pt x="2156" y="13882"/>
                  <a:pt x="2208" y="13692"/>
                </a:cubicBezTo>
                <a:cubicBezTo>
                  <a:pt x="2249" y="13542"/>
                  <a:pt x="2256" y="13383"/>
                  <a:pt x="2183" y="13246"/>
                </a:cubicBezTo>
                <a:cubicBezTo>
                  <a:pt x="2105" y="13100"/>
                  <a:pt x="1962" y="13026"/>
                  <a:pt x="1811" y="12973"/>
                </a:cubicBezTo>
                <a:cubicBezTo>
                  <a:pt x="1729" y="12944"/>
                  <a:pt x="1652" y="12908"/>
                  <a:pt x="1563" y="12923"/>
                </a:cubicBezTo>
                <a:cubicBezTo>
                  <a:pt x="1449" y="12943"/>
                  <a:pt x="1309" y="13007"/>
                  <a:pt x="1215" y="13072"/>
                </a:cubicBezTo>
                <a:cubicBezTo>
                  <a:pt x="1125" y="13135"/>
                  <a:pt x="1074" y="13204"/>
                  <a:pt x="1017" y="13295"/>
                </a:cubicBezTo>
                <a:cubicBezTo>
                  <a:pt x="951" y="13401"/>
                  <a:pt x="901" y="13538"/>
                  <a:pt x="918" y="13667"/>
                </a:cubicBezTo>
                <a:cubicBezTo>
                  <a:pt x="937" y="13815"/>
                  <a:pt x="1046" y="13933"/>
                  <a:pt x="1141" y="14039"/>
                </a:cubicBezTo>
                <a:cubicBezTo>
                  <a:pt x="1192" y="14096"/>
                  <a:pt x="1243" y="14135"/>
                  <a:pt x="1315" y="14163"/>
                </a:cubicBezTo>
                <a:cubicBezTo>
                  <a:pt x="1360" y="14181"/>
                  <a:pt x="1420" y="14172"/>
                  <a:pt x="1463" y="14188"/>
                </a:cubicBezTo>
                <a:cubicBezTo>
                  <a:pt x="1488" y="14188"/>
                  <a:pt x="1496" y="14188"/>
                  <a:pt x="1488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4795920"/>
            <a:ext cx="919080" cy="687240"/>
          </a:xfrm>
          <a:custGeom>
            <a:avLst/>
            <a:gdLst/>
            <a:ahLst/>
            <a:rect l="l" t="t" r="r" b="b"/>
            <a:pathLst>
              <a:path w="2555" h="1911">
                <a:moveTo>
                  <a:pt x="3150" y="13320"/>
                </a:moveTo>
                <a:cubicBezTo>
                  <a:pt x="3267" y="13320"/>
                  <a:pt x="3376" y="13363"/>
                  <a:pt x="3497" y="13370"/>
                </a:cubicBezTo>
                <a:cubicBezTo>
                  <a:pt x="3514" y="13370"/>
                  <a:pt x="3530" y="13370"/>
                  <a:pt x="3547" y="13370"/>
                </a:cubicBezTo>
                <a:cubicBezTo>
                  <a:pt x="3532" y="13576"/>
                  <a:pt x="3471" y="13744"/>
                  <a:pt x="3423" y="13940"/>
                </a:cubicBezTo>
                <a:cubicBezTo>
                  <a:pt x="3423" y="13957"/>
                  <a:pt x="3423" y="13973"/>
                  <a:pt x="3423" y="13990"/>
                </a:cubicBezTo>
              </a:path>
              <a:path w="2555" h="1911">
                <a:moveTo>
                  <a:pt x="2853" y="14238"/>
                </a:moveTo>
                <a:cubicBezTo>
                  <a:pt x="3077" y="14238"/>
                  <a:pt x="3271" y="14220"/>
                  <a:pt x="3497" y="14188"/>
                </a:cubicBezTo>
                <a:cubicBezTo>
                  <a:pt x="3653" y="14166"/>
                  <a:pt x="3812" y="14132"/>
                  <a:pt x="3969" y="14114"/>
                </a:cubicBezTo>
              </a:path>
              <a:path w="2555" h="1911">
                <a:moveTo>
                  <a:pt x="3398" y="14560"/>
                </a:moveTo>
                <a:cubicBezTo>
                  <a:pt x="3256" y="14541"/>
                  <a:pt x="3095" y="14661"/>
                  <a:pt x="2952" y="14759"/>
                </a:cubicBezTo>
                <a:cubicBezTo>
                  <a:pt x="3038" y="14832"/>
                  <a:pt x="3448" y="14930"/>
                  <a:pt x="3423" y="15081"/>
                </a:cubicBezTo>
                <a:cubicBezTo>
                  <a:pt x="3325" y="15179"/>
                  <a:pt x="3294" y="15211"/>
                  <a:pt x="3200" y="15230"/>
                </a:cubicBezTo>
                <a:cubicBezTo>
                  <a:pt x="3096" y="15010"/>
                  <a:pt x="3256" y="14926"/>
                  <a:pt x="3373" y="14709"/>
                </a:cubicBezTo>
                <a:cubicBezTo>
                  <a:pt x="3392" y="14652"/>
                  <a:pt x="3418" y="14627"/>
                  <a:pt x="3373" y="14635"/>
                </a:cubicBezTo>
              </a:path>
              <a:path w="2555" h="1911">
                <a:moveTo>
                  <a:pt x="4390" y="14188"/>
                </a:moveTo>
                <a:cubicBezTo>
                  <a:pt x="4419" y="14302"/>
                  <a:pt x="4465" y="14418"/>
                  <a:pt x="4490" y="14536"/>
                </a:cubicBezTo>
                <a:cubicBezTo>
                  <a:pt x="4490" y="14544"/>
                  <a:pt x="4490" y="14552"/>
                  <a:pt x="4490" y="14560"/>
                </a:cubicBezTo>
              </a:path>
              <a:path w="2555" h="1911">
                <a:moveTo>
                  <a:pt x="4217" y="14337"/>
                </a:moveTo>
                <a:cubicBezTo>
                  <a:pt x="4341" y="14314"/>
                  <a:pt x="4462" y="14288"/>
                  <a:pt x="4589" y="14288"/>
                </a:cubicBezTo>
              </a:path>
              <a:path w="2555" h="1911">
                <a:moveTo>
                  <a:pt x="5383" y="14511"/>
                </a:moveTo>
                <a:cubicBezTo>
                  <a:pt x="5380" y="14390"/>
                  <a:pt x="5117" y="14578"/>
                  <a:pt x="5060" y="14635"/>
                </a:cubicBezTo>
                <a:cubicBezTo>
                  <a:pt x="5035" y="14668"/>
                  <a:pt x="5011" y="14701"/>
                  <a:pt x="4986" y="14734"/>
                </a:cubicBezTo>
                <a:cubicBezTo>
                  <a:pt x="5127" y="14829"/>
                  <a:pt x="5282" y="14866"/>
                  <a:pt x="5407" y="14982"/>
                </a:cubicBezTo>
                <a:cubicBezTo>
                  <a:pt x="5307" y="15083"/>
                  <a:pt x="5113" y="15146"/>
                  <a:pt x="5184" y="14908"/>
                </a:cubicBezTo>
                <a:cubicBezTo>
                  <a:pt x="5218" y="14793"/>
                  <a:pt x="5308" y="14710"/>
                  <a:pt x="5308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5000" y="4894200"/>
            <a:ext cx="635040" cy="527040"/>
          </a:xfrm>
          <a:custGeom>
            <a:avLst/>
            <a:gdLst/>
            <a:ahLst/>
            <a:rect l="l" t="t" r="r" b="b"/>
            <a:pathLst>
              <a:path w="1762" h="1464">
                <a:moveTo>
                  <a:pt x="6127" y="14089"/>
                </a:moveTo>
                <a:cubicBezTo>
                  <a:pt x="6179" y="14220"/>
                  <a:pt x="6307" y="14168"/>
                  <a:pt x="6424" y="14188"/>
                </a:cubicBezTo>
                <a:cubicBezTo>
                  <a:pt x="6485" y="14208"/>
                  <a:pt x="6520" y="14206"/>
                  <a:pt x="6474" y="14238"/>
                </a:cubicBezTo>
              </a:path>
              <a:path w="1762" h="1464">
                <a:moveTo>
                  <a:pt x="6672" y="13742"/>
                </a:moveTo>
                <a:cubicBezTo>
                  <a:pt x="6700" y="13880"/>
                  <a:pt x="6745" y="14012"/>
                  <a:pt x="6697" y="14139"/>
                </a:cubicBezTo>
              </a:path>
              <a:path w="1762" h="1464">
                <a:moveTo>
                  <a:pt x="7169" y="13593"/>
                </a:moveTo>
                <a:cubicBezTo>
                  <a:pt x="7070" y="13763"/>
                  <a:pt x="6995" y="13852"/>
                  <a:pt x="6995" y="14039"/>
                </a:cubicBezTo>
                <a:cubicBezTo>
                  <a:pt x="7135" y="14069"/>
                  <a:pt x="7496" y="14025"/>
                  <a:pt x="7317" y="13767"/>
                </a:cubicBezTo>
                <a:cubicBezTo>
                  <a:pt x="7193" y="13588"/>
                  <a:pt x="7073" y="13731"/>
                  <a:pt x="6995" y="13816"/>
                </a:cubicBezTo>
              </a:path>
              <a:path w="1762" h="1464">
                <a:moveTo>
                  <a:pt x="6375" y="14337"/>
                </a:moveTo>
                <a:cubicBezTo>
                  <a:pt x="6657" y="14290"/>
                  <a:pt x="6958" y="14198"/>
                  <a:pt x="7243" y="14263"/>
                </a:cubicBezTo>
                <a:cubicBezTo>
                  <a:pt x="7243" y="14271"/>
                  <a:pt x="7243" y="14280"/>
                  <a:pt x="7243" y="14288"/>
                </a:cubicBezTo>
              </a:path>
              <a:path w="1762" h="1464">
                <a:moveTo>
                  <a:pt x="7094" y="14461"/>
                </a:moveTo>
                <a:cubicBezTo>
                  <a:pt x="7078" y="14412"/>
                  <a:pt x="6920" y="14429"/>
                  <a:pt x="6871" y="14436"/>
                </a:cubicBezTo>
                <a:cubicBezTo>
                  <a:pt x="6804" y="14445"/>
                  <a:pt x="6648" y="14518"/>
                  <a:pt x="6648" y="14610"/>
                </a:cubicBezTo>
                <a:cubicBezTo>
                  <a:pt x="6647" y="14727"/>
                  <a:pt x="6775" y="14725"/>
                  <a:pt x="6846" y="14759"/>
                </a:cubicBezTo>
                <a:cubicBezTo>
                  <a:pt x="6976" y="14821"/>
                  <a:pt x="7009" y="14871"/>
                  <a:pt x="7020" y="15007"/>
                </a:cubicBezTo>
                <a:cubicBezTo>
                  <a:pt x="6942" y="15031"/>
                  <a:pt x="6840" y="15091"/>
                  <a:pt x="6772" y="15032"/>
                </a:cubicBezTo>
                <a:cubicBezTo>
                  <a:pt x="6697" y="14967"/>
                  <a:pt x="6712" y="14889"/>
                  <a:pt x="6796" y="14833"/>
                </a:cubicBezTo>
                <a:cubicBezTo>
                  <a:pt x="6856" y="14793"/>
                  <a:pt x="6935" y="14739"/>
                  <a:pt x="6995" y="14684"/>
                </a:cubicBezTo>
                <a:cubicBezTo>
                  <a:pt x="7022" y="14659"/>
                  <a:pt x="7078" y="14595"/>
                  <a:pt x="7094" y="14560"/>
                </a:cubicBezTo>
                <a:cubicBezTo>
                  <a:pt x="7110" y="14524"/>
                  <a:pt x="7091" y="14518"/>
                  <a:pt x="7069" y="14511"/>
                </a:cubicBezTo>
              </a:path>
              <a:path w="1762" h="1464">
                <a:moveTo>
                  <a:pt x="7615" y="14238"/>
                </a:moveTo>
                <a:cubicBezTo>
                  <a:pt x="7543" y="14274"/>
                  <a:pt x="7765" y="14239"/>
                  <a:pt x="7789" y="14238"/>
                </a:cubicBezTo>
                <a:cubicBezTo>
                  <a:pt x="7850" y="14236"/>
                  <a:pt x="7848" y="14208"/>
                  <a:pt x="7863" y="14238"/>
                </a:cubicBezTo>
              </a:path>
              <a:path w="1762" h="1464">
                <a:moveTo>
                  <a:pt x="7565" y="14436"/>
                </a:moveTo>
                <a:cubicBezTo>
                  <a:pt x="7663" y="14436"/>
                  <a:pt x="7743" y="14417"/>
                  <a:pt x="7838" y="14412"/>
                </a:cubicBezTo>
                <a:cubicBezTo>
                  <a:pt x="7855" y="14412"/>
                  <a:pt x="7871" y="14412"/>
                  <a:pt x="7888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4960" y="3089160"/>
            <a:ext cx="5662800" cy="142920"/>
          </a:xfrm>
          <a:custGeom>
            <a:avLst/>
            <a:gdLst/>
            <a:ahLst/>
            <a:rect l="l" t="t" r="r" b="b"/>
            <a:pathLst>
              <a:path w="15727" h="398">
                <a:moveTo>
                  <a:pt x="1488" y="8979"/>
                </a:moveTo>
                <a:lnTo>
                  <a:pt x="1488" y="8979"/>
                </a:lnTo>
              </a:path>
              <a:path w="15727" h="398">
                <a:moveTo>
                  <a:pt x="1662" y="8582"/>
                </a:moveTo>
                <a:cubicBezTo>
                  <a:pt x="1662" y="8590"/>
                  <a:pt x="1662" y="8599"/>
                  <a:pt x="1662" y="8607"/>
                </a:cubicBezTo>
              </a:path>
              <a:path w="15727" h="398">
                <a:moveTo>
                  <a:pt x="1637" y="8756"/>
                </a:moveTo>
                <a:lnTo>
                  <a:pt x="1637" y="8756"/>
                </a:lnTo>
                <a:lnTo>
                  <a:pt x="1637" y="8756"/>
                </a:lnTo>
              </a:path>
              <a:path w="15727" h="398">
                <a:moveTo>
                  <a:pt x="1637" y="8756"/>
                </a:moveTo>
                <a:lnTo>
                  <a:pt x="1637" y="8756"/>
                </a:lnTo>
              </a:path>
              <a:path w="15727" h="398">
                <a:moveTo>
                  <a:pt x="1786" y="8607"/>
                </a:moveTo>
                <a:lnTo>
                  <a:pt x="1786" y="8607"/>
                </a:lnTo>
                <a:lnTo>
                  <a:pt x="1786" y="8607"/>
                </a:lnTo>
              </a:path>
              <a:path w="15727" h="398">
                <a:moveTo>
                  <a:pt x="1836" y="8756"/>
                </a:moveTo>
                <a:cubicBezTo>
                  <a:pt x="1828" y="8756"/>
                  <a:pt x="1819" y="8756"/>
                  <a:pt x="1811" y="8756"/>
                </a:cubicBezTo>
              </a:path>
              <a:path w="15727" h="398">
                <a:moveTo>
                  <a:pt x="1811" y="8756"/>
                </a:moveTo>
                <a:lnTo>
                  <a:pt x="1811" y="8756"/>
                </a:lnTo>
              </a:path>
              <a:path w="15727" h="398">
                <a:moveTo>
                  <a:pt x="17214" y="8706"/>
                </a:moveTo>
                <a:lnTo>
                  <a:pt x="17214" y="870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68760" y="2320920"/>
            <a:ext cx="3106440" cy="2849400"/>
          </a:xfrm>
          <a:custGeom>
            <a:avLst/>
            <a:gdLst/>
            <a:ahLst/>
            <a:rect l="l" t="t" r="r" b="b"/>
            <a:pathLst>
              <a:path w="8633" h="7914">
                <a:moveTo>
                  <a:pt x="7689" y="10368"/>
                </a:moveTo>
                <a:lnTo>
                  <a:pt x="7689" y="10368"/>
                </a:lnTo>
              </a:path>
              <a:path w="8633" h="7914">
                <a:moveTo>
                  <a:pt x="12626" y="14114"/>
                </a:moveTo>
                <a:lnTo>
                  <a:pt x="12626" y="14114"/>
                </a:lnTo>
              </a:path>
              <a:path w="8633" h="7914">
                <a:moveTo>
                  <a:pt x="13593" y="14362"/>
                </a:moveTo>
                <a:lnTo>
                  <a:pt x="13593" y="14362"/>
                </a:lnTo>
              </a:path>
              <a:path w="8633" h="7914">
                <a:moveTo>
                  <a:pt x="16321" y="6449"/>
                </a:moveTo>
                <a:lnTo>
                  <a:pt x="16321" y="64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86240" y="2759040"/>
            <a:ext cx="17640" cy="366840"/>
          </a:xfrm>
          <a:custGeom>
            <a:avLst/>
            <a:gdLst/>
            <a:ahLst/>
            <a:rect l="l" t="t" r="r" b="b"/>
            <a:pathLst>
              <a:path w="51" h="1018">
                <a:moveTo>
                  <a:pt x="14734" y="7665"/>
                </a:moveTo>
                <a:lnTo>
                  <a:pt x="14734" y="7665"/>
                </a:lnTo>
                <a:lnTo>
                  <a:pt x="14734" y="7665"/>
                </a:lnTo>
                <a:lnTo>
                  <a:pt x="14734" y="7665"/>
                </a:lnTo>
              </a:path>
              <a:path w="51" h="1018">
                <a:moveTo>
                  <a:pt x="14709" y="7888"/>
                </a:moveTo>
                <a:cubicBezTo>
                  <a:pt x="14701" y="7888"/>
                  <a:pt x="14692" y="7888"/>
                  <a:pt x="14684" y="7888"/>
                </a:cubicBezTo>
              </a:path>
              <a:path w="51" h="1018">
                <a:moveTo>
                  <a:pt x="14684" y="7888"/>
                </a:moveTo>
                <a:lnTo>
                  <a:pt x="14684" y="7888"/>
                </a:lnTo>
              </a:path>
              <a:path w="51" h="1018">
                <a:moveTo>
                  <a:pt x="14734" y="8434"/>
                </a:moveTo>
                <a:lnTo>
                  <a:pt x="14734" y="8434"/>
                </a:lnTo>
                <a:lnTo>
                  <a:pt x="14734" y="8434"/>
                </a:lnTo>
              </a:path>
              <a:path w="51" h="1018">
                <a:moveTo>
                  <a:pt x="14709" y="8657"/>
                </a:moveTo>
                <a:cubicBezTo>
                  <a:pt x="14709" y="8665"/>
                  <a:pt x="14709" y="8674"/>
                  <a:pt x="14709" y="8682"/>
                </a:cubicBezTo>
              </a:path>
              <a:path w="51" h="1018">
                <a:moveTo>
                  <a:pt x="14709" y="8682"/>
                </a:moveTo>
                <a:lnTo>
                  <a:pt x="14709" y="86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04880" y="2973240"/>
            <a:ext cx="5645160" cy="2098800"/>
          </a:xfrm>
          <a:custGeom>
            <a:avLst/>
            <a:gdLst/>
            <a:ahLst/>
            <a:rect l="l" t="t" r="r" b="b"/>
            <a:pathLst>
              <a:path w="15677" h="5830">
                <a:moveTo>
                  <a:pt x="1960" y="14064"/>
                </a:moveTo>
                <a:cubicBezTo>
                  <a:pt x="1960" y="14072"/>
                  <a:pt x="1960" y="14081"/>
                  <a:pt x="1960" y="14089"/>
                </a:cubicBezTo>
              </a:path>
              <a:path w="15677" h="5830">
                <a:moveTo>
                  <a:pt x="1960" y="14089"/>
                </a:moveTo>
                <a:lnTo>
                  <a:pt x="1960" y="14089"/>
                </a:lnTo>
              </a:path>
              <a:path w="15677" h="5830">
                <a:moveTo>
                  <a:pt x="16297" y="8458"/>
                </a:moveTo>
                <a:cubicBezTo>
                  <a:pt x="16320" y="8536"/>
                  <a:pt x="16341" y="8589"/>
                  <a:pt x="16321" y="8657"/>
                </a:cubicBezTo>
              </a:path>
              <a:path w="15677" h="5830">
                <a:moveTo>
                  <a:pt x="16594" y="8260"/>
                </a:moveTo>
                <a:cubicBezTo>
                  <a:pt x="16594" y="8399"/>
                  <a:pt x="16727" y="8330"/>
                  <a:pt x="16818" y="8285"/>
                </a:cubicBezTo>
              </a:path>
              <a:path w="15677" h="5830">
                <a:moveTo>
                  <a:pt x="16768" y="8483"/>
                </a:moveTo>
                <a:lnTo>
                  <a:pt x="16768" y="8483"/>
                </a:lnTo>
              </a:path>
              <a:path w="15677" h="5830">
                <a:moveTo>
                  <a:pt x="17264" y="8409"/>
                </a:moveTo>
                <a:cubicBezTo>
                  <a:pt x="17283" y="8466"/>
                  <a:pt x="17292" y="8473"/>
                  <a:pt x="17289" y="8508"/>
                </a:cubicBezTo>
              </a:path>
              <a:path w="15677" h="5830">
                <a:moveTo>
                  <a:pt x="16892" y="8905"/>
                </a:moveTo>
                <a:lnTo>
                  <a:pt x="16892" y="8905"/>
                </a:lnTo>
              </a:path>
              <a:path w="15677" h="5830">
                <a:moveTo>
                  <a:pt x="17636" y="9079"/>
                </a:moveTo>
                <a:lnTo>
                  <a:pt x="17636" y="90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4000" y="2867040"/>
            <a:ext cx="866880" cy="490680"/>
          </a:xfrm>
          <a:custGeom>
            <a:avLst/>
            <a:gdLst/>
            <a:ahLst/>
            <a:rect l="l" t="t" r="r" b="b"/>
            <a:pathLst>
              <a:path w="2407" h="1366">
                <a:moveTo>
                  <a:pt x="16768" y="8086"/>
                </a:moveTo>
                <a:cubicBezTo>
                  <a:pt x="16789" y="8229"/>
                  <a:pt x="16789" y="8338"/>
                  <a:pt x="16768" y="8483"/>
                </a:cubicBezTo>
              </a:path>
              <a:path w="2407" h="1366">
                <a:moveTo>
                  <a:pt x="16917" y="8111"/>
                </a:moveTo>
                <a:cubicBezTo>
                  <a:pt x="16888" y="8206"/>
                  <a:pt x="16808" y="8360"/>
                  <a:pt x="16942" y="8384"/>
                </a:cubicBezTo>
                <a:cubicBezTo>
                  <a:pt x="17073" y="8408"/>
                  <a:pt x="17095" y="8255"/>
                  <a:pt x="17041" y="8161"/>
                </a:cubicBezTo>
                <a:cubicBezTo>
                  <a:pt x="17014" y="8113"/>
                  <a:pt x="16910" y="8136"/>
                  <a:pt x="16867" y="8136"/>
                </a:cubicBezTo>
              </a:path>
              <a:path w="2407" h="1366">
                <a:moveTo>
                  <a:pt x="17562" y="8062"/>
                </a:moveTo>
                <a:cubicBezTo>
                  <a:pt x="17527" y="7993"/>
                  <a:pt x="17513" y="8194"/>
                  <a:pt x="17512" y="8235"/>
                </a:cubicBezTo>
                <a:cubicBezTo>
                  <a:pt x="17512" y="8260"/>
                  <a:pt x="17512" y="8285"/>
                  <a:pt x="17512" y="8310"/>
                </a:cubicBezTo>
                <a:cubicBezTo>
                  <a:pt x="17625" y="8326"/>
                  <a:pt x="17651" y="8359"/>
                  <a:pt x="17735" y="8285"/>
                </a:cubicBezTo>
                <a:cubicBezTo>
                  <a:pt x="17806" y="8222"/>
                  <a:pt x="17775" y="8234"/>
                  <a:pt x="17760" y="8161"/>
                </a:cubicBezTo>
                <a:cubicBezTo>
                  <a:pt x="17720" y="8186"/>
                  <a:pt x="17588" y="8263"/>
                  <a:pt x="17636" y="8334"/>
                </a:cubicBezTo>
                <a:cubicBezTo>
                  <a:pt x="17644" y="8334"/>
                  <a:pt x="17653" y="8334"/>
                  <a:pt x="17661" y="8334"/>
                </a:cubicBezTo>
              </a:path>
              <a:path w="2407" h="1366">
                <a:moveTo>
                  <a:pt x="17909" y="8037"/>
                </a:moveTo>
                <a:cubicBezTo>
                  <a:pt x="17867" y="8116"/>
                  <a:pt x="17828" y="8178"/>
                  <a:pt x="17810" y="8260"/>
                </a:cubicBezTo>
                <a:cubicBezTo>
                  <a:pt x="17881" y="8253"/>
                  <a:pt x="18055" y="8245"/>
                  <a:pt x="18058" y="8136"/>
                </a:cubicBezTo>
                <a:cubicBezTo>
                  <a:pt x="18060" y="8076"/>
                  <a:pt x="17984" y="7891"/>
                  <a:pt x="17884" y="7962"/>
                </a:cubicBezTo>
                <a:cubicBezTo>
                  <a:pt x="17884" y="7970"/>
                  <a:pt x="17884" y="7979"/>
                  <a:pt x="17884" y="7987"/>
                </a:cubicBezTo>
              </a:path>
              <a:path w="2407" h="1366">
                <a:moveTo>
                  <a:pt x="15652" y="8880"/>
                </a:moveTo>
                <a:cubicBezTo>
                  <a:pt x="15652" y="8979"/>
                  <a:pt x="15652" y="9079"/>
                  <a:pt x="15652" y="9178"/>
                </a:cubicBezTo>
              </a:path>
              <a:path w="2407" h="1366">
                <a:moveTo>
                  <a:pt x="16073" y="8781"/>
                </a:moveTo>
                <a:cubicBezTo>
                  <a:pt x="16036" y="8795"/>
                  <a:pt x="15959" y="8811"/>
                  <a:pt x="15949" y="8830"/>
                </a:cubicBezTo>
                <a:cubicBezTo>
                  <a:pt x="15933" y="8861"/>
                  <a:pt x="15913" y="8896"/>
                  <a:pt x="15900" y="8930"/>
                </a:cubicBezTo>
                <a:cubicBezTo>
                  <a:pt x="15985" y="8930"/>
                  <a:pt x="16038" y="8898"/>
                  <a:pt x="16123" y="8930"/>
                </a:cubicBezTo>
                <a:cubicBezTo>
                  <a:pt x="16285" y="8992"/>
                  <a:pt x="16089" y="9138"/>
                  <a:pt x="16024" y="9153"/>
                </a:cubicBezTo>
                <a:cubicBezTo>
                  <a:pt x="15950" y="9153"/>
                  <a:pt x="15941" y="9153"/>
                  <a:pt x="15900" y="9153"/>
                </a:cubicBezTo>
              </a:path>
              <a:path w="2407" h="1366">
                <a:moveTo>
                  <a:pt x="16421" y="9178"/>
                </a:moveTo>
                <a:cubicBezTo>
                  <a:pt x="16424" y="9190"/>
                  <a:pt x="16460" y="9381"/>
                  <a:pt x="16421" y="9302"/>
                </a:cubicBezTo>
              </a:path>
              <a:path w="2407" h="1366">
                <a:moveTo>
                  <a:pt x="16718" y="8905"/>
                </a:moveTo>
                <a:cubicBezTo>
                  <a:pt x="16776" y="8880"/>
                  <a:pt x="16870" y="8866"/>
                  <a:pt x="16793" y="8979"/>
                </a:cubicBezTo>
                <a:cubicBezTo>
                  <a:pt x="16768" y="9004"/>
                  <a:pt x="16743" y="9029"/>
                  <a:pt x="16718" y="9054"/>
                </a:cubicBezTo>
                <a:cubicBezTo>
                  <a:pt x="16778" y="9044"/>
                  <a:pt x="16954" y="8963"/>
                  <a:pt x="16867" y="9103"/>
                </a:cubicBezTo>
                <a:cubicBezTo>
                  <a:pt x="16832" y="9160"/>
                  <a:pt x="16563" y="9305"/>
                  <a:pt x="16619" y="9153"/>
                </a:cubicBezTo>
                <a:cubicBezTo>
                  <a:pt x="16636" y="9128"/>
                  <a:pt x="16652" y="9104"/>
                  <a:pt x="16669" y="9079"/>
                </a:cubicBezTo>
              </a:path>
              <a:path w="2407" h="1366">
                <a:moveTo>
                  <a:pt x="16966" y="8880"/>
                </a:moveTo>
                <a:cubicBezTo>
                  <a:pt x="16920" y="8996"/>
                  <a:pt x="16884" y="9041"/>
                  <a:pt x="16892" y="9178"/>
                </a:cubicBezTo>
                <a:cubicBezTo>
                  <a:pt x="17008" y="9163"/>
                  <a:pt x="17160" y="9141"/>
                  <a:pt x="17115" y="8979"/>
                </a:cubicBezTo>
                <a:cubicBezTo>
                  <a:pt x="17091" y="8892"/>
                  <a:pt x="16955" y="8910"/>
                  <a:pt x="16892" y="89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55000" y="1874880"/>
            <a:ext cx="571320" cy="696960"/>
          </a:xfrm>
          <a:custGeom>
            <a:avLst/>
            <a:gdLst/>
            <a:ahLst/>
            <a:rect l="l" t="t" r="r" b="b"/>
            <a:pathLst>
              <a:path w="1588" h="1936">
                <a:moveTo>
                  <a:pt x="22820" y="5655"/>
                </a:moveTo>
                <a:cubicBezTo>
                  <a:pt x="22852" y="5782"/>
                  <a:pt x="22907" y="5895"/>
                  <a:pt x="22920" y="6028"/>
                </a:cubicBezTo>
                <a:cubicBezTo>
                  <a:pt x="22920" y="6052"/>
                  <a:pt x="22920" y="6060"/>
                  <a:pt x="22920" y="6028"/>
                </a:cubicBezTo>
              </a:path>
              <a:path w="1588" h="1936">
                <a:moveTo>
                  <a:pt x="23168" y="5556"/>
                </a:moveTo>
                <a:cubicBezTo>
                  <a:pt x="23248" y="5556"/>
                  <a:pt x="23312" y="5543"/>
                  <a:pt x="23391" y="5531"/>
                </a:cubicBezTo>
                <a:cubicBezTo>
                  <a:pt x="23399" y="5531"/>
                  <a:pt x="23408" y="5531"/>
                  <a:pt x="23416" y="5531"/>
                </a:cubicBezTo>
                <a:cubicBezTo>
                  <a:pt x="23454" y="5648"/>
                  <a:pt x="23469" y="5850"/>
                  <a:pt x="23416" y="5978"/>
                </a:cubicBezTo>
                <a:cubicBezTo>
                  <a:pt x="23408" y="5978"/>
                  <a:pt x="23399" y="5978"/>
                  <a:pt x="23391" y="5978"/>
                </a:cubicBezTo>
              </a:path>
              <a:path w="1588" h="1936">
                <a:moveTo>
                  <a:pt x="22870" y="6226"/>
                </a:moveTo>
                <a:cubicBezTo>
                  <a:pt x="23024" y="6250"/>
                  <a:pt x="23253" y="6229"/>
                  <a:pt x="23416" y="6201"/>
                </a:cubicBezTo>
                <a:cubicBezTo>
                  <a:pt x="23491" y="6188"/>
                  <a:pt x="23456" y="6156"/>
                  <a:pt x="23515" y="6201"/>
                </a:cubicBezTo>
              </a:path>
              <a:path w="1588" h="1936">
                <a:moveTo>
                  <a:pt x="22870" y="6474"/>
                </a:moveTo>
                <a:cubicBezTo>
                  <a:pt x="22870" y="6400"/>
                  <a:pt x="22822" y="6704"/>
                  <a:pt x="22820" y="6722"/>
                </a:cubicBezTo>
                <a:cubicBezTo>
                  <a:pt x="22820" y="6796"/>
                  <a:pt x="22820" y="6805"/>
                  <a:pt x="22820" y="6846"/>
                </a:cubicBezTo>
                <a:cubicBezTo>
                  <a:pt x="23010" y="6871"/>
                  <a:pt x="23120" y="6849"/>
                  <a:pt x="23217" y="6672"/>
                </a:cubicBezTo>
                <a:cubicBezTo>
                  <a:pt x="23217" y="6648"/>
                  <a:pt x="23217" y="6639"/>
                  <a:pt x="23217" y="6623"/>
                </a:cubicBezTo>
                <a:cubicBezTo>
                  <a:pt x="23103" y="6658"/>
                  <a:pt x="23015" y="6717"/>
                  <a:pt x="22969" y="6846"/>
                </a:cubicBezTo>
                <a:cubicBezTo>
                  <a:pt x="22969" y="6854"/>
                  <a:pt x="22969" y="6863"/>
                  <a:pt x="22969" y="6871"/>
                </a:cubicBezTo>
              </a:path>
              <a:path w="1588" h="1936">
                <a:moveTo>
                  <a:pt x="23391" y="6449"/>
                </a:moveTo>
                <a:cubicBezTo>
                  <a:pt x="23317" y="6474"/>
                  <a:pt x="23282" y="6613"/>
                  <a:pt x="23267" y="6697"/>
                </a:cubicBezTo>
                <a:cubicBezTo>
                  <a:pt x="23267" y="6722"/>
                  <a:pt x="23267" y="6747"/>
                  <a:pt x="23267" y="6772"/>
                </a:cubicBezTo>
                <a:cubicBezTo>
                  <a:pt x="23383" y="6828"/>
                  <a:pt x="23574" y="6827"/>
                  <a:pt x="23664" y="6697"/>
                </a:cubicBezTo>
                <a:cubicBezTo>
                  <a:pt x="23685" y="6590"/>
                  <a:pt x="23693" y="6566"/>
                  <a:pt x="23688" y="6499"/>
                </a:cubicBezTo>
                <a:cubicBezTo>
                  <a:pt x="23575" y="6464"/>
                  <a:pt x="23502" y="6436"/>
                  <a:pt x="23391" y="6474"/>
                </a:cubicBezTo>
              </a:path>
              <a:path w="1588" h="1936">
                <a:moveTo>
                  <a:pt x="22622" y="5407"/>
                </a:moveTo>
                <a:cubicBezTo>
                  <a:pt x="22606" y="5561"/>
                  <a:pt x="22624" y="5669"/>
                  <a:pt x="22647" y="5829"/>
                </a:cubicBezTo>
                <a:cubicBezTo>
                  <a:pt x="22680" y="6057"/>
                  <a:pt x="22696" y="6268"/>
                  <a:pt x="22696" y="6499"/>
                </a:cubicBezTo>
                <a:cubicBezTo>
                  <a:pt x="22696" y="6644"/>
                  <a:pt x="22751" y="6811"/>
                  <a:pt x="22746" y="6945"/>
                </a:cubicBezTo>
                <a:cubicBezTo>
                  <a:pt x="22744" y="6988"/>
                  <a:pt x="22734" y="7008"/>
                  <a:pt x="22721" y="7045"/>
                </a:cubicBezTo>
                <a:cubicBezTo>
                  <a:pt x="22713" y="7061"/>
                  <a:pt x="22704" y="7078"/>
                  <a:pt x="22696" y="7094"/>
                </a:cubicBezTo>
                <a:cubicBezTo>
                  <a:pt x="22728" y="7107"/>
                  <a:pt x="22766" y="7136"/>
                  <a:pt x="22845" y="7144"/>
                </a:cubicBezTo>
                <a:cubicBezTo>
                  <a:pt x="23077" y="7168"/>
                  <a:pt x="23340" y="7147"/>
                  <a:pt x="23564" y="7119"/>
                </a:cubicBezTo>
                <a:cubicBezTo>
                  <a:pt x="23647" y="7109"/>
                  <a:pt x="23739" y="7132"/>
                  <a:pt x="23788" y="7094"/>
                </a:cubicBezTo>
                <a:cubicBezTo>
                  <a:pt x="23832" y="7061"/>
                  <a:pt x="23797" y="7048"/>
                  <a:pt x="23812" y="6970"/>
                </a:cubicBezTo>
                <a:cubicBezTo>
                  <a:pt x="23848" y="6784"/>
                  <a:pt x="23954" y="6613"/>
                  <a:pt x="23961" y="6424"/>
                </a:cubicBezTo>
                <a:cubicBezTo>
                  <a:pt x="23970" y="6183"/>
                  <a:pt x="23957" y="5943"/>
                  <a:pt x="23937" y="5705"/>
                </a:cubicBezTo>
                <a:cubicBezTo>
                  <a:pt x="23928" y="5602"/>
                  <a:pt x="23898" y="5499"/>
                  <a:pt x="23862" y="5407"/>
                </a:cubicBezTo>
                <a:cubicBezTo>
                  <a:pt x="23842" y="5356"/>
                  <a:pt x="23857" y="5357"/>
                  <a:pt x="23837" y="5308"/>
                </a:cubicBezTo>
                <a:cubicBezTo>
                  <a:pt x="23823" y="5275"/>
                  <a:pt x="23798" y="5269"/>
                  <a:pt x="23788" y="5234"/>
                </a:cubicBezTo>
                <a:cubicBezTo>
                  <a:pt x="23788" y="5226"/>
                  <a:pt x="23788" y="5217"/>
                  <a:pt x="23788" y="5209"/>
                </a:cubicBezTo>
                <a:cubicBezTo>
                  <a:pt x="23672" y="5220"/>
                  <a:pt x="23557" y="5256"/>
                  <a:pt x="23440" y="5283"/>
                </a:cubicBezTo>
                <a:cubicBezTo>
                  <a:pt x="23335" y="5307"/>
                  <a:pt x="23219" y="5309"/>
                  <a:pt x="23118" y="5333"/>
                </a:cubicBezTo>
                <a:cubicBezTo>
                  <a:pt x="23034" y="5353"/>
                  <a:pt x="22956" y="5341"/>
                  <a:pt x="22870" y="5358"/>
                </a:cubicBezTo>
                <a:cubicBezTo>
                  <a:pt x="22776" y="5376"/>
                  <a:pt x="22670" y="5398"/>
                  <a:pt x="22572" y="5407"/>
                </a:cubicBezTo>
                <a:cubicBezTo>
                  <a:pt x="22537" y="5410"/>
                  <a:pt x="22420" y="5405"/>
                  <a:pt x="22399" y="5432"/>
                </a:cubicBezTo>
                <a:cubicBezTo>
                  <a:pt x="22365" y="5466"/>
                  <a:pt x="22357" y="5487"/>
                  <a:pt x="22374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46800" y="2054160"/>
            <a:ext cx="1224000" cy="1231920"/>
          </a:xfrm>
          <a:custGeom>
            <a:avLst/>
            <a:gdLst/>
            <a:ahLst/>
            <a:rect l="l" t="t" r="r" b="b"/>
            <a:pathLst>
              <a:path w="3399" h="3424">
                <a:moveTo>
                  <a:pt x="15180" y="8954"/>
                </a:moveTo>
                <a:cubicBezTo>
                  <a:pt x="15180" y="8946"/>
                  <a:pt x="15180" y="8938"/>
                  <a:pt x="15180" y="8930"/>
                </a:cubicBezTo>
              </a:path>
              <a:path w="3399" h="3424">
                <a:moveTo>
                  <a:pt x="15205" y="9128"/>
                </a:moveTo>
                <a:cubicBezTo>
                  <a:pt x="15197" y="9128"/>
                  <a:pt x="15188" y="9128"/>
                  <a:pt x="15180" y="9128"/>
                </a:cubicBezTo>
              </a:path>
              <a:path w="3399" h="3424">
                <a:moveTo>
                  <a:pt x="15180" y="9128"/>
                </a:moveTo>
                <a:lnTo>
                  <a:pt x="15180" y="9128"/>
                </a:lnTo>
              </a:path>
              <a:path w="3399" h="3424">
                <a:moveTo>
                  <a:pt x="15131" y="8310"/>
                </a:moveTo>
                <a:cubicBezTo>
                  <a:pt x="15131" y="8302"/>
                  <a:pt x="15131" y="8293"/>
                  <a:pt x="15131" y="8285"/>
                </a:cubicBezTo>
              </a:path>
              <a:path w="3399" h="3424">
                <a:moveTo>
                  <a:pt x="15156" y="8508"/>
                </a:moveTo>
                <a:lnTo>
                  <a:pt x="15156" y="8508"/>
                </a:lnTo>
                <a:lnTo>
                  <a:pt x="15156" y="8508"/>
                </a:lnTo>
                <a:lnTo>
                  <a:pt x="15156" y="8508"/>
                </a:lnTo>
              </a:path>
              <a:path w="3399" h="3424">
                <a:moveTo>
                  <a:pt x="15156" y="8508"/>
                </a:moveTo>
                <a:lnTo>
                  <a:pt x="15156" y="8508"/>
                </a:lnTo>
              </a:path>
              <a:path w="3399" h="3424">
                <a:moveTo>
                  <a:pt x="18529" y="5705"/>
                </a:moveTo>
                <a:lnTo>
                  <a:pt x="18529" y="57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89680" y="2901960"/>
            <a:ext cx="706320" cy="482760"/>
          </a:xfrm>
          <a:custGeom>
            <a:avLst/>
            <a:gdLst/>
            <a:ahLst/>
            <a:rect l="l" t="t" r="r" b="b"/>
            <a:pathLst>
              <a:path w="1960" h="1340">
                <a:moveTo>
                  <a:pt x="14412" y="8235"/>
                </a:moveTo>
                <a:cubicBezTo>
                  <a:pt x="14412" y="8223"/>
                  <a:pt x="14377" y="8255"/>
                  <a:pt x="14436" y="8210"/>
                </a:cubicBezTo>
                <a:cubicBezTo>
                  <a:pt x="14613" y="8075"/>
                  <a:pt x="14507" y="8422"/>
                  <a:pt x="14486" y="8458"/>
                </a:cubicBezTo>
                <a:cubicBezTo>
                  <a:pt x="14401" y="8601"/>
                  <a:pt x="14311" y="8667"/>
                  <a:pt x="14163" y="8632"/>
                </a:cubicBezTo>
                <a:cubicBezTo>
                  <a:pt x="14155" y="8632"/>
                  <a:pt x="14147" y="8632"/>
                  <a:pt x="14139" y="8632"/>
                </a:cubicBezTo>
                <a:cubicBezTo>
                  <a:pt x="14185" y="8540"/>
                  <a:pt x="14315" y="8439"/>
                  <a:pt x="14436" y="8483"/>
                </a:cubicBezTo>
                <a:cubicBezTo>
                  <a:pt x="14463" y="8493"/>
                  <a:pt x="14526" y="8612"/>
                  <a:pt x="14536" y="8632"/>
                </a:cubicBezTo>
              </a:path>
              <a:path w="1960" h="1340">
                <a:moveTo>
                  <a:pt x="14759" y="8285"/>
                </a:moveTo>
                <a:cubicBezTo>
                  <a:pt x="14691" y="8398"/>
                  <a:pt x="14595" y="8533"/>
                  <a:pt x="14635" y="8632"/>
                </a:cubicBezTo>
                <a:cubicBezTo>
                  <a:pt x="14814" y="8609"/>
                  <a:pt x="14945" y="8555"/>
                  <a:pt x="14908" y="8334"/>
                </a:cubicBezTo>
                <a:cubicBezTo>
                  <a:pt x="14882" y="8177"/>
                  <a:pt x="14797" y="8201"/>
                  <a:pt x="14709" y="8260"/>
                </a:cubicBezTo>
              </a:path>
              <a:path w="1960" h="1340">
                <a:moveTo>
                  <a:pt x="14412" y="8880"/>
                </a:moveTo>
                <a:cubicBezTo>
                  <a:pt x="14340" y="8952"/>
                  <a:pt x="14326" y="9126"/>
                  <a:pt x="14312" y="9227"/>
                </a:cubicBezTo>
                <a:cubicBezTo>
                  <a:pt x="14286" y="9417"/>
                  <a:pt x="14299" y="9324"/>
                  <a:pt x="14412" y="9203"/>
                </a:cubicBezTo>
              </a:path>
              <a:path w="1960" h="1340">
                <a:moveTo>
                  <a:pt x="14908" y="8880"/>
                </a:moveTo>
                <a:cubicBezTo>
                  <a:pt x="14852" y="8903"/>
                  <a:pt x="14743" y="8905"/>
                  <a:pt x="14709" y="8954"/>
                </a:cubicBezTo>
                <a:cubicBezTo>
                  <a:pt x="14671" y="9008"/>
                  <a:pt x="14667" y="9066"/>
                  <a:pt x="14660" y="9128"/>
                </a:cubicBezTo>
                <a:cubicBezTo>
                  <a:pt x="14739" y="9117"/>
                  <a:pt x="14860" y="9063"/>
                  <a:pt x="14932" y="9128"/>
                </a:cubicBezTo>
                <a:cubicBezTo>
                  <a:pt x="15086" y="9268"/>
                  <a:pt x="14777" y="9378"/>
                  <a:pt x="14684" y="9401"/>
                </a:cubicBezTo>
                <a:cubicBezTo>
                  <a:pt x="14609" y="9401"/>
                  <a:pt x="14584" y="9400"/>
                  <a:pt x="14635" y="9327"/>
                </a:cubicBezTo>
              </a:path>
              <a:path w="1960" h="1340">
                <a:moveTo>
                  <a:pt x="15701" y="8086"/>
                </a:moveTo>
                <a:cubicBezTo>
                  <a:pt x="15680" y="8043"/>
                  <a:pt x="15637" y="8144"/>
                  <a:pt x="15602" y="8186"/>
                </a:cubicBezTo>
                <a:cubicBezTo>
                  <a:pt x="15702" y="8110"/>
                  <a:pt x="15818" y="8214"/>
                  <a:pt x="15751" y="8359"/>
                </a:cubicBezTo>
                <a:cubicBezTo>
                  <a:pt x="15688" y="8495"/>
                  <a:pt x="15580" y="8526"/>
                  <a:pt x="15453" y="8558"/>
                </a:cubicBezTo>
                <a:cubicBezTo>
                  <a:pt x="15453" y="8467"/>
                  <a:pt x="15500" y="8434"/>
                  <a:pt x="15602" y="8458"/>
                </a:cubicBezTo>
                <a:cubicBezTo>
                  <a:pt x="15648" y="8469"/>
                  <a:pt x="15695" y="8523"/>
                  <a:pt x="15726" y="8533"/>
                </a:cubicBezTo>
              </a:path>
              <a:path w="1960" h="1340">
                <a:moveTo>
                  <a:pt x="15999" y="8186"/>
                </a:moveTo>
                <a:cubicBezTo>
                  <a:pt x="15933" y="8284"/>
                  <a:pt x="15888" y="8300"/>
                  <a:pt x="15875" y="8434"/>
                </a:cubicBezTo>
                <a:cubicBezTo>
                  <a:pt x="16002" y="8454"/>
                  <a:pt x="16098" y="8424"/>
                  <a:pt x="16098" y="8260"/>
                </a:cubicBezTo>
                <a:cubicBezTo>
                  <a:pt x="16098" y="8143"/>
                  <a:pt x="16061" y="8136"/>
                  <a:pt x="15974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16800" y="1938240"/>
            <a:ext cx="71280" cy="115920"/>
          </a:xfrm>
          <a:custGeom>
            <a:avLst/>
            <a:gdLst/>
            <a:ahLst/>
            <a:rect l="l" t="t" r="r" b="b"/>
            <a:pathLst>
              <a:path w="200" h="323">
                <a:moveTo>
                  <a:pt x="18380" y="5482"/>
                </a:moveTo>
                <a:cubicBezTo>
                  <a:pt x="18391" y="5536"/>
                  <a:pt x="18395" y="5591"/>
                  <a:pt x="18455" y="5606"/>
                </a:cubicBezTo>
                <a:cubicBezTo>
                  <a:pt x="18510" y="5620"/>
                  <a:pt x="18541" y="5586"/>
                  <a:pt x="18579" y="5556"/>
                </a:cubicBezTo>
              </a:path>
              <a:path w="200" h="323">
                <a:moveTo>
                  <a:pt x="18579" y="5383"/>
                </a:moveTo>
                <a:cubicBezTo>
                  <a:pt x="18553" y="5492"/>
                  <a:pt x="18529" y="5592"/>
                  <a:pt x="18529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24840" y="2017800"/>
            <a:ext cx="187200" cy="29520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20365" y="5755"/>
                </a:moveTo>
                <a:cubicBezTo>
                  <a:pt x="20398" y="5669"/>
                  <a:pt x="20343" y="5645"/>
                  <a:pt x="20265" y="5606"/>
                </a:cubicBezTo>
                <a:cubicBezTo>
                  <a:pt x="20180" y="5648"/>
                  <a:pt x="20060" y="5830"/>
                  <a:pt x="20191" y="5928"/>
                </a:cubicBezTo>
                <a:cubicBezTo>
                  <a:pt x="20291" y="6003"/>
                  <a:pt x="20389" y="5790"/>
                  <a:pt x="20414" y="5755"/>
                </a:cubicBezTo>
                <a:cubicBezTo>
                  <a:pt x="20422" y="5738"/>
                  <a:pt x="20431" y="5722"/>
                  <a:pt x="20439" y="5705"/>
                </a:cubicBezTo>
                <a:cubicBezTo>
                  <a:pt x="20439" y="5891"/>
                  <a:pt x="20429" y="6067"/>
                  <a:pt x="20414" y="6251"/>
                </a:cubicBezTo>
                <a:cubicBezTo>
                  <a:pt x="20414" y="6267"/>
                  <a:pt x="20414" y="6284"/>
                  <a:pt x="20414" y="6300"/>
                </a:cubicBezTo>
              </a:path>
              <a:path w="522" h="819">
                <a:moveTo>
                  <a:pt x="20067" y="6424"/>
                </a:moveTo>
                <a:cubicBezTo>
                  <a:pt x="20237" y="6400"/>
                  <a:pt x="20399" y="6343"/>
                  <a:pt x="20563" y="6300"/>
                </a:cubicBezTo>
                <a:cubicBezTo>
                  <a:pt x="20623" y="6284"/>
                  <a:pt x="20568" y="6364"/>
                  <a:pt x="2056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68800" y="1963800"/>
            <a:ext cx="4813200" cy="536400"/>
          </a:xfrm>
          <a:custGeom>
            <a:avLst/>
            <a:gdLst/>
            <a:ahLst/>
            <a:rect l="l" t="t" r="r" b="b"/>
            <a:pathLst>
              <a:path w="13370" h="1489">
                <a:moveTo>
                  <a:pt x="9103" y="6499"/>
                </a:moveTo>
                <a:lnTo>
                  <a:pt x="9103" y="6499"/>
                </a:lnTo>
                <a:lnTo>
                  <a:pt x="9103" y="6499"/>
                </a:lnTo>
              </a:path>
              <a:path w="13370" h="1489">
                <a:moveTo>
                  <a:pt x="9103" y="6499"/>
                </a:moveTo>
                <a:lnTo>
                  <a:pt x="9103" y="6499"/>
                </a:lnTo>
              </a:path>
              <a:path w="13370" h="1489">
                <a:moveTo>
                  <a:pt x="9079" y="6772"/>
                </a:moveTo>
                <a:lnTo>
                  <a:pt x="9079" y="6772"/>
                </a:lnTo>
              </a:path>
              <a:path w="13370" h="1489">
                <a:moveTo>
                  <a:pt x="9823" y="6325"/>
                </a:moveTo>
                <a:lnTo>
                  <a:pt x="9823" y="6325"/>
                </a:lnTo>
              </a:path>
              <a:path w="13370" h="1489">
                <a:moveTo>
                  <a:pt x="16520" y="6896"/>
                </a:moveTo>
                <a:lnTo>
                  <a:pt x="16520" y="6896"/>
                </a:lnTo>
              </a:path>
              <a:path w="13370" h="1489">
                <a:moveTo>
                  <a:pt x="16346" y="5680"/>
                </a:moveTo>
                <a:lnTo>
                  <a:pt x="16346" y="5680"/>
                </a:lnTo>
              </a:path>
              <a:path w="13370" h="1489">
                <a:moveTo>
                  <a:pt x="20563" y="6375"/>
                </a:moveTo>
                <a:lnTo>
                  <a:pt x="20563" y="6375"/>
                </a:lnTo>
              </a:path>
              <a:path w="13370" h="1489">
                <a:moveTo>
                  <a:pt x="18157" y="6747"/>
                </a:moveTo>
                <a:cubicBezTo>
                  <a:pt x="18209" y="6757"/>
                  <a:pt x="18256" y="6775"/>
                  <a:pt x="18306" y="6796"/>
                </a:cubicBezTo>
              </a:path>
              <a:path w="13370" h="1489">
                <a:moveTo>
                  <a:pt x="18306" y="6722"/>
                </a:moveTo>
                <a:cubicBezTo>
                  <a:pt x="18265" y="6763"/>
                  <a:pt x="18220" y="6793"/>
                  <a:pt x="18207" y="6846"/>
                </a:cubicBezTo>
              </a:path>
              <a:path w="13370" h="1489">
                <a:moveTo>
                  <a:pt x="18207" y="6846"/>
                </a:moveTo>
                <a:lnTo>
                  <a:pt x="18207" y="6846"/>
                </a:lnTo>
              </a:path>
              <a:path w="13370" h="1489">
                <a:moveTo>
                  <a:pt x="18678" y="6945"/>
                </a:moveTo>
                <a:lnTo>
                  <a:pt x="18678" y="6945"/>
                </a:lnTo>
              </a:path>
              <a:path w="13370" h="1489">
                <a:moveTo>
                  <a:pt x="18207" y="5457"/>
                </a:moveTo>
                <a:cubicBezTo>
                  <a:pt x="18174" y="5523"/>
                  <a:pt x="18109" y="5578"/>
                  <a:pt x="18083" y="5655"/>
                </a:cubicBezTo>
              </a:path>
              <a:path w="13370" h="1489">
                <a:moveTo>
                  <a:pt x="18083" y="5655"/>
                </a:moveTo>
                <a:lnTo>
                  <a:pt x="18083" y="5655"/>
                </a:lnTo>
              </a:path>
              <a:path w="13370" h="1489">
                <a:moveTo>
                  <a:pt x="22448" y="6375"/>
                </a:moveTo>
                <a:lnTo>
                  <a:pt x="22448" y="63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7880" y="209880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5135" y="6449"/>
                </a:moveTo>
                <a:cubicBezTo>
                  <a:pt x="5178" y="6486"/>
                  <a:pt x="5229" y="6518"/>
                  <a:pt x="5283" y="6548"/>
                </a:cubicBezTo>
                <a:cubicBezTo>
                  <a:pt x="5362" y="6591"/>
                  <a:pt x="5469" y="6573"/>
                  <a:pt x="5556" y="6573"/>
                </a:cubicBezTo>
                <a:cubicBezTo>
                  <a:pt x="5644" y="6573"/>
                  <a:pt x="5701" y="6530"/>
                  <a:pt x="5779" y="6499"/>
                </a:cubicBezTo>
                <a:cubicBezTo>
                  <a:pt x="5883" y="6458"/>
                  <a:pt x="5889" y="6402"/>
                  <a:pt x="5953" y="6325"/>
                </a:cubicBezTo>
                <a:cubicBezTo>
                  <a:pt x="5994" y="6275"/>
                  <a:pt x="6044" y="6175"/>
                  <a:pt x="6028" y="6102"/>
                </a:cubicBezTo>
                <a:cubicBezTo>
                  <a:pt x="6014" y="6039"/>
                  <a:pt x="5992" y="5960"/>
                  <a:pt x="5953" y="5904"/>
                </a:cubicBezTo>
                <a:cubicBezTo>
                  <a:pt x="5891" y="5816"/>
                  <a:pt x="5746" y="5832"/>
                  <a:pt x="5655" y="5829"/>
                </a:cubicBezTo>
                <a:cubicBezTo>
                  <a:pt x="5532" y="5825"/>
                  <a:pt x="5474" y="5861"/>
                  <a:pt x="5383" y="5928"/>
                </a:cubicBezTo>
                <a:cubicBezTo>
                  <a:pt x="5285" y="6000"/>
                  <a:pt x="5249" y="6062"/>
                  <a:pt x="5209" y="6176"/>
                </a:cubicBezTo>
                <a:cubicBezTo>
                  <a:pt x="5178" y="6265"/>
                  <a:pt x="5178" y="6320"/>
                  <a:pt x="5209" y="6400"/>
                </a:cubicBezTo>
                <a:cubicBezTo>
                  <a:pt x="5231" y="6456"/>
                  <a:pt x="5269" y="6545"/>
                  <a:pt x="5333" y="6573"/>
                </a:cubicBezTo>
                <a:cubicBezTo>
                  <a:pt x="5432" y="6617"/>
                  <a:pt x="5524" y="6623"/>
                  <a:pt x="5631" y="6623"/>
                </a:cubicBezTo>
                <a:cubicBezTo>
                  <a:pt x="5707" y="6623"/>
                  <a:pt x="5785" y="6621"/>
                  <a:pt x="5854" y="6598"/>
                </a:cubicBezTo>
                <a:cubicBezTo>
                  <a:pt x="5948" y="6567"/>
                  <a:pt x="6022" y="6528"/>
                  <a:pt x="6077" y="6449"/>
                </a:cubicBezTo>
                <a:cubicBezTo>
                  <a:pt x="6125" y="6381"/>
                  <a:pt x="6127" y="6325"/>
                  <a:pt x="6102" y="6251"/>
                </a:cubicBezTo>
                <a:cubicBezTo>
                  <a:pt x="6078" y="6181"/>
                  <a:pt x="6065" y="6106"/>
                  <a:pt x="6003" y="6052"/>
                </a:cubicBezTo>
                <a:cubicBezTo>
                  <a:pt x="5930" y="5988"/>
                  <a:pt x="5847" y="5967"/>
                  <a:pt x="5755" y="5953"/>
                </a:cubicBezTo>
                <a:cubicBezTo>
                  <a:pt x="5682" y="5942"/>
                  <a:pt x="5619" y="5937"/>
                  <a:pt x="5556" y="5953"/>
                </a:cubicBezTo>
                <a:cubicBezTo>
                  <a:pt x="5436" y="5983"/>
                  <a:pt x="5358" y="6004"/>
                  <a:pt x="5283" y="6102"/>
                </a:cubicBezTo>
                <a:cubicBezTo>
                  <a:pt x="5232" y="6169"/>
                  <a:pt x="5203" y="6314"/>
                  <a:pt x="5234" y="6400"/>
                </a:cubicBezTo>
                <a:cubicBezTo>
                  <a:pt x="5262" y="6476"/>
                  <a:pt x="5342" y="6576"/>
                  <a:pt x="5407" y="6623"/>
                </a:cubicBezTo>
                <a:cubicBezTo>
                  <a:pt x="5469" y="6668"/>
                  <a:pt x="5683" y="6671"/>
                  <a:pt x="5755" y="6648"/>
                </a:cubicBezTo>
                <a:cubicBezTo>
                  <a:pt x="5844" y="6619"/>
                  <a:pt x="5967" y="6547"/>
                  <a:pt x="6028" y="6474"/>
                </a:cubicBezTo>
                <a:cubicBezTo>
                  <a:pt x="6116" y="6369"/>
                  <a:pt x="6147" y="6258"/>
                  <a:pt x="6152" y="6127"/>
                </a:cubicBezTo>
                <a:cubicBezTo>
                  <a:pt x="6154" y="6066"/>
                  <a:pt x="6034" y="5948"/>
                  <a:pt x="5978" y="5904"/>
                </a:cubicBezTo>
                <a:cubicBezTo>
                  <a:pt x="5895" y="5840"/>
                  <a:pt x="5753" y="5833"/>
                  <a:pt x="5655" y="5829"/>
                </a:cubicBezTo>
                <a:cubicBezTo>
                  <a:pt x="5590" y="5826"/>
                  <a:pt x="5483" y="5863"/>
                  <a:pt x="5432" y="5904"/>
                </a:cubicBezTo>
                <a:cubicBezTo>
                  <a:pt x="5315" y="5996"/>
                  <a:pt x="5255" y="6133"/>
                  <a:pt x="5234" y="6276"/>
                </a:cubicBezTo>
                <a:cubicBezTo>
                  <a:pt x="5216" y="6397"/>
                  <a:pt x="5249" y="6455"/>
                  <a:pt x="5308" y="6548"/>
                </a:cubicBezTo>
                <a:cubicBezTo>
                  <a:pt x="5369" y="6644"/>
                  <a:pt x="5424" y="6658"/>
                  <a:pt x="5556" y="6672"/>
                </a:cubicBezTo>
                <a:cubicBezTo>
                  <a:pt x="5708" y="6688"/>
                  <a:pt x="5822" y="6613"/>
                  <a:pt x="5953" y="6548"/>
                </a:cubicBezTo>
                <a:cubicBezTo>
                  <a:pt x="6068" y="6491"/>
                  <a:pt x="6075" y="6339"/>
                  <a:pt x="6102" y="6226"/>
                </a:cubicBezTo>
                <a:cubicBezTo>
                  <a:pt x="6125" y="6131"/>
                  <a:pt x="6152" y="5997"/>
                  <a:pt x="6052" y="5928"/>
                </a:cubicBezTo>
                <a:cubicBezTo>
                  <a:pt x="5952" y="5859"/>
                  <a:pt x="5788" y="5858"/>
                  <a:pt x="5680" y="5879"/>
                </a:cubicBezTo>
                <a:cubicBezTo>
                  <a:pt x="5546" y="5905"/>
                  <a:pt x="5510" y="5945"/>
                  <a:pt x="5432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57680" y="1884240"/>
            <a:ext cx="1081080" cy="652680"/>
          </a:xfrm>
          <a:custGeom>
            <a:avLst/>
            <a:gdLst/>
            <a:ahLst/>
            <a:rect l="l" t="t" r="r" b="b"/>
            <a:pathLst>
              <a:path w="3002" h="1812">
                <a:moveTo>
                  <a:pt x="8582" y="5457"/>
                </a:moveTo>
                <a:cubicBezTo>
                  <a:pt x="8582" y="5435"/>
                  <a:pt x="8573" y="5365"/>
                  <a:pt x="8558" y="5358"/>
                </a:cubicBezTo>
                <a:cubicBezTo>
                  <a:pt x="8442" y="5308"/>
                  <a:pt x="8259" y="5361"/>
                  <a:pt x="8161" y="5432"/>
                </a:cubicBezTo>
                <a:cubicBezTo>
                  <a:pt x="8110" y="5469"/>
                  <a:pt x="8075" y="5504"/>
                  <a:pt x="8062" y="5556"/>
                </a:cubicBezTo>
                <a:cubicBezTo>
                  <a:pt x="8192" y="5602"/>
                  <a:pt x="8434" y="5626"/>
                  <a:pt x="8533" y="5730"/>
                </a:cubicBezTo>
                <a:cubicBezTo>
                  <a:pt x="8648" y="5850"/>
                  <a:pt x="8499" y="5949"/>
                  <a:pt x="8409" y="5978"/>
                </a:cubicBezTo>
                <a:cubicBezTo>
                  <a:pt x="8283" y="6019"/>
                  <a:pt x="8247" y="6015"/>
                  <a:pt x="8161" y="5928"/>
                </a:cubicBezTo>
                <a:cubicBezTo>
                  <a:pt x="8220" y="5810"/>
                  <a:pt x="8274" y="5802"/>
                  <a:pt x="8384" y="5730"/>
                </a:cubicBezTo>
                <a:cubicBezTo>
                  <a:pt x="8479" y="5668"/>
                  <a:pt x="8562" y="5613"/>
                  <a:pt x="8632" y="5531"/>
                </a:cubicBezTo>
                <a:cubicBezTo>
                  <a:pt x="8694" y="5458"/>
                  <a:pt x="8591" y="5437"/>
                  <a:pt x="8533" y="5432"/>
                </a:cubicBezTo>
                <a:cubicBezTo>
                  <a:pt x="8508" y="5432"/>
                  <a:pt x="8500" y="5432"/>
                  <a:pt x="8508" y="5457"/>
                </a:cubicBezTo>
              </a:path>
              <a:path w="3002" h="1812">
                <a:moveTo>
                  <a:pt x="7938" y="6325"/>
                </a:moveTo>
                <a:cubicBezTo>
                  <a:pt x="8017" y="6276"/>
                  <a:pt x="8115" y="6313"/>
                  <a:pt x="8210" y="6300"/>
                </a:cubicBezTo>
                <a:cubicBezTo>
                  <a:pt x="8320" y="6285"/>
                  <a:pt x="8420" y="6276"/>
                  <a:pt x="8533" y="6276"/>
                </a:cubicBezTo>
                <a:cubicBezTo>
                  <a:pt x="8590" y="6276"/>
                  <a:pt x="8660" y="6259"/>
                  <a:pt x="8682" y="6251"/>
                </a:cubicBezTo>
                <a:cubicBezTo>
                  <a:pt x="8721" y="6236"/>
                  <a:pt x="8787" y="6251"/>
                  <a:pt x="8830" y="6251"/>
                </a:cubicBezTo>
              </a:path>
              <a:path w="3002" h="1812">
                <a:moveTo>
                  <a:pt x="8012" y="6499"/>
                </a:moveTo>
                <a:cubicBezTo>
                  <a:pt x="7997" y="6601"/>
                  <a:pt x="7987" y="6692"/>
                  <a:pt x="7987" y="6796"/>
                </a:cubicBezTo>
                <a:cubicBezTo>
                  <a:pt x="7987" y="6846"/>
                  <a:pt x="7987" y="6946"/>
                  <a:pt x="7987" y="6896"/>
                </a:cubicBezTo>
              </a:path>
              <a:path w="3002" h="1812">
                <a:moveTo>
                  <a:pt x="8285" y="6499"/>
                </a:moveTo>
                <a:cubicBezTo>
                  <a:pt x="8285" y="6579"/>
                  <a:pt x="8273" y="6655"/>
                  <a:pt x="8260" y="6722"/>
                </a:cubicBezTo>
                <a:cubicBezTo>
                  <a:pt x="8254" y="6754"/>
                  <a:pt x="8249" y="6828"/>
                  <a:pt x="8285" y="6846"/>
                </a:cubicBezTo>
                <a:cubicBezTo>
                  <a:pt x="8344" y="6876"/>
                  <a:pt x="8416" y="6871"/>
                  <a:pt x="8483" y="6871"/>
                </a:cubicBezTo>
                <a:cubicBezTo>
                  <a:pt x="8550" y="6871"/>
                  <a:pt x="8578" y="6842"/>
                  <a:pt x="8607" y="6821"/>
                </a:cubicBezTo>
                <a:cubicBezTo>
                  <a:pt x="8647" y="6792"/>
                  <a:pt x="8707" y="6801"/>
                  <a:pt x="8731" y="6747"/>
                </a:cubicBezTo>
                <a:cubicBezTo>
                  <a:pt x="8749" y="6705"/>
                  <a:pt x="8729" y="6659"/>
                  <a:pt x="8706" y="6648"/>
                </a:cubicBezTo>
                <a:cubicBezTo>
                  <a:pt x="8652" y="6623"/>
                  <a:pt x="8616" y="6623"/>
                  <a:pt x="8558" y="6623"/>
                </a:cubicBezTo>
                <a:cubicBezTo>
                  <a:pt x="8515" y="6623"/>
                  <a:pt x="8486" y="6635"/>
                  <a:pt x="8483" y="6672"/>
                </a:cubicBezTo>
                <a:cubicBezTo>
                  <a:pt x="8480" y="6709"/>
                  <a:pt x="8438" y="6785"/>
                  <a:pt x="8458" y="6821"/>
                </a:cubicBezTo>
                <a:cubicBezTo>
                  <a:pt x="8482" y="6864"/>
                  <a:pt x="8496" y="6861"/>
                  <a:pt x="8508" y="6896"/>
                </a:cubicBezTo>
              </a:path>
              <a:path w="3002" h="1812">
                <a:moveTo>
                  <a:pt x="8756" y="5705"/>
                </a:moveTo>
                <a:cubicBezTo>
                  <a:pt x="8748" y="5697"/>
                  <a:pt x="8739" y="5688"/>
                  <a:pt x="8731" y="5680"/>
                </a:cubicBezTo>
                <a:cubicBezTo>
                  <a:pt x="8790" y="5680"/>
                  <a:pt x="8825" y="5699"/>
                  <a:pt x="8880" y="5705"/>
                </a:cubicBezTo>
                <a:cubicBezTo>
                  <a:pt x="8904" y="5707"/>
                  <a:pt x="8930" y="5705"/>
                  <a:pt x="8954" y="5705"/>
                </a:cubicBezTo>
              </a:path>
              <a:path w="3002" h="1812">
                <a:moveTo>
                  <a:pt x="9203" y="5531"/>
                </a:moveTo>
                <a:cubicBezTo>
                  <a:pt x="9138" y="5506"/>
                  <a:pt x="9110" y="5529"/>
                  <a:pt x="9054" y="5581"/>
                </a:cubicBezTo>
                <a:cubicBezTo>
                  <a:pt x="9029" y="5606"/>
                  <a:pt x="9021" y="5614"/>
                  <a:pt x="9004" y="5631"/>
                </a:cubicBezTo>
                <a:cubicBezTo>
                  <a:pt x="9085" y="5667"/>
                  <a:pt x="9219" y="5683"/>
                  <a:pt x="9203" y="5804"/>
                </a:cubicBezTo>
                <a:cubicBezTo>
                  <a:pt x="9165" y="5842"/>
                  <a:pt x="9142" y="5860"/>
                  <a:pt x="9103" y="5879"/>
                </a:cubicBezTo>
                <a:cubicBezTo>
                  <a:pt x="9036" y="5820"/>
                  <a:pt x="8995" y="5750"/>
                  <a:pt x="9054" y="5655"/>
                </a:cubicBezTo>
                <a:cubicBezTo>
                  <a:pt x="9088" y="5600"/>
                  <a:pt x="9177" y="5565"/>
                  <a:pt x="9203" y="5507"/>
                </a:cubicBezTo>
                <a:cubicBezTo>
                  <a:pt x="9203" y="5482"/>
                  <a:pt x="9203" y="5474"/>
                  <a:pt x="9178" y="5482"/>
                </a:cubicBezTo>
              </a:path>
              <a:path w="3002" h="1812">
                <a:moveTo>
                  <a:pt x="9079" y="6598"/>
                </a:moveTo>
                <a:cubicBezTo>
                  <a:pt x="9120" y="6598"/>
                  <a:pt x="9162" y="6598"/>
                  <a:pt x="9203" y="6598"/>
                </a:cubicBezTo>
              </a:path>
              <a:path w="3002" h="1812">
                <a:moveTo>
                  <a:pt x="9426" y="6424"/>
                </a:moveTo>
                <a:cubicBezTo>
                  <a:pt x="9350" y="6439"/>
                  <a:pt x="9320" y="6463"/>
                  <a:pt x="9277" y="6524"/>
                </a:cubicBezTo>
                <a:cubicBezTo>
                  <a:pt x="9302" y="6560"/>
                  <a:pt x="9446" y="6565"/>
                  <a:pt x="9475" y="6623"/>
                </a:cubicBezTo>
                <a:cubicBezTo>
                  <a:pt x="9542" y="6758"/>
                  <a:pt x="9354" y="6731"/>
                  <a:pt x="9302" y="6722"/>
                </a:cubicBezTo>
                <a:cubicBezTo>
                  <a:pt x="9320" y="6632"/>
                  <a:pt x="9371" y="6556"/>
                  <a:pt x="9401" y="6474"/>
                </a:cubicBezTo>
                <a:cubicBezTo>
                  <a:pt x="9401" y="6466"/>
                  <a:pt x="9401" y="6457"/>
                  <a:pt x="9401" y="6449"/>
                </a:cubicBezTo>
              </a:path>
              <a:path w="3002" h="1812">
                <a:moveTo>
                  <a:pt x="9674" y="6102"/>
                </a:moveTo>
                <a:cubicBezTo>
                  <a:pt x="9733" y="6102"/>
                  <a:pt x="9777" y="6093"/>
                  <a:pt x="9823" y="6127"/>
                </a:cubicBezTo>
              </a:path>
              <a:path w="3002" h="1812">
                <a:moveTo>
                  <a:pt x="9699" y="6300"/>
                </a:moveTo>
                <a:cubicBezTo>
                  <a:pt x="9763" y="6300"/>
                  <a:pt x="9763" y="6299"/>
                  <a:pt x="9823" y="6325"/>
                </a:cubicBezTo>
              </a:path>
              <a:path w="3002" h="1812">
                <a:moveTo>
                  <a:pt x="10368" y="5482"/>
                </a:moveTo>
                <a:cubicBezTo>
                  <a:pt x="10352" y="5616"/>
                  <a:pt x="10344" y="5743"/>
                  <a:pt x="10344" y="5879"/>
                </a:cubicBezTo>
                <a:cubicBezTo>
                  <a:pt x="10344" y="5920"/>
                  <a:pt x="10344" y="5928"/>
                  <a:pt x="10344" y="5953"/>
                </a:cubicBezTo>
              </a:path>
              <a:path w="3002" h="1812">
                <a:moveTo>
                  <a:pt x="10071" y="6152"/>
                </a:moveTo>
                <a:cubicBezTo>
                  <a:pt x="10105" y="6100"/>
                  <a:pt x="10297" y="6127"/>
                  <a:pt x="10368" y="6127"/>
                </a:cubicBezTo>
                <a:cubicBezTo>
                  <a:pt x="10443" y="6127"/>
                  <a:pt x="10517" y="6127"/>
                  <a:pt x="10592" y="6127"/>
                </a:cubicBezTo>
              </a:path>
              <a:path w="3002" h="1812">
                <a:moveTo>
                  <a:pt x="10244" y="6400"/>
                </a:moveTo>
                <a:cubicBezTo>
                  <a:pt x="10264" y="6380"/>
                  <a:pt x="10307" y="6323"/>
                  <a:pt x="10344" y="6350"/>
                </a:cubicBezTo>
                <a:cubicBezTo>
                  <a:pt x="10430" y="6412"/>
                  <a:pt x="10365" y="6504"/>
                  <a:pt x="10319" y="6573"/>
                </a:cubicBezTo>
                <a:cubicBezTo>
                  <a:pt x="10260" y="6662"/>
                  <a:pt x="10197" y="6702"/>
                  <a:pt x="10120" y="6772"/>
                </a:cubicBezTo>
                <a:cubicBezTo>
                  <a:pt x="10083" y="6806"/>
                  <a:pt x="10073" y="6835"/>
                  <a:pt x="10046" y="6871"/>
                </a:cubicBezTo>
                <a:cubicBezTo>
                  <a:pt x="10058" y="6813"/>
                  <a:pt x="10073" y="6799"/>
                  <a:pt x="10120" y="6772"/>
                </a:cubicBezTo>
                <a:cubicBezTo>
                  <a:pt x="10190" y="6732"/>
                  <a:pt x="10249" y="6741"/>
                  <a:pt x="10319" y="6772"/>
                </a:cubicBezTo>
                <a:cubicBezTo>
                  <a:pt x="10386" y="6801"/>
                  <a:pt x="10416" y="6796"/>
                  <a:pt x="10492" y="6796"/>
                </a:cubicBezTo>
              </a:path>
              <a:path w="3002" h="1812">
                <a:moveTo>
                  <a:pt x="9897" y="6995"/>
                </a:moveTo>
                <a:cubicBezTo>
                  <a:pt x="10033" y="6995"/>
                  <a:pt x="10162" y="6980"/>
                  <a:pt x="10294" y="6970"/>
                </a:cubicBezTo>
                <a:cubicBezTo>
                  <a:pt x="10409" y="6962"/>
                  <a:pt x="10526" y="6970"/>
                  <a:pt x="10641" y="6970"/>
                </a:cubicBezTo>
                <a:cubicBezTo>
                  <a:pt x="10648" y="6893"/>
                  <a:pt x="10665" y="6847"/>
                  <a:pt x="10691" y="6772"/>
                </a:cubicBezTo>
                <a:cubicBezTo>
                  <a:pt x="10720" y="6689"/>
                  <a:pt x="10776" y="6583"/>
                  <a:pt x="10790" y="6499"/>
                </a:cubicBezTo>
                <a:cubicBezTo>
                  <a:pt x="10803" y="6422"/>
                  <a:pt x="10835" y="6348"/>
                  <a:pt x="10840" y="6276"/>
                </a:cubicBezTo>
                <a:cubicBezTo>
                  <a:pt x="10846" y="6179"/>
                  <a:pt x="10858" y="6116"/>
                  <a:pt x="10889" y="6028"/>
                </a:cubicBezTo>
                <a:cubicBezTo>
                  <a:pt x="10924" y="5929"/>
                  <a:pt x="10914" y="5834"/>
                  <a:pt x="10914" y="5730"/>
                </a:cubicBezTo>
                <a:cubicBezTo>
                  <a:pt x="10914" y="5648"/>
                  <a:pt x="10935" y="5603"/>
                  <a:pt x="10939" y="5531"/>
                </a:cubicBezTo>
                <a:cubicBezTo>
                  <a:pt x="10942" y="5467"/>
                  <a:pt x="10900" y="5422"/>
                  <a:pt x="10889" y="5358"/>
                </a:cubicBezTo>
                <a:cubicBezTo>
                  <a:pt x="10887" y="5346"/>
                  <a:pt x="10874" y="5242"/>
                  <a:pt x="10864" y="5234"/>
                </a:cubicBezTo>
                <a:cubicBezTo>
                  <a:pt x="10827" y="5204"/>
                  <a:pt x="10694" y="5255"/>
                  <a:pt x="10666" y="5259"/>
                </a:cubicBezTo>
                <a:cubicBezTo>
                  <a:pt x="10567" y="5273"/>
                  <a:pt x="10464" y="5267"/>
                  <a:pt x="10368" y="5283"/>
                </a:cubicBezTo>
                <a:cubicBezTo>
                  <a:pt x="10306" y="5293"/>
                  <a:pt x="10256" y="5324"/>
                  <a:pt x="10195" y="5333"/>
                </a:cubicBezTo>
                <a:cubicBezTo>
                  <a:pt x="10143" y="5341"/>
                  <a:pt x="10096" y="5351"/>
                  <a:pt x="10046" y="5358"/>
                </a:cubicBezTo>
                <a:cubicBezTo>
                  <a:pt x="9968" y="5369"/>
                  <a:pt x="10011" y="5366"/>
                  <a:pt x="9971" y="5457"/>
                </a:cubicBezTo>
                <a:cubicBezTo>
                  <a:pt x="9939" y="5529"/>
                  <a:pt x="9907" y="5650"/>
                  <a:pt x="9897" y="5730"/>
                </a:cubicBezTo>
                <a:cubicBezTo>
                  <a:pt x="9885" y="5829"/>
                  <a:pt x="9889" y="5929"/>
                  <a:pt x="9872" y="6028"/>
                </a:cubicBezTo>
                <a:cubicBezTo>
                  <a:pt x="9860" y="6097"/>
                  <a:pt x="9826" y="6189"/>
                  <a:pt x="9798" y="6251"/>
                </a:cubicBezTo>
                <a:cubicBezTo>
                  <a:pt x="9777" y="6297"/>
                  <a:pt x="9753" y="6375"/>
                  <a:pt x="9748" y="6424"/>
                </a:cubicBezTo>
                <a:cubicBezTo>
                  <a:pt x="9740" y="6509"/>
                  <a:pt x="9734" y="6589"/>
                  <a:pt x="9723" y="6672"/>
                </a:cubicBezTo>
                <a:cubicBezTo>
                  <a:pt x="9716" y="6723"/>
                  <a:pt x="9714" y="6797"/>
                  <a:pt x="9699" y="6846"/>
                </a:cubicBezTo>
                <a:cubicBezTo>
                  <a:pt x="9686" y="6887"/>
                  <a:pt x="9687" y="6926"/>
                  <a:pt x="9674" y="6970"/>
                </a:cubicBezTo>
                <a:cubicBezTo>
                  <a:pt x="9651" y="6993"/>
                  <a:pt x="9643" y="6997"/>
                  <a:pt x="9649" y="7020"/>
                </a:cubicBezTo>
                <a:cubicBezTo>
                  <a:pt x="9733" y="7028"/>
                  <a:pt x="9811" y="7042"/>
                  <a:pt x="9897" y="7045"/>
                </a:cubicBezTo>
                <a:cubicBezTo>
                  <a:pt x="9947" y="7047"/>
                  <a:pt x="9996" y="7045"/>
                  <a:pt x="1004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84920" y="1963800"/>
            <a:ext cx="169920" cy="546120"/>
          </a:xfrm>
          <a:custGeom>
            <a:avLst/>
            <a:gdLst/>
            <a:ahLst/>
            <a:rect l="l" t="t" r="r" b="b"/>
            <a:pathLst>
              <a:path w="473" h="1514">
                <a:moveTo>
                  <a:pt x="16470" y="6697"/>
                </a:moveTo>
                <a:cubicBezTo>
                  <a:pt x="16470" y="6705"/>
                  <a:pt x="16470" y="6714"/>
                  <a:pt x="16470" y="6722"/>
                </a:cubicBezTo>
                <a:cubicBezTo>
                  <a:pt x="16495" y="6730"/>
                  <a:pt x="16551" y="6782"/>
                  <a:pt x="16570" y="6821"/>
                </a:cubicBezTo>
                <a:cubicBezTo>
                  <a:pt x="16570" y="6829"/>
                  <a:pt x="16570" y="6838"/>
                  <a:pt x="16570" y="6846"/>
                </a:cubicBezTo>
              </a:path>
              <a:path w="473" h="1514">
                <a:moveTo>
                  <a:pt x="16594" y="6722"/>
                </a:moveTo>
                <a:cubicBezTo>
                  <a:pt x="16577" y="6774"/>
                  <a:pt x="16526" y="6819"/>
                  <a:pt x="16520" y="6871"/>
                </a:cubicBezTo>
                <a:cubicBezTo>
                  <a:pt x="16520" y="6879"/>
                  <a:pt x="16520" y="6888"/>
                  <a:pt x="16520" y="6896"/>
                </a:cubicBezTo>
              </a:path>
              <a:path w="473" h="1514">
                <a:moveTo>
                  <a:pt x="16743" y="6697"/>
                </a:moveTo>
                <a:cubicBezTo>
                  <a:pt x="16694" y="6697"/>
                  <a:pt x="16797" y="6708"/>
                  <a:pt x="16793" y="6772"/>
                </a:cubicBezTo>
                <a:cubicBezTo>
                  <a:pt x="16790" y="6819"/>
                  <a:pt x="16747" y="6824"/>
                  <a:pt x="16718" y="6846"/>
                </a:cubicBezTo>
                <a:cubicBezTo>
                  <a:pt x="16764" y="6846"/>
                  <a:pt x="16831" y="6844"/>
                  <a:pt x="16818" y="6921"/>
                </a:cubicBezTo>
                <a:cubicBezTo>
                  <a:pt x="16810" y="6970"/>
                  <a:pt x="16742" y="6931"/>
                  <a:pt x="16718" y="6945"/>
                </a:cubicBezTo>
                <a:cubicBezTo>
                  <a:pt x="16710" y="6953"/>
                  <a:pt x="16702" y="6962"/>
                  <a:pt x="16694" y="6970"/>
                </a:cubicBezTo>
              </a:path>
              <a:path w="473" h="1514">
                <a:moveTo>
                  <a:pt x="16346" y="5457"/>
                </a:moveTo>
                <a:cubicBezTo>
                  <a:pt x="16364" y="5510"/>
                  <a:pt x="16408" y="5554"/>
                  <a:pt x="16421" y="5606"/>
                </a:cubicBezTo>
              </a:path>
              <a:path w="473" h="1514">
                <a:moveTo>
                  <a:pt x="16446" y="5457"/>
                </a:moveTo>
                <a:cubicBezTo>
                  <a:pt x="16411" y="5520"/>
                  <a:pt x="16353" y="5583"/>
                  <a:pt x="16346" y="5655"/>
                </a:cubicBezTo>
                <a:cubicBezTo>
                  <a:pt x="16346" y="5663"/>
                  <a:pt x="16346" y="5672"/>
                  <a:pt x="16346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91160" y="1973160"/>
            <a:ext cx="34920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18281" y="7119"/>
                </a:moveTo>
                <a:cubicBezTo>
                  <a:pt x="18264" y="7203"/>
                  <a:pt x="18212" y="7284"/>
                  <a:pt x="18182" y="7367"/>
                </a:cubicBezTo>
                <a:cubicBezTo>
                  <a:pt x="18174" y="7392"/>
                  <a:pt x="18165" y="7416"/>
                  <a:pt x="18157" y="7441"/>
                </a:cubicBezTo>
                <a:cubicBezTo>
                  <a:pt x="18268" y="7491"/>
                  <a:pt x="18385" y="7523"/>
                  <a:pt x="18504" y="7466"/>
                </a:cubicBezTo>
                <a:cubicBezTo>
                  <a:pt x="18552" y="7443"/>
                  <a:pt x="18579" y="7382"/>
                  <a:pt x="18579" y="7317"/>
                </a:cubicBezTo>
                <a:cubicBezTo>
                  <a:pt x="18488" y="7288"/>
                  <a:pt x="18394" y="7271"/>
                  <a:pt x="18355" y="7392"/>
                </a:cubicBezTo>
                <a:cubicBezTo>
                  <a:pt x="18322" y="7494"/>
                  <a:pt x="18368" y="7503"/>
                  <a:pt x="18430" y="7466"/>
                </a:cubicBezTo>
              </a:path>
              <a:path w="968" h="2010">
                <a:moveTo>
                  <a:pt x="18876" y="7144"/>
                </a:moveTo>
                <a:cubicBezTo>
                  <a:pt x="18795" y="7165"/>
                  <a:pt x="18765" y="7272"/>
                  <a:pt x="18728" y="7342"/>
                </a:cubicBezTo>
                <a:cubicBezTo>
                  <a:pt x="18782" y="7375"/>
                  <a:pt x="18890" y="7419"/>
                  <a:pt x="18951" y="7367"/>
                </a:cubicBezTo>
                <a:cubicBezTo>
                  <a:pt x="19029" y="7300"/>
                  <a:pt x="19030" y="7189"/>
                  <a:pt x="18951" y="7144"/>
                </a:cubicBezTo>
                <a:cubicBezTo>
                  <a:pt x="18888" y="7113"/>
                  <a:pt x="18857" y="7104"/>
                  <a:pt x="18802" y="7119"/>
                </a:cubicBezTo>
              </a:path>
              <a:path w="968" h="2010">
                <a:moveTo>
                  <a:pt x="18479" y="6722"/>
                </a:moveTo>
                <a:cubicBezTo>
                  <a:pt x="18486" y="6751"/>
                  <a:pt x="18496" y="6767"/>
                  <a:pt x="18504" y="6796"/>
                </a:cubicBezTo>
                <a:cubicBezTo>
                  <a:pt x="18563" y="6796"/>
                  <a:pt x="18604" y="6800"/>
                  <a:pt x="18653" y="6772"/>
                </a:cubicBezTo>
              </a:path>
              <a:path w="968" h="2010">
                <a:moveTo>
                  <a:pt x="18653" y="6697"/>
                </a:moveTo>
                <a:cubicBezTo>
                  <a:pt x="18619" y="6777"/>
                  <a:pt x="18648" y="6784"/>
                  <a:pt x="18653" y="6871"/>
                </a:cubicBezTo>
                <a:cubicBezTo>
                  <a:pt x="18657" y="6928"/>
                  <a:pt x="18636" y="6932"/>
                  <a:pt x="18678" y="6945"/>
                </a:cubicBezTo>
              </a:path>
              <a:path w="968" h="2010">
                <a:moveTo>
                  <a:pt x="18033" y="5482"/>
                </a:moveTo>
                <a:cubicBezTo>
                  <a:pt x="18094" y="5502"/>
                  <a:pt x="18136" y="5535"/>
                  <a:pt x="18182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24840" y="2394000"/>
            <a:ext cx="241200" cy="13320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20141" y="6672"/>
                </a:moveTo>
                <a:cubicBezTo>
                  <a:pt x="20125" y="6754"/>
                  <a:pt x="20079" y="6837"/>
                  <a:pt x="20067" y="6921"/>
                </a:cubicBezTo>
                <a:cubicBezTo>
                  <a:pt x="20067" y="6946"/>
                  <a:pt x="20067" y="6970"/>
                  <a:pt x="20067" y="6995"/>
                </a:cubicBezTo>
                <a:cubicBezTo>
                  <a:pt x="20196" y="7021"/>
                  <a:pt x="20315" y="6991"/>
                  <a:pt x="20365" y="6846"/>
                </a:cubicBezTo>
                <a:cubicBezTo>
                  <a:pt x="20365" y="6821"/>
                  <a:pt x="20365" y="6797"/>
                  <a:pt x="20365" y="6772"/>
                </a:cubicBezTo>
                <a:cubicBezTo>
                  <a:pt x="20246" y="6772"/>
                  <a:pt x="20184" y="6763"/>
                  <a:pt x="20141" y="6896"/>
                </a:cubicBezTo>
                <a:cubicBezTo>
                  <a:pt x="20141" y="6962"/>
                  <a:pt x="20133" y="6987"/>
                  <a:pt x="20191" y="6970"/>
                </a:cubicBezTo>
              </a:path>
              <a:path w="671" h="373">
                <a:moveTo>
                  <a:pt x="20538" y="6648"/>
                </a:moveTo>
                <a:cubicBezTo>
                  <a:pt x="20493" y="6732"/>
                  <a:pt x="20467" y="6804"/>
                  <a:pt x="20439" y="6896"/>
                </a:cubicBezTo>
                <a:cubicBezTo>
                  <a:pt x="20536" y="6939"/>
                  <a:pt x="20755" y="6994"/>
                  <a:pt x="20737" y="6796"/>
                </a:cubicBezTo>
                <a:cubicBezTo>
                  <a:pt x="20725" y="6659"/>
                  <a:pt x="20591" y="6648"/>
                  <a:pt x="2048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70880" y="2035080"/>
            <a:ext cx="411120" cy="519120"/>
          </a:xfrm>
          <a:custGeom>
            <a:avLst/>
            <a:gdLst/>
            <a:ahLst/>
            <a:rect l="l" t="t" r="r" b="b"/>
            <a:pathLst>
              <a:path w="1142" h="1440">
                <a:moveTo>
                  <a:pt x="21704" y="5655"/>
                </a:moveTo>
                <a:cubicBezTo>
                  <a:pt x="21651" y="5677"/>
                  <a:pt x="21351" y="5755"/>
                  <a:pt x="21481" y="5879"/>
                </a:cubicBezTo>
                <a:cubicBezTo>
                  <a:pt x="21561" y="5955"/>
                  <a:pt x="21653" y="5987"/>
                  <a:pt x="21729" y="6077"/>
                </a:cubicBezTo>
                <a:cubicBezTo>
                  <a:pt x="21630" y="6184"/>
                  <a:pt x="21644" y="6203"/>
                  <a:pt x="21481" y="6176"/>
                </a:cubicBezTo>
                <a:cubicBezTo>
                  <a:pt x="21481" y="5997"/>
                  <a:pt x="21530" y="5953"/>
                  <a:pt x="21605" y="5804"/>
                </a:cubicBezTo>
              </a:path>
              <a:path w="1142" h="1440">
                <a:moveTo>
                  <a:pt x="21307" y="6499"/>
                </a:moveTo>
                <a:cubicBezTo>
                  <a:pt x="21418" y="6499"/>
                  <a:pt x="21544" y="6449"/>
                  <a:pt x="21654" y="6424"/>
                </a:cubicBezTo>
                <a:cubicBezTo>
                  <a:pt x="21723" y="6408"/>
                  <a:pt x="21744" y="6400"/>
                  <a:pt x="21803" y="6400"/>
                </a:cubicBezTo>
              </a:path>
              <a:path w="1142" h="1440">
                <a:moveTo>
                  <a:pt x="21431" y="6672"/>
                </a:moveTo>
                <a:cubicBezTo>
                  <a:pt x="21431" y="6795"/>
                  <a:pt x="21400" y="6879"/>
                  <a:pt x="21382" y="6995"/>
                </a:cubicBezTo>
              </a:path>
              <a:path w="1142" h="1440">
                <a:moveTo>
                  <a:pt x="21679" y="6648"/>
                </a:moveTo>
                <a:cubicBezTo>
                  <a:pt x="21679" y="6725"/>
                  <a:pt x="21627" y="6800"/>
                  <a:pt x="21630" y="6871"/>
                </a:cubicBezTo>
                <a:cubicBezTo>
                  <a:pt x="21635" y="6986"/>
                  <a:pt x="21799" y="6999"/>
                  <a:pt x="21878" y="6945"/>
                </a:cubicBezTo>
                <a:cubicBezTo>
                  <a:pt x="21941" y="6860"/>
                  <a:pt x="21954" y="6840"/>
                  <a:pt x="22002" y="6796"/>
                </a:cubicBezTo>
                <a:cubicBezTo>
                  <a:pt x="21940" y="6725"/>
                  <a:pt x="21855" y="6691"/>
                  <a:pt x="21779" y="6796"/>
                </a:cubicBezTo>
                <a:cubicBezTo>
                  <a:pt x="21745" y="6842"/>
                  <a:pt x="21737" y="6907"/>
                  <a:pt x="21779" y="6921"/>
                </a:cubicBezTo>
              </a:path>
              <a:path w="1142" h="1440">
                <a:moveTo>
                  <a:pt x="21406" y="6672"/>
                </a:moveTo>
                <a:cubicBezTo>
                  <a:pt x="21441" y="6777"/>
                  <a:pt x="21387" y="6842"/>
                  <a:pt x="21406" y="6945"/>
                </a:cubicBezTo>
                <a:cubicBezTo>
                  <a:pt x="21427" y="7060"/>
                  <a:pt x="21607" y="7027"/>
                  <a:pt x="21679" y="6995"/>
                </a:cubicBezTo>
                <a:cubicBezTo>
                  <a:pt x="21737" y="6969"/>
                  <a:pt x="21742" y="6920"/>
                  <a:pt x="21754" y="6871"/>
                </a:cubicBezTo>
                <a:cubicBezTo>
                  <a:pt x="21662" y="6802"/>
                  <a:pt x="21616" y="6793"/>
                  <a:pt x="21530" y="6896"/>
                </a:cubicBezTo>
                <a:cubicBezTo>
                  <a:pt x="21469" y="6969"/>
                  <a:pt x="21530" y="6981"/>
                  <a:pt x="21580" y="6995"/>
                </a:cubicBezTo>
              </a:path>
              <a:path w="1142" h="1440">
                <a:moveTo>
                  <a:pt x="21927" y="6598"/>
                </a:moveTo>
                <a:cubicBezTo>
                  <a:pt x="21854" y="6598"/>
                  <a:pt x="21846" y="6584"/>
                  <a:pt x="21803" y="6672"/>
                </a:cubicBezTo>
                <a:cubicBezTo>
                  <a:pt x="21795" y="6697"/>
                  <a:pt x="21787" y="6722"/>
                  <a:pt x="21779" y="6747"/>
                </a:cubicBezTo>
                <a:cubicBezTo>
                  <a:pt x="21817" y="6800"/>
                  <a:pt x="21894" y="6882"/>
                  <a:pt x="21977" y="6846"/>
                </a:cubicBezTo>
                <a:cubicBezTo>
                  <a:pt x="22096" y="6795"/>
                  <a:pt x="22079" y="6666"/>
                  <a:pt x="22051" y="6573"/>
                </a:cubicBezTo>
                <a:cubicBezTo>
                  <a:pt x="21916" y="6541"/>
                  <a:pt x="21800" y="6523"/>
                  <a:pt x="21704" y="6648"/>
                </a:cubicBezTo>
                <a:cubicBezTo>
                  <a:pt x="21596" y="6788"/>
                  <a:pt x="21692" y="6930"/>
                  <a:pt x="21853" y="6921"/>
                </a:cubicBezTo>
                <a:cubicBezTo>
                  <a:pt x="22012" y="6912"/>
                  <a:pt x="22079" y="6777"/>
                  <a:pt x="22101" y="6648"/>
                </a:cubicBezTo>
                <a:cubicBezTo>
                  <a:pt x="21994" y="6577"/>
                  <a:pt x="21915" y="6579"/>
                  <a:pt x="21803" y="6648"/>
                </a:cubicBezTo>
                <a:cubicBezTo>
                  <a:pt x="21682" y="6722"/>
                  <a:pt x="21718" y="6774"/>
                  <a:pt x="21828" y="6796"/>
                </a:cubicBezTo>
              </a:path>
              <a:path w="1142" h="1440">
                <a:moveTo>
                  <a:pt x="21456" y="6672"/>
                </a:moveTo>
                <a:cubicBezTo>
                  <a:pt x="21456" y="6735"/>
                  <a:pt x="21437" y="6785"/>
                  <a:pt x="21431" y="6846"/>
                </a:cubicBezTo>
                <a:cubicBezTo>
                  <a:pt x="21423" y="6925"/>
                  <a:pt x="21446" y="7027"/>
                  <a:pt x="21530" y="7045"/>
                </a:cubicBezTo>
                <a:cubicBezTo>
                  <a:pt x="21589" y="7058"/>
                  <a:pt x="21678" y="7052"/>
                  <a:pt x="21729" y="7020"/>
                </a:cubicBezTo>
                <a:cubicBezTo>
                  <a:pt x="21770" y="6995"/>
                  <a:pt x="21792" y="6940"/>
                  <a:pt x="21803" y="6896"/>
                </a:cubicBezTo>
                <a:cubicBezTo>
                  <a:pt x="21803" y="6888"/>
                  <a:pt x="21803" y="6879"/>
                  <a:pt x="21803" y="6871"/>
                </a:cubicBezTo>
                <a:cubicBezTo>
                  <a:pt x="21737" y="6871"/>
                  <a:pt x="21612" y="6850"/>
                  <a:pt x="21555" y="6896"/>
                </a:cubicBezTo>
                <a:cubicBezTo>
                  <a:pt x="21504" y="6937"/>
                  <a:pt x="21506" y="7036"/>
                  <a:pt x="21506" y="7094"/>
                </a:cubicBezTo>
              </a:path>
              <a:path w="1142" h="1440">
                <a:moveTo>
                  <a:pt x="22200" y="6201"/>
                </a:moveTo>
                <a:cubicBezTo>
                  <a:pt x="22258" y="6201"/>
                  <a:pt x="22316" y="6201"/>
                  <a:pt x="22374" y="6201"/>
                </a:cubicBezTo>
              </a:path>
              <a:path w="1142" h="1440">
                <a:moveTo>
                  <a:pt x="22275" y="6375"/>
                </a:moveTo>
                <a:cubicBezTo>
                  <a:pt x="22333" y="6375"/>
                  <a:pt x="22390" y="6375"/>
                  <a:pt x="2244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18160" y="3241800"/>
            <a:ext cx="1908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8157" y="9004"/>
                </a:moveTo>
                <a:cubicBezTo>
                  <a:pt x="18151" y="9091"/>
                  <a:pt x="18175" y="9119"/>
                  <a:pt x="18107" y="9153"/>
                </a:cubicBezTo>
              </a:path>
              <a:path w="51" h="150">
                <a:moveTo>
                  <a:pt x="18107" y="9153"/>
                </a:moveTo>
                <a:lnTo>
                  <a:pt x="18107" y="91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2598840"/>
            <a:ext cx="249120" cy="1429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16173" y="7293"/>
                </a:moveTo>
                <a:cubicBezTo>
                  <a:pt x="16173" y="7171"/>
                  <a:pt x="16105" y="7445"/>
                  <a:pt x="16098" y="7491"/>
                </a:cubicBezTo>
                <a:cubicBezTo>
                  <a:pt x="16092" y="7526"/>
                  <a:pt x="16098" y="7577"/>
                  <a:pt x="16098" y="7615"/>
                </a:cubicBezTo>
                <a:cubicBezTo>
                  <a:pt x="16221" y="7608"/>
                  <a:pt x="16374" y="7612"/>
                  <a:pt x="16470" y="7516"/>
                </a:cubicBezTo>
                <a:cubicBezTo>
                  <a:pt x="16505" y="7481"/>
                  <a:pt x="16495" y="7435"/>
                  <a:pt x="16495" y="7392"/>
                </a:cubicBezTo>
                <a:cubicBezTo>
                  <a:pt x="16440" y="7378"/>
                  <a:pt x="16408" y="7344"/>
                  <a:pt x="16346" y="7392"/>
                </a:cubicBezTo>
                <a:cubicBezTo>
                  <a:pt x="16305" y="7424"/>
                  <a:pt x="16154" y="7651"/>
                  <a:pt x="16321" y="7590"/>
                </a:cubicBezTo>
                <a:cubicBezTo>
                  <a:pt x="16346" y="7574"/>
                  <a:pt x="16371" y="7557"/>
                  <a:pt x="16396" y="7541"/>
                </a:cubicBezTo>
              </a:path>
              <a:path w="696" h="398">
                <a:moveTo>
                  <a:pt x="16694" y="7243"/>
                </a:moveTo>
                <a:cubicBezTo>
                  <a:pt x="16583" y="7309"/>
                  <a:pt x="16559" y="7362"/>
                  <a:pt x="16570" y="7491"/>
                </a:cubicBezTo>
                <a:cubicBezTo>
                  <a:pt x="16673" y="7507"/>
                  <a:pt x="16788" y="7523"/>
                  <a:pt x="16793" y="7367"/>
                </a:cubicBezTo>
                <a:cubicBezTo>
                  <a:pt x="16797" y="7246"/>
                  <a:pt x="16735" y="7204"/>
                  <a:pt x="16644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86680" y="2795760"/>
            <a:ext cx="634680" cy="527040"/>
          </a:xfrm>
          <a:custGeom>
            <a:avLst/>
            <a:gdLst/>
            <a:ahLst/>
            <a:rect l="l" t="t" r="r" b="b"/>
            <a:pathLst>
              <a:path w="1763" h="1464">
                <a:moveTo>
                  <a:pt x="18008" y="8731"/>
                </a:moveTo>
                <a:cubicBezTo>
                  <a:pt x="17887" y="8764"/>
                  <a:pt x="17883" y="8751"/>
                  <a:pt x="17859" y="8880"/>
                </a:cubicBezTo>
                <a:cubicBezTo>
                  <a:pt x="17859" y="8888"/>
                  <a:pt x="17859" y="8897"/>
                  <a:pt x="17859" y="8905"/>
                </a:cubicBezTo>
                <a:cubicBezTo>
                  <a:pt x="17933" y="8905"/>
                  <a:pt x="17996" y="8899"/>
                  <a:pt x="18058" y="8930"/>
                </a:cubicBezTo>
                <a:cubicBezTo>
                  <a:pt x="18034" y="9014"/>
                  <a:pt x="17948" y="9028"/>
                  <a:pt x="17884" y="9054"/>
                </a:cubicBezTo>
                <a:cubicBezTo>
                  <a:pt x="17876" y="9054"/>
                  <a:pt x="17867" y="9054"/>
                  <a:pt x="17859" y="9054"/>
                </a:cubicBezTo>
              </a:path>
              <a:path w="1763" h="1464">
                <a:moveTo>
                  <a:pt x="18405" y="8682"/>
                </a:moveTo>
                <a:cubicBezTo>
                  <a:pt x="18405" y="8748"/>
                  <a:pt x="18364" y="8975"/>
                  <a:pt x="18430" y="9004"/>
                </a:cubicBezTo>
                <a:cubicBezTo>
                  <a:pt x="18558" y="9060"/>
                  <a:pt x="18607" y="9013"/>
                  <a:pt x="18678" y="8930"/>
                </a:cubicBezTo>
                <a:cubicBezTo>
                  <a:pt x="18701" y="8907"/>
                  <a:pt x="18709" y="8903"/>
                  <a:pt x="18703" y="8880"/>
                </a:cubicBezTo>
                <a:cubicBezTo>
                  <a:pt x="18645" y="8845"/>
                  <a:pt x="18600" y="8835"/>
                  <a:pt x="18554" y="8905"/>
                </a:cubicBezTo>
                <a:cubicBezTo>
                  <a:pt x="18517" y="8978"/>
                  <a:pt x="18500" y="8983"/>
                  <a:pt x="18504" y="9029"/>
                </a:cubicBezTo>
              </a:path>
              <a:path w="1763" h="1464">
                <a:moveTo>
                  <a:pt x="18852" y="8706"/>
                </a:moveTo>
                <a:cubicBezTo>
                  <a:pt x="18833" y="8731"/>
                  <a:pt x="18711" y="8894"/>
                  <a:pt x="18777" y="8930"/>
                </a:cubicBezTo>
                <a:cubicBezTo>
                  <a:pt x="18920" y="9008"/>
                  <a:pt x="19064" y="8872"/>
                  <a:pt x="19050" y="8731"/>
                </a:cubicBezTo>
                <a:cubicBezTo>
                  <a:pt x="19044" y="8675"/>
                  <a:pt x="18936" y="8682"/>
                  <a:pt x="18901" y="8682"/>
                </a:cubicBezTo>
              </a:path>
              <a:path w="1763" h="1464">
                <a:moveTo>
                  <a:pt x="18802" y="8210"/>
                </a:moveTo>
                <a:cubicBezTo>
                  <a:pt x="18794" y="8161"/>
                  <a:pt x="18820" y="8216"/>
                  <a:pt x="18728" y="8111"/>
                </a:cubicBezTo>
                <a:cubicBezTo>
                  <a:pt x="18613" y="7979"/>
                  <a:pt x="18478" y="7911"/>
                  <a:pt x="18306" y="7863"/>
                </a:cubicBezTo>
                <a:cubicBezTo>
                  <a:pt x="18226" y="7841"/>
                  <a:pt x="18134" y="7836"/>
                  <a:pt x="18058" y="7813"/>
                </a:cubicBezTo>
                <a:cubicBezTo>
                  <a:pt x="17931" y="7774"/>
                  <a:pt x="17918" y="7775"/>
                  <a:pt x="17785" y="7789"/>
                </a:cubicBezTo>
                <a:cubicBezTo>
                  <a:pt x="17700" y="7798"/>
                  <a:pt x="17546" y="7833"/>
                  <a:pt x="17487" y="7913"/>
                </a:cubicBezTo>
                <a:cubicBezTo>
                  <a:pt x="17434" y="7985"/>
                  <a:pt x="17462" y="8127"/>
                  <a:pt x="17462" y="8210"/>
                </a:cubicBezTo>
                <a:cubicBezTo>
                  <a:pt x="17462" y="8309"/>
                  <a:pt x="17494" y="8394"/>
                  <a:pt x="17537" y="8483"/>
                </a:cubicBezTo>
                <a:cubicBezTo>
                  <a:pt x="17597" y="8606"/>
                  <a:pt x="17693" y="8690"/>
                  <a:pt x="17810" y="8756"/>
                </a:cubicBezTo>
                <a:cubicBezTo>
                  <a:pt x="17931" y="8824"/>
                  <a:pt x="18039" y="8903"/>
                  <a:pt x="18157" y="8979"/>
                </a:cubicBezTo>
                <a:cubicBezTo>
                  <a:pt x="18238" y="9032"/>
                  <a:pt x="18369" y="9155"/>
                  <a:pt x="18455" y="9178"/>
                </a:cubicBezTo>
                <a:cubicBezTo>
                  <a:pt x="18572" y="9209"/>
                  <a:pt x="18730" y="9213"/>
                  <a:pt x="18852" y="9227"/>
                </a:cubicBezTo>
                <a:cubicBezTo>
                  <a:pt x="18926" y="9235"/>
                  <a:pt x="19005" y="9225"/>
                  <a:pt x="19075" y="9203"/>
                </a:cubicBezTo>
                <a:cubicBezTo>
                  <a:pt x="19174" y="9171"/>
                  <a:pt x="19206" y="9112"/>
                  <a:pt x="19224" y="9004"/>
                </a:cubicBezTo>
                <a:cubicBezTo>
                  <a:pt x="19242" y="8895"/>
                  <a:pt x="19213" y="8786"/>
                  <a:pt x="19199" y="8682"/>
                </a:cubicBezTo>
                <a:cubicBezTo>
                  <a:pt x="19187" y="8592"/>
                  <a:pt x="19122" y="8607"/>
                  <a:pt x="19050" y="8558"/>
                </a:cubicBezTo>
                <a:cubicBezTo>
                  <a:pt x="19004" y="8527"/>
                  <a:pt x="18933" y="8451"/>
                  <a:pt x="18901" y="8434"/>
                </a:cubicBezTo>
                <a:cubicBezTo>
                  <a:pt x="18843" y="8403"/>
                  <a:pt x="18823" y="8426"/>
                  <a:pt x="1880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32680" y="333072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17314" y="9252"/>
                </a:moveTo>
                <a:cubicBezTo>
                  <a:pt x="17314" y="9327"/>
                  <a:pt x="17314" y="9351"/>
                  <a:pt x="17314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96040" y="3143160"/>
            <a:ext cx="71280" cy="12564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17512" y="8880"/>
                </a:moveTo>
                <a:cubicBezTo>
                  <a:pt x="17489" y="8857"/>
                  <a:pt x="17481" y="8846"/>
                  <a:pt x="17487" y="8880"/>
                </a:cubicBezTo>
                <a:cubicBezTo>
                  <a:pt x="17520" y="8905"/>
                  <a:pt x="17594" y="8905"/>
                  <a:pt x="17661" y="8905"/>
                </a:cubicBezTo>
              </a:path>
              <a:path w="200" h="349">
                <a:moveTo>
                  <a:pt x="17686" y="8731"/>
                </a:moveTo>
                <a:cubicBezTo>
                  <a:pt x="17658" y="8851"/>
                  <a:pt x="17636" y="8956"/>
                  <a:pt x="17636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87800" y="1990800"/>
            <a:ext cx="144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8855" y="5531"/>
                </a:moveTo>
                <a:lnTo>
                  <a:pt x="8855" y="5531"/>
                </a:lnTo>
                <a:lnTo>
                  <a:pt x="8855" y="5531"/>
                </a:lnTo>
              </a:path>
              <a:path w="1" h="299">
                <a:moveTo>
                  <a:pt x="8855" y="5531"/>
                </a:moveTo>
                <a:lnTo>
                  <a:pt x="8855" y="5531"/>
                </a:lnTo>
              </a:path>
              <a:path w="1" h="299">
                <a:moveTo>
                  <a:pt x="8855" y="5829"/>
                </a:moveTo>
                <a:lnTo>
                  <a:pt x="8855" y="58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6280" y="1589040"/>
            <a:ext cx="241560" cy="465120"/>
          </a:xfrm>
          <a:custGeom>
            <a:avLst/>
            <a:gdLst/>
            <a:ahLst/>
            <a:rect l="l" t="t" r="r" b="b"/>
            <a:pathLst>
              <a:path w="671" h="1291">
                <a:moveTo>
                  <a:pt x="16520" y="5432"/>
                </a:moveTo>
                <a:cubicBezTo>
                  <a:pt x="16558" y="5419"/>
                  <a:pt x="16557" y="5398"/>
                  <a:pt x="16619" y="5383"/>
                </a:cubicBezTo>
                <a:cubicBezTo>
                  <a:pt x="16627" y="5383"/>
                  <a:pt x="16636" y="5383"/>
                  <a:pt x="16644" y="5383"/>
                </a:cubicBezTo>
                <a:cubicBezTo>
                  <a:pt x="16679" y="5464"/>
                  <a:pt x="16664" y="5442"/>
                  <a:pt x="16644" y="5482"/>
                </a:cubicBezTo>
                <a:cubicBezTo>
                  <a:pt x="16644" y="5507"/>
                  <a:pt x="16644" y="5515"/>
                  <a:pt x="16619" y="5507"/>
                </a:cubicBezTo>
                <a:cubicBezTo>
                  <a:pt x="16694" y="5519"/>
                  <a:pt x="16729" y="5526"/>
                  <a:pt x="16743" y="5606"/>
                </a:cubicBezTo>
                <a:cubicBezTo>
                  <a:pt x="16755" y="5674"/>
                  <a:pt x="16700" y="5691"/>
                  <a:pt x="16644" y="5705"/>
                </a:cubicBezTo>
                <a:cubicBezTo>
                  <a:pt x="16619" y="5705"/>
                  <a:pt x="16611" y="5705"/>
                  <a:pt x="16594" y="5705"/>
                </a:cubicBezTo>
              </a:path>
              <a:path w="671" h="1291">
                <a:moveTo>
                  <a:pt x="16446" y="4589"/>
                </a:moveTo>
                <a:cubicBezTo>
                  <a:pt x="16438" y="4524"/>
                  <a:pt x="16426" y="4433"/>
                  <a:pt x="16346" y="4415"/>
                </a:cubicBezTo>
                <a:cubicBezTo>
                  <a:pt x="16253" y="4394"/>
                  <a:pt x="16104" y="4398"/>
                  <a:pt x="16073" y="4514"/>
                </a:cubicBezTo>
                <a:cubicBezTo>
                  <a:pt x="16040" y="4638"/>
                  <a:pt x="16093" y="4735"/>
                  <a:pt x="16222" y="4713"/>
                </a:cubicBezTo>
                <a:cubicBezTo>
                  <a:pt x="16328" y="4694"/>
                  <a:pt x="16399" y="4615"/>
                  <a:pt x="16421" y="4514"/>
                </a:cubicBezTo>
                <a:cubicBezTo>
                  <a:pt x="16421" y="4473"/>
                  <a:pt x="16421" y="4465"/>
                  <a:pt x="16421" y="4440"/>
                </a:cubicBezTo>
                <a:cubicBezTo>
                  <a:pt x="16401" y="4601"/>
                  <a:pt x="16373" y="4773"/>
                  <a:pt x="16396" y="4936"/>
                </a:cubicBezTo>
                <a:cubicBezTo>
                  <a:pt x="16416" y="4977"/>
                  <a:pt x="16425" y="4983"/>
                  <a:pt x="16421" y="5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38960" y="1625760"/>
            <a:ext cx="115920" cy="214200"/>
          </a:xfrm>
          <a:custGeom>
            <a:avLst/>
            <a:gdLst/>
            <a:ahLst/>
            <a:rect l="l" t="t" r="r" b="b"/>
            <a:pathLst>
              <a:path w="324" h="597">
                <a:moveTo>
                  <a:pt x="18107" y="4514"/>
                </a:moveTo>
                <a:cubicBezTo>
                  <a:pt x="18005" y="4514"/>
                  <a:pt x="17961" y="4568"/>
                  <a:pt x="17909" y="4663"/>
                </a:cubicBezTo>
                <a:cubicBezTo>
                  <a:pt x="17828" y="4809"/>
                  <a:pt x="18111" y="4903"/>
                  <a:pt x="18207" y="4961"/>
                </a:cubicBezTo>
                <a:cubicBezTo>
                  <a:pt x="18168" y="5098"/>
                  <a:pt x="18185" y="5086"/>
                  <a:pt x="18033" y="5110"/>
                </a:cubicBezTo>
                <a:cubicBezTo>
                  <a:pt x="18038" y="5008"/>
                  <a:pt x="18179" y="4619"/>
                  <a:pt x="18132" y="4564"/>
                </a:cubicBezTo>
                <a:cubicBezTo>
                  <a:pt x="18107" y="4572"/>
                  <a:pt x="18083" y="4581"/>
                  <a:pt x="18058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91240" y="2178000"/>
            <a:ext cx="135000" cy="1000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20910" y="6052"/>
                </a:moveTo>
                <a:cubicBezTo>
                  <a:pt x="20953" y="6146"/>
                  <a:pt x="21014" y="6238"/>
                  <a:pt x="20985" y="6325"/>
                </a:cubicBezTo>
              </a:path>
              <a:path w="373" h="274">
                <a:moveTo>
                  <a:pt x="20811" y="6251"/>
                </a:moveTo>
                <a:cubicBezTo>
                  <a:pt x="20942" y="6225"/>
                  <a:pt x="21057" y="6196"/>
                  <a:pt x="21183" y="6152"/>
                </a:cubicBezTo>
              </a:path>
              <a:path w="373" h="274">
                <a:moveTo>
                  <a:pt x="21183" y="6152"/>
                </a:moveTo>
                <a:lnTo>
                  <a:pt x="21183" y="61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g. 77 problems 3-14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W pg. 79 problems 1-11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31T19:15:55Z</dcterms:modified>
  <cp:revision>36</cp:revision>
  <dc:subject/>
  <dc:title>Unit 1 – Variables and Equations </dc:title>
</cp:coreProperties>
</file>